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8.jpeg" ContentType="image/jpeg"/>
  <Override PartName="/ppt/media/LASER.WAV" ContentType="audio/x-wav"/>
  <Override PartName="/ppt/media/image37.jpeg" ContentType="image/jpeg"/>
  <Override PartName="/ppt/media/image51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78.png" ContentType="image/png"/>
  <Override PartName="/ppt/media/image46.jpeg" ContentType="image/jpeg"/>
  <Override PartName="/ppt/media/image3.wmf" ContentType="image/x-wmf"/>
  <Override PartName="/ppt/media/image45.png" ContentType="image/png"/>
  <Override PartName="/ppt/media/image44.jpeg" ContentType="image/jpeg"/>
  <Override PartName="/ppt/media/image43.jpeg" ContentType="image/jpeg"/>
  <Override PartName="/ppt/media/image93.png" ContentType="image/png"/>
  <Override PartName="/ppt/media/image38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0.jpeg" ContentType="image/jpeg"/>
  <Override PartName="/ppt/media/image27.jpeg" ContentType="image/jpeg"/>
  <Override PartName="/ppt/media/image5.wmf" ContentType="image/x-wmf"/>
  <Override PartName="/ppt/media/image86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0.jpeg" ContentType="image/jpeg"/>
  <Override PartName="/ppt/media/image6.wmf" ContentType="image/x-wmf"/>
  <Override PartName="/ppt/media/image83.wmf" ContentType="image/x-wmf"/>
  <Override PartName="/ppt/media/image63.jpeg" ContentType="image/jpeg"/>
  <Override PartName="/ppt/media/image60.png" ContentType="image/png"/>
  <Override PartName="/ppt/media/image90.jpeg" ContentType="image/jpeg"/>
  <Override PartName="/ppt/media/image61.png" ContentType="image/png"/>
  <Override PartName="/ppt/media/image94.jpeg" ContentType="image/jpeg"/>
  <Override PartName="/ppt/media/image20.jpeg" ContentType="image/jpeg"/>
  <Override PartName="/ppt/media/image25.jpeg" ContentType="image/jpeg"/>
  <Override PartName="/ppt/media/image69.png" ContentType="image/png"/>
  <Override PartName="/ppt/media/image26.jpeg" ContentType="image/jpeg"/>
  <Override PartName="/ppt/media/image72.wmf" ContentType="image/x-wmf"/>
  <Override PartName="/ppt/media/image64.jpeg" ContentType="image/jpeg"/>
  <Override PartName="/ppt/media/image91.jpeg" ContentType="image/jpeg"/>
  <Override PartName="/ppt/media/image66.wmf" ContentType="image/x-wmf"/>
  <Override PartName="/ppt/media/image71.wmf" ContentType="image/x-wmf"/>
  <Override PartName="/ppt/media/image1.png" ContentType="image/png"/>
  <Override PartName="/ppt/media/image76.png" ContentType="image/png"/>
  <Override PartName="/ppt/media/image7.wmf" ContentType="image/x-wmf"/>
  <Override PartName="/ppt/media/image67.png" ContentType="image/png"/>
  <Override PartName="/ppt/media/image70.wmf" ContentType="image/x-wmf"/>
  <Override PartName="/ppt/media/image89.wmf" ContentType="image/x-wmf"/>
  <Override PartName="/ppt/media/image75.jpeg" ContentType="image/jpeg"/>
  <Override PartName="/ppt/media/image24.jpeg" ContentType="image/jpeg"/>
  <Override PartName="/ppt/media/image87.png" ContentType="image/png"/>
  <Override PartName="/ppt/media/image85.wmf" ContentType="image/x-wmf"/>
  <Override PartName="/ppt/media/image74.png" ContentType="image/png"/>
  <Override PartName="/ppt/media/image16.jpeg" ContentType="image/jpeg"/>
  <Override PartName="/ppt/media/image73.wmf" ContentType="image/x-wmf"/>
  <Override PartName="/ppt/media/image23.jpeg" ContentType="image/jpeg"/>
  <Override PartName="/ppt/media/image8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62.png" ContentType="image/png"/>
  <Override PartName="/ppt/media/image96.jpeg" ContentType="image/jpeg"/>
  <Override PartName="/ppt/media/image92.jpeg" ContentType="image/jpeg"/>
  <Override PartName="/ppt/media/image77.png" ContentType="image/png"/>
  <Override PartName="/ppt/media/image22.jpeg" ContentType="image/jpeg"/>
  <Override PartName="/ppt/media/image81.jpeg" ContentType="image/jpeg"/>
  <Override PartName="/ppt/media/image80.jpeg" ContentType="image/jpeg"/>
  <Override PartName="/ppt/media/image21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13.jpeg" ContentType="image/jpeg"/>
  <Override PartName="/ppt/media/image59.png" ContentType="image/png"/>
  <Override PartName="/ppt/media/image4.wmf" ContentType="image/x-wmf"/>
  <Override PartName="/ppt/media/image50.jpeg" ContentType="image/jpeg"/>
  <Override PartName="/ppt/media/image95.jpeg" ContentType="image/jpeg"/>
  <Override PartName="/ppt/media/image52.png" ContentType="image/png"/>
  <Override PartName="/ppt/media/image29.jpeg" ContentType="image/jpeg"/>
  <Override PartName="/ppt/media/image12.jpeg" ContentType="image/jpeg"/>
  <Override PartName="/ppt/media/image19.jpeg" ContentType="image/jpeg"/>
  <Override PartName="/ppt/media/image42.jpeg" ContentType="image/jpeg"/>
  <Override PartName="/ppt/media/image68.png" ContentType="image/png"/>
  <Override PartName="/ppt/media/image65.gif" ContentType="image/gif"/>
  <Override PartName="/ppt/media/image4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8280" y="730080"/>
            <a:ext cx="4862520" cy="364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5C95-01FC-4448-885E-470ACD6326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17C-E002-4F14-9CC0-3F2C8CCCEB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Objetiv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nsure alignment and commitment to the balanced scorecard and remove any conceptual theoretical understanding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n understanding of what we will have to do if we are to succ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gree to following a balanced scorecard based approach to structure the 2 day planning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6C5-EF14-4F57-BF6A-6943802F90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480-2881-407F-8FDB-640936A4CB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124A-29EA-4CE2-B3BC-29A4C6747D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A50-C23E-4C21-9E5C-14F80A6290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C2C-B450-4B5D-B5B5-CFE7DCA8A8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91B-4E83-435E-9F2B-2BACECF47E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5F10-9245-4F8B-897D-18E89FF030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668-AE84-4404-A499-CDF4C27719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7EDC-6F5E-418F-B1A7-CDA4A87DC8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2C70-53E0-489C-A998-7314AE41CA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995-3499-4387-83D9-6744FAFBE2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2041-257D-4414-91FD-1D80C6F196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C366-C320-4922-B861-4B26799C64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0FAA-7488-4439-B277-752C82BC92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33B-7073-4289-B5AB-A66665DF1D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A8B-51D9-4169-B5C9-F2CA43E413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73A5-1D5D-4F0E-BA8C-A7176F9987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C57-35B9-4E38-8DA8-E057FE9804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4193-6919-439A-B8D3-3F1FF5A163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1AC2-07D2-453D-B026-52F3252F00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5CA-A745-43F8-9766-34AADC6B68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FAB-EAC3-4B96-8570-C1D44968E8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D163-4B2E-4E59-B2A9-DDE4147EA3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DD5E-6480-4225-A07E-1ABFC49F44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491-1628-4D7B-948B-ABE2CB1181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CE4A-0E25-4A11-96BF-F6DE886797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D72-94C4-46CD-9047-0F93867660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A7B8-D6CB-4F2E-9A4B-1F3157714D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A386-3BE0-4270-ACAA-1BD866038C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801-E599-4B60-90CF-83CDB57DC6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A8E-28DE-4ED0-8CF6-B5271B1E5C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BE7B-0BF7-43AF-9ADC-55642B8AA2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2C1-03A5-4446-8552-855DC7EB89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AB98-9B90-4B17-9203-C07A6B7E10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E6E-1EBD-49E2-B473-DAF2B5AC0A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4146-B32B-43C9-980B-78A40010B3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3D63-7FD9-4C2F-A551-81A4A0F380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8DD-0A6E-4395-9C94-DA7C5D581A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F1C-196F-4036-B770-C1F55263E3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51E7-EDBC-4F41-9D0D-CCB4564BDF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F695-BCDE-4DE5-AC6B-A783985BCC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9A7-C879-414F-B168-9F9EA68681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4FA2-A1FB-4510-A1FC-2ED1B32A87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F5BD-F12A-4B67-88E9-E8E94C38CC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D5A-FCA5-4D50-9230-DF6D34C47B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E3D-1269-43E8-9655-A5814AD277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DBF-9698-4B9A-8864-D40ADFB002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DE3-EA4E-4145-9D58-94F6538D92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CEB4-DC6B-4F40-AA37-315E4DA269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611-82AD-4636-8B81-3DDE3B821F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16CD-C5D0-4A0A-B7C5-33F0FA85AA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DC61-E6F7-4ACA-A615-6B94C3A2B8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377D-8FE7-42DB-B473-BA02E4D9A4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DB19-7538-4BEA-90E1-B92B81757C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D9D-7E49-4CD0-9955-3590C5C07D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3010-6F2D-4CD3-9FC5-81C1DDEFC7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36EC-B9B6-465E-A7F4-AAE233E623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9D1D-16BD-43AC-8D49-0436BAC8AC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3784-2D8F-4B35-9218-DD1677D7A1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E2F-95A2-4F19-A01A-618C3397BE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E10-9FFB-49A8-82C5-B0AB5EE977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62D9-1BB1-4E6E-AA46-65C4AC64A3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623-84A0-44BD-8713-7DC12151B5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A42-829D-4B9E-9023-396DAAC038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119A-5D21-4310-A1F1-6664E0686F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860A-0C08-46DD-8D09-141294D787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76EC-2F67-45E3-A747-F8D8840578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A00-78A8-41EF-97E2-1ECB412A39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56DE-74A0-4614-BFC5-326A1386F1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F24-F333-4288-99D7-33501E1BA1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440D-639F-4274-B717-D210A29BAC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A87B-5C88-45A6-84B5-DF32BB9619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84CA-C5D3-4D78-A5D2-BCFA763881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78DF-BBB3-420A-9DD1-E1C65716FB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00B-0102-4630-BF60-0BA4C57790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C58D-F8E8-4620-BF12-4BDCDA251A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3224-DEF4-452A-9D0C-EAA9AEABD8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85F-315F-41E6-889D-68E07B58AE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953-D990-4C7D-89FC-7BEE9F33D6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A061-DD58-4F0E-92B0-2787FD985C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FA87-F88E-4CDA-B2E9-8240BAD89E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8DA4-1093-4F0E-93AE-30A5AB96A1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258-2C53-47F1-ACB1-6843879092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70C5-48CD-4FBE-9D2B-AB49872299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1F45-F27A-4BD8-BB17-22F6F2E12F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179F-A20C-4C56-91E5-7B689E802A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DA52-9F4F-4066-A2D1-EDAD258A6C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4BB-ECE6-4FA3-A896-FB49601A44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EDF-2598-4459-A3AB-286DFE28A9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4292-FFF1-4502-B5A5-5AAE4B2BEE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8DE1-F675-4645-8578-39D7AB46F6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9D6-0738-47E6-B7E3-279E09F46A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145-77E1-47F2-A299-64C8BDA548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F6E-B3E0-43AA-8547-F506F57455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1F2B-3E82-4BC5-9D46-9EA1DE1849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5CF-B699-4D0F-9C3A-87711D13AE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3F2-6F89-43C7-91F5-7DDDAA875B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873-4E36-4C60-B5EE-27D28A2415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1B7F-6945-48DE-A36D-656E1426C5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B6B-0249-4521-B44B-DBCD549B7A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C1C-3A93-412B-B6E8-C6A98E42DE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6A9-8D42-4C7C-8EA0-20B6B5F767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EC0-A8AB-4890-8FC5-5D976C8043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D9B-D6A2-4F7F-ADF0-A46504C63B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50E6-FDEB-496F-90A5-6BBF57B7FC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618-198D-4053-B3DA-AC342F4C17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D00-2AA6-4AEB-B82E-05C9D780C6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86D-AD75-4067-9DD5-B290FE9B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DBD-B86B-4470-8037-7C8ACC3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F17-3F2D-4075-8565-CB6BD15F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D26-E0F7-4F22-83F2-9602FD5B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0E5B3-98CD-4783-B02C-15C7010CB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D614B-0009-492E-BC07-976CF31A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233C5-C541-4634-849F-8B6B21A2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29AD7-76B8-471C-B6AC-79E8F982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45400-84FB-4A6D-A217-10B25334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73E4F-6958-430F-A6CD-417877CF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72DC-37B0-419B-A8B2-223E27F0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28A-4545-465A-B1D3-118D62A9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ACC8F-5A6D-4E6B-B026-005C7D5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2A6B7-4F38-49D9-B0BA-3A85F72B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FD64-C45C-4549-A78D-AEE8BB3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E51BC-F3FA-4E5B-9C46-62B1B2A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2E53F-D7B4-4239-AF6B-27991BF93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9FA-F319-415D-90D3-88FB810D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F4A-C87E-43F7-A58D-B21EBE92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CAE-48D5-4912-8FE8-DB1569D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74B-DF19-4944-9D6E-C8C4F15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007-F695-4278-BC2C-CC1DEBC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3D9-BD01-4C89-B70D-438E13E0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D1C-EE67-4694-859B-8EA4B90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066-ACB3-4B86-8546-C8BC769EEDB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. Luciel Henrique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700-AA27-4101-80B6-E9C77E4571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8FE-43ED-4409-8408-84094A131D9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FDE-ECA7-4019-AC87-0F2AC06F19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9.wmf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93.png"/><Relationship Id="rId3" Type="http://schemas.openxmlformats.org/officeDocument/2006/relationships/image" Target="../media/image9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iew.busca.uol.com.br/imgres2.jhtm?q=PROFESSOR&amp;imgurl=http://www.bagatawaylacrosse.com/sitebuildercontent/sitebuilderpictures/professor.jpg&amp;imgthumb=http://images-partners.google.com/images?q=tbn:5G1hpBfTTLTfrM:http://www.bagatawaylacrosse.com/sitebuildercontent/sitebuilderpictures/professor.jpg&amp;imgrefurl=http://www.bagatawaylacrosse.com/&amp;d=328x411&amp;sz=67.9kB&amp;title=%3Cb%3Eprofessor%3C/b%3E.jpg&amp;ref=http%3A%2F%2Fbusca.uol.com.br%2Fimagem%2Findex.html%3Fref%3Dhomeuol%26ad%3Don%26q%3DPROFESSOR%26start%3D12&amp;ubs=im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bp1.blogger.com/_y1ON4EaBDaA/Rnk-u6effvI/AAAAAAAAAC0/1GxmbM30Ge0/s1600-h/logistica7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p2.blogger.com/_y1ON4EaBDaA/Rnk-pKeffuI/AAAAAAAAACs/B6utgNgyOq4/s1600-h/logistica6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bp3.blogger.com/_y1ON4EaBDaA/Rnk-jaefftI/AAAAAAAAACk/xee8YHV8U-k/s1600-h/logistica2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bp2.blogger.com/_y1ON4EaBDaA/Rnk-eKeffsI/AAAAAAAAACc/OV6MJ2OJsRQ/s1600-h/logistica4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p0.blogger.com/_LSyeIrj-re4/RiQGEKNqB6I/AAAAAAAAAMs/fALq27tGU24/s1600-h/massa_bahrain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images.google.com.br/imgres?imgurl=http://news.bbc.co.uk/media/images/40282000/jpg/_40282941_afpwatermelons220.jpg&amp;imgrefurl=http://mateusmartins0.wordpress.com/2007/06/&amp;usg=__h_x0sOe2XN4ZgO1PR7hb956EV9c=&amp;h=300&amp;w=220&amp;sz=22&amp;hl=pt-BR&amp;start=7&amp;um=1&amp;tbnid=EtsAyTduZH9AAM:&amp;tbnh=116&amp;tbnw=85&amp;prev=/images%3Fq%3Dmelancia%2Bquadrada%2Bjap%25C3%25A3o%26um%3D1%26hl%3Dpt-BR%26sa%3DN" TargetMode="Externa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businessvalley.net/root/img/logistica-G.gif" TargetMode="External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wiki/Ficheiro:Landings_on_the_beach_of_Ibeya.jpg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wiki/Ficheiro:FedEx_DC10.jpg" TargetMode="External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view.busca.uol.com.br/imgres2.jhtm?q=PROFESSOR&amp;imgurl=http://www.bagatawaylacrosse.com/sitebuildercontent/sitebuilderpictures/professor.jpg&amp;imgthumb=http://images-partners.google.com/images?q=tbn:5G1hpBfTTLTfrM:http://www.bagatawaylacrosse.com/sitebuildercontent/sitebuilderpictures/professor.jpg&amp;imgrefurl=http://www.bagatawaylacrosse.com/&amp;d=328x411&amp;sz=67.9kB&amp;title=%3Cb%3Eprofessor%3C/b%3E.jpg&amp;ref=http%3A%2F%2Fbusca.uol.com.br%2Fimagem%2Findex.html%3Fref%3Dhomeuol%26ad%3Don%26q%3DPROFESSOR%26start%3D12&amp;ubs=im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1876320" y="1197000"/>
            <a:ext cx="5504040" cy="1511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524240"/>
          </a:xfrm>
          <a:prstGeom prst="rect">
            <a:avLst/>
          </a:prstGeom>
          <a:solidFill>
            <a:srgbClr val="c00000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ística e Supply Chain Management</a:t>
            </a:r>
            <a:endParaRPr b="0" lang="en-US" sz="3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 rot="19435800">
            <a:off x="44280" y="787320"/>
            <a:ext cx="3048120" cy="1143000"/>
          </a:xfrm>
          <a:custGeom>
            <a:avLst/>
            <a:gdLst>
              <a:gd name="textAreaLeft" fmla="*/ 380880 w 3048120"/>
              <a:gd name="textAreaRight" fmla="*/ 2667240 w 304812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enhar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 flipH="1" rot="2164200">
            <a:off x="6272280" y="787320"/>
            <a:ext cx="3047760" cy="1143000"/>
          </a:xfrm>
          <a:custGeom>
            <a:avLst/>
            <a:gdLst>
              <a:gd name="textAreaLeft" fmla="*/ 380880 w 3047760"/>
              <a:gd name="textAreaRight" fmla="*/ 2666880 w 304776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Inte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81240" y="4572000"/>
            <a:ext cx="480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Comic Sans MS"/>
              </a:rPr>
              <a:t>Prof. Luciel Henrique de Oliv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luciel@fae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7696080" y="480060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2A0-5447-40D2-82B2-0072866043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5" name="Picture 6" descr="noticia_13148"/>
          <p:cNvPicPr/>
          <p:nvPr/>
        </p:nvPicPr>
        <p:blipFill>
          <a:blip r:embed="rId1"/>
          <a:stretch/>
        </p:blipFill>
        <p:spPr>
          <a:xfrm>
            <a:off x="1403280" y="1139760"/>
            <a:ext cx="6193080" cy="4956120"/>
          </a:xfrm>
          <a:prstGeom prst="rect">
            <a:avLst/>
          </a:prstGeom>
          <a:ln w="0">
            <a:noFill/>
          </a:ln>
        </p:spPr>
      </p:pic>
      <p:sp>
        <p:nvSpPr>
          <p:cNvPr id="15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5F7C-02BF-43C2-8E1D-F0482CEA6F0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906-2BDF-45AA-BDD9-F1177F858B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2"/>
          <p:cNvSpPr/>
          <p:nvPr/>
        </p:nvSpPr>
        <p:spPr>
          <a:xfrm>
            <a:off x="3276720" y="4395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Picture 3" descr=""/>
          <p:cNvPicPr/>
          <p:nvPr/>
        </p:nvPicPr>
        <p:blipFill>
          <a:blip r:embed="rId1"/>
          <a:stretch/>
        </p:blipFill>
        <p:spPr>
          <a:xfrm>
            <a:off x="738360" y="230040"/>
            <a:ext cx="3528720" cy="103212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4"/>
          <p:cNvSpPr/>
          <p:nvPr/>
        </p:nvSpPr>
        <p:spPr>
          <a:xfrm>
            <a:off x="4884120" y="3808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a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16160" y="1444680"/>
            <a:ext cx="614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REÇÃO da integração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4" name="Object 6"/>
          <p:cNvGraphicFramePr/>
          <p:nvPr/>
        </p:nvGraphicFramePr>
        <p:xfrm>
          <a:off x="1787400" y="1266840"/>
          <a:ext cx="37152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1266840"/>
                    <a:ext cx="3715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6" name="Rectangle 7"/>
          <p:cNvSpPr/>
          <p:nvPr/>
        </p:nvSpPr>
        <p:spPr>
          <a:xfrm>
            <a:off x="2184480" y="1967040"/>
            <a:ext cx="665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MPLITUDE da integração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7" name="Object 8"/>
          <p:cNvGraphicFramePr/>
          <p:nvPr/>
        </p:nvGraphicFramePr>
        <p:xfrm>
          <a:off x="1752480" y="1800360"/>
          <a:ext cx="355680" cy="6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800360"/>
                    <a:ext cx="3556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9" name="Rectangle 9"/>
          <p:cNvSpPr/>
          <p:nvPr/>
        </p:nvSpPr>
        <p:spPr>
          <a:xfrm>
            <a:off x="2184480" y="2486160"/>
            <a:ext cx="596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QUILÍBRIO entre a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Object 10"/>
          <p:cNvGraphicFramePr/>
          <p:nvPr/>
        </p:nvGraphicFramePr>
        <p:xfrm>
          <a:off x="1752480" y="2333520"/>
          <a:ext cx="355680" cy="6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2333520"/>
                    <a:ext cx="3556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Rectangle 11"/>
          <p:cNvSpPr/>
          <p:nvPr/>
        </p:nvSpPr>
        <p:spPr>
          <a:xfrm>
            <a:off x="228600" y="3157560"/>
            <a:ext cx="883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Benefícios propiciados pela INTEG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12"/>
          <p:cNvSpPr/>
          <p:nvPr/>
        </p:nvSpPr>
        <p:spPr>
          <a:xfrm>
            <a:off x="1641600" y="382572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Object 13"/>
          <p:cNvGraphicFramePr/>
          <p:nvPr/>
        </p:nvGraphicFramePr>
        <p:xfrm>
          <a:off x="1066680" y="3633840"/>
          <a:ext cx="482760" cy="633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5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363384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6" name="Rectangle 14"/>
          <p:cNvSpPr/>
          <p:nvPr/>
        </p:nvSpPr>
        <p:spPr>
          <a:xfrm>
            <a:off x="1641600" y="435924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7" name="Object 15"/>
          <p:cNvGraphicFramePr/>
          <p:nvPr/>
        </p:nvGraphicFramePr>
        <p:xfrm>
          <a:off x="1066680" y="4167360"/>
          <a:ext cx="482760" cy="63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8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66680" y="416736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Rectangle 16"/>
          <p:cNvSpPr/>
          <p:nvPr/>
        </p:nvSpPr>
        <p:spPr>
          <a:xfrm>
            <a:off x="1641600" y="489276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0" name="Object 17"/>
          <p:cNvGraphicFramePr/>
          <p:nvPr/>
        </p:nvGraphicFramePr>
        <p:xfrm>
          <a:off x="1066680" y="4700520"/>
          <a:ext cx="482760" cy="63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51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66680" y="4700520"/>
                    <a:ext cx="482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Rectangle 18"/>
          <p:cNvSpPr/>
          <p:nvPr/>
        </p:nvSpPr>
        <p:spPr>
          <a:xfrm>
            <a:off x="1641600" y="542592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Object 19"/>
          <p:cNvGraphicFramePr/>
          <p:nvPr/>
        </p:nvGraphicFramePr>
        <p:xfrm>
          <a:off x="1066680" y="5234040"/>
          <a:ext cx="482760" cy="633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4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66680" y="523404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Rectangle 20"/>
          <p:cNvSpPr/>
          <p:nvPr/>
        </p:nvSpPr>
        <p:spPr>
          <a:xfrm>
            <a:off x="1641600" y="595944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6" name="Object 21"/>
          <p:cNvGraphicFramePr/>
          <p:nvPr/>
        </p:nvGraphicFramePr>
        <p:xfrm>
          <a:off x="1066680" y="5767560"/>
          <a:ext cx="482760" cy="633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7" name="Object 2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66680" y="576756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8" name="Text Box 22"/>
          <p:cNvSpPr/>
          <p:nvPr/>
        </p:nvSpPr>
        <p:spPr>
          <a:xfrm>
            <a:off x="5089320" y="4890960"/>
            <a:ext cx="281556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bjetivos de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lack 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Espaço Reservado para Data 2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EA29-A812-4EA4-9039-7DC6CCDC41D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11DB-1986-4456-AE91-FCF9F0F5A1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026"/>
          <p:cNvSpPr/>
          <p:nvPr/>
        </p:nvSpPr>
        <p:spPr>
          <a:xfrm>
            <a:off x="609480" y="588960"/>
            <a:ext cx="78487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serviço ao cliente pode ser medido em termos 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isponibilidade de materiais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esempenho operacional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confiabilidad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este sentido, a disponibilidade relaciona-se com a manutenção de estoques para o pronto atendimento das necessidades dos client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esempenho operacion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refere-se a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temp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incorrid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esde o pedid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 mercadoria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até a entreg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 mesma ao consumidor final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confiabil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mede a pontualidade das entregas, isto é, o efetiv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cumprimento dos prazos de entreg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reviamente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acord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om os cli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027"/>
          <p:cNvSpPr/>
          <p:nvPr/>
        </p:nvSpPr>
        <p:spPr>
          <a:xfrm>
            <a:off x="7313040" y="59436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Bowersox (199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FFEA-FBC4-4432-870E-3562B0BDC35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E85-151B-4526-8265-E5F5B99661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esafios Logísticos no Brasi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66" name="Picture 6" descr="mini_mapa"/>
          <p:cNvPicPr/>
          <p:nvPr/>
        </p:nvPicPr>
        <p:blipFill>
          <a:blip r:embed="rId1"/>
          <a:stretch/>
        </p:blipFill>
        <p:spPr>
          <a:xfrm>
            <a:off x="533520" y="178128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467" name="Text Box 7"/>
          <p:cNvSpPr/>
          <p:nvPr/>
        </p:nvSpPr>
        <p:spPr>
          <a:xfrm>
            <a:off x="5408640" y="2057400"/>
            <a:ext cx="3342960" cy="3751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sto Bras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endência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s Rodovi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uação precária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alta de padro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mensões contin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igualdades reg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adas precár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rrup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A852-36DE-48F4-B915-233D8D29796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C2F6-2C5B-4E76-A3DE-C7BB2BA1B1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Picture 4" descr="logistica"/>
          <p:cNvPicPr/>
          <p:nvPr/>
        </p:nvPicPr>
        <p:blipFill>
          <a:blip r:embed="rId1"/>
          <a:stretch/>
        </p:blipFill>
        <p:spPr>
          <a:xfrm>
            <a:off x="4648320" y="762120"/>
            <a:ext cx="4205160" cy="5105160"/>
          </a:xfrm>
          <a:prstGeom prst="rect">
            <a:avLst/>
          </a:prstGeom>
          <a:ln w="0">
            <a:noFill/>
          </a:ln>
        </p:spPr>
      </p:pic>
      <p:sp>
        <p:nvSpPr>
          <p:cNvPr id="1471" name="Text Box 6"/>
          <p:cNvSpPr/>
          <p:nvPr/>
        </p:nvSpPr>
        <p:spPr>
          <a:xfrm>
            <a:off x="209880" y="0"/>
            <a:ext cx="46126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Desafios Logís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n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Maior Integ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Reduzir a dependência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transporte rodoviá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Uso de modais alternativ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Desigualdades region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Reduzir o “custo Brasi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2" name="Picture 8" descr="e0085-32"/>
          <p:cNvPicPr/>
          <p:nvPr/>
        </p:nvPicPr>
        <p:blipFill>
          <a:blip r:embed="rId2"/>
          <a:stretch/>
        </p:blipFill>
        <p:spPr>
          <a:xfrm>
            <a:off x="304920" y="4343400"/>
            <a:ext cx="3124080" cy="1967040"/>
          </a:xfrm>
          <a:prstGeom prst="rect">
            <a:avLst/>
          </a:prstGeom>
          <a:ln w="0">
            <a:noFill/>
          </a:ln>
        </p:spPr>
      </p:pic>
      <p:sp>
        <p:nvSpPr>
          <p:cNvPr id="147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8FA7-0552-47BD-904A-33E8E65F731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A5A-37C5-4C15-87BF-6AA3FF7339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"/>
          <p:cNvSpPr/>
          <p:nvPr/>
        </p:nvSpPr>
        <p:spPr>
          <a:xfrm>
            <a:off x="762120" y="60948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rebuchet MS"/>
              </a:rPr>
              <a:t>Distribuição por tipo de 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rebuchet MS"/>
              </a:rPr>
              <a:t>- Comparação entre países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685800" y="2209680"/>
          <a:ext cx="8153280" cy="2830680"/>
        </p:xfrm>
        <a:graphic>
          <a:graphicData uri="http://schemas.openxmlformats.org/drawingml/2006/table">
            <a:tbl>
              <a:tblPr/>
              <a:tblGrid>
                <a:gridCol w="1752480"/>
                <a:gridCol w="1100160"/>
                <a:gridCol w="1325520"/>
                <a:gridCol w="1325880"/>
                <a:gridCol w="1290600"/>
                <a:gridCol w="1358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stribuição Mod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ú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d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dovi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rrovi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drovi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u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77" name="Text Box 61"/>
          <p:cNvSpPr/>
          <p:nvPr/>
        </p:nvSpPr>
        <p:spPr>
          <a:xfrm>
            <a:off x="6827400" y="537228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2008) CEL/UFR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534-3969-4531-83CE-7C5EB06C1A8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CB9E-1695-4E56-BD4D-B7C5CB583B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7" descr="300px-Automatisches_Kleinteilelager"/>
          <p:cNvPicPr/>
          <p:nvPr/>
        </p:nvPicPr>
        <p:blipFill>
          <a:blip r:embed="rId1"/>
          <a:stretch/>
        </p:blipFill>
        <p:spPr>
          <a:xfrm>
            <a:off x="0" y="0"/>
            <a:ext cx="4668840" cy="35020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9" descr="t-warehouse"/>
          <p:cNvPicPr/>
          <p:nvPr/>
        </p:nvPicPr>
        <p:blipFill>
          <a:blip r:embed="rId2"/>
          <a:stretch/>
        </p:blipFill>
        <p:spPr>
          <a:xfrm>
            <a:off x="2340000" y="3284640"/>
            <a:ext cx="5086440" cy="33764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1" descr="Ver imagem em tamanho grande"/>
          <p:cNvPicPr/>
          <p:nvPr/>
        </p:nvPicPr>
        <p:blipFill>
          <a:blip r:embed="rId3"/>
          <a:stretch/>
        </p:blipFill>
        <p:spPr>
          <a:xfrm>
            <a:off x="4788000" y="33336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148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B315-D8D0-4AC1-8A5F-CD8553C9EC0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D3B-6951-4D21-A6C1-E185A4A318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Warehouse Management Syste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das principais ferramentas da logística é o </a:t>
            </a: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WM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Warehouse Management Syste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sistema de automação e gerenciamento de depósitos, armazéns e linhas de produção) é uma parte importante da cadeia de suprimentos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upply chai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e fornece a rotação dirigida de estoques, diretivas inteligentes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icking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solidação automática 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ross-docking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maximizar o uso do valioso espaço do armazé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CFC-3CBE-4E73-A24F-630E81585CF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0B2B-1D0B-4758-8BA4-7CF86AF7E2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Important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Estes slides são apenas ilustrações para guiar a au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Não estudar apenas pelos sli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LER OS CAPÍTULOS DOS LIVROS INDICADOS E FAZER OS EXERCÍCIOS SOLICITADOS PELO PROFES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1" name="Picture 6" descr="Logo_UNIFAE_1"/>
          <p:cNvPicPr/>
          <p:nvPr/>
        </p:nvPicPr>
        <p:blipFill>
          <a:blip r:embed="rId1"/>
          <a:stretch/>
        </p:blipFill>
        <p:spPr>
          <a:xfrm>
            <a:off x="900000" y="981000"/>
            <a:ext cx="1798920" cy="501840"/>
          </a:xfrm>
          <a:prstGeom prst="rect">
            <a:avLst/>
          </a:prstGeom>
          <a:ln w="0">
            <a:noFill/>
          </a:ln>
        </p:spPr>
      </p:pic>
      <p:sp>
        <p:nvSpPr>
          <p:cNvPr id="149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F0B-B263-495B-A3D2-83F7A6C5CF7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7B1C-9D11-4AC1-8B35-CD5456E463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556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Links para conhecer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uia de Logística e Transporte - www.guialog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SLOG - www.aslog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bralog - www.ibralog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mérica Latina Logística - www.all-logistica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BML - www.abml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RS LOGÍSTICA S.A. - www.mrs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uia de Logística e Transporte  - www.guiade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nstituto de Logística e Suply Chain  - www.ilos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ortal NTC&amp;Logística - www.ntcelogistica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www.logisticainternacional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nstituto IMAM - www.imam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http://www.expo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http://www.revistamundo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www.tecno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AB5-BA7B-4F31-96D2-3A360B4B859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20E5-A482-4061-99AE-749CC26EB5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9" name="Picture 6" descr="transporte_logistica_gestao"/>
          <p:cNvPicPr/>
          <p:nvPr/>
        </p:nvPicPr>
        <p:blipFill>
          <a:blip r:embed="rId1"/>
          <a:stretch/>
        </p:blipFill>
        <p:spPr>
          <a:xfrm>
            <a:off x="1076400" y="1981080"/>
            <a:ext cx="302904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45"/>
          <p:cNvPicPr/>
          <p:nvPr/>
        </p:nvPicPr>
        <p:blipFill>
          <a:blip r:embed="rId2"/>
          <a:stretch/>
        </p:blipFill>
        <p:spPr>
          <a:xfrm>
            <a:off x="4213080" y="2328840"/>
            <a:ext cx="4462560" cy="2981520"/>
          </a:xfrm>
          <a:prstGeom prst="rect">
            <a:avLst/>
          </a:prstGeom>
          <a:ln w="0">
            <a:noFill/>
          </a:ln>
        </p:spPr>
      </p:pic>
      <p:sp>
        <p:nvSpPr>
          <p:cNvPr id="16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869-71CF-44DF-8552-C7DE4D23AA0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491-CE8F-455E-BE28-F53FFC6570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4" name="Picture 7" descr="Cassiopea"/>
          <p:cNvPicPr/>
          <p:nvPr/>
        </p:nvPicPr>
        <p:blipFill>
          <a:blip r:embed="rId1"/>
          <a:stretch/>
        </p:blipFill>
        <p:spPr>
          <a:xfrm>
            <a:off x="0" y="2976480"/>
            <a:ext cx="9144000" cy="390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11.jpg"/>
          <p:cNvPicPr/>
          <p:nvPr/>
        </p:nvPicPr>
        <p:blipFill>
          <a:blip r:embed="rId2"/>
          <a:stretch/>
        </p:blipFill>
        <p:spPr>
          <a:xfrm>
            <a:off x="5003640" y="549360"/>
            <a:ext cx="3810240" cy="207000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EE7-7C11-4A05-A75E-0DE0D4331B2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CE92-CD14-4FA3-BE6D-3B5CA585BC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9" name="Picture 3" descr="logistica-1.jpg"/>
          <p:cNvPicPr/>
          <p:nvPr/>
        </p:nvPicPr>
        <p:blipFill>
          <a:blip r:embed="rId1"/>
          <a:stretch/>
        </p:blipFill>
        <p:spPr>
          <a:xfrm>
            <a:off x="0" y="982800"/>
            <a:ext cx="9144000" cy="5875200"/>
          </a:xfrm>
          <a:prstGeom prst="rect">
            <a:avLst/>
          </a:prstGeom>
          <a:ln w="0">
            <a:noFill/>
          </a:ln>
        </p:spPr>
      </p:pic>
      <p:sp>
        <p:nvSpPr>
          <p:cNvPr id="170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C07-6301-43D8-BF8C-69683E8F144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3B47-CB6B-4FFD-9046-C04CCD0B9B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&lt;b&gt;professor&lt;/b&gt;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360" y="54784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0"/>
          <p:cNvSpPr/>
          <p:nvPr/>
        </p:nvSpPr>
        <p:spPr>
          <a:xfrm>
            <a:off x="900000" y="1916280"/>
            <a:ext cx="7775640" cy="3673440"/>
          </a:xfrm>
          <a:prstGeom prst="wedgeRectCallout">
            <a:avLst>
              <a:gd name="adj1" fmla="val -52245"/>
              <a:gd name="adj2" fmla="val 572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5" name="Picture 5" descr="Log�stica"/>
          <p:cNvPicPr/>
          <p:nvPr/>
        </p:nvPicPr>
        <p:blipFill>
          <a:blip r:embed="rId3"/>
          <a:stretch/>
        </p:blipFill>
        <p:spPr>
          <a:xfrm>
            <a:off x="5867280" y="120600"/>
            <a:ext cx="2584440" cy="1652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971640" y="2060640"/>
            <a:ext cx="750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Logística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é a parte do 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Gerenciamento da Cadeia de Abastecimento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que planeja, implementa e controla o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fluxo e armazenamento eficiente e econômico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de matérias-primas, materiais semi-acabados e produtos acabados, bem como as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informações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a eles relativas, desde o ponto de origem até o ponto de consumo, com o propósito de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atender às exigências dos clientes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140480" y="6093000"/>
            <a:ext cx="6974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SCMP - Council of Supply Chain Managemen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120-4398-438E-8AB9-9DA68D3B61A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17D2-584F-4184-8ED6-285C28B7AB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1" name="Picture 4" descr="10163"/>
          <p:cNvPicPr/>
          <p:nvPr/>
        </p:nvPicPr>
        <p:blipFill>
          <a:blip r:embed="rId1"/>
          <a:stretch/>
        </p:blipFill>
        <p:spPr>
          <a:xfrm>
            <a:off x="468360" y="1268280"/>
            <a:ext cx="3600360" cy="2783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logistica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213000"/>
            <a:ext cx="3600360" cy="2791080"/>
          </a:xfrm>
          <a:prstGeom prst="rect">
            <a:avLst/>
          </a:prstGeom>
          <a:ln w="0">
            <a:noFill/>
          </a:ln>
        </p:spPr>
      </p:pic>
      <p:sp>
        <p:nvSpPr>
          <p:cNvPr id="18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FDE-1664-4B2C-9B15-35C25F3D636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364-6C0D-4EA6-AC26-48B14A392F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6" name="Picture 8" descr="logistica1.jpg"/>
          <p:cNvPicPr/>
          <p:nvPr/>
        </p:nvPicPr>
        <p:blipFill>
          <a:blip r:embed="rId1"/>
          <a:stretch/>
        </p:blipFill>
        <p:spPr>
          <a:xfrm>
            <a:off x="1722600" y="1981080"/>
            <a:ext cx="5698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3AF-FE7F-4258-9147-8B8DCE0F4FC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A5D-52BF-481F-98F8-CB1E41827F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0" name="Picture 8" descr="logistic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836640"/>
            <a:ext cx="4392720" cy="339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logistic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0"/>
            <a:ext cx="3684600" cy="3340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2843280" y="5661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4" descr="logistica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3403440"/>
            <a:ext cx="4284720" cy="3454560"/>
          </a:xfrm>
          <a:prstGeom prst="rect">
            <a:avLst/>
          </a:prstGeom>
          <a:ln w="0">
            <a:noFill/>
          </a:ln>
        </p:spPr>
      </p:pic>
      <p:sp>
        <p:nvSpPr>
          <p:cNvPr id="194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F7BF-8CB6-4F14-88FC-4AB4E89F802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0473-C76B-4F18-9EF9-D9288BD658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7" name="Picture 3" descr="foto06"/>
          <p:cNvPicPr/>
          <p:nvPr/>
        </p:nvPicPr>
        <p:blipFill>
          <a:blip r:embed="rId1"/>
          <a:stretch/>
        </p:blipFill>
        <p:spPr>
          <a:xfrm>
            <a:off x="1619280" y="765000"/>
            <a:ext cx="6705720" cy="544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ED4-85CE-4FBA-851B-AC7D49C0E34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ço Reservado para Número de Slide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D04-DFE8-447B-8559-18864D0F94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1" name="Picture 6" descr="melancia-quadrada4"/>
          <p:cNvPicPr/>
          <p:nvPr/>
        </p:nvPicPr>
        <p:blipFill>
          <a:blip r:embed="rId1"/>
          <a:stretch/>
        </p:blipFill>
        <p:spPr>
          <a:xfrm>
            <a:off x="5003640" y="260280"/>
            <a:ext cx="331344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Picture 8" descr="melancia-quadrada6"/>
          <p:cNvPicPr/>
          <p:nvPr/>
        </p:nvPicPr>
        <p:blipFill>
          <a:blip r:embed="rId2"/>
          <a:stretch/>
        </p:blipFill>
        <p:spPr>
          <a:xfrm>
            <a:off x="6732720" y="249228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3276720" y="5950080"/>
            <a:ext cx="2519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1" descr="square watermelon - square watermelon"/>
          <p:cNvPicPr/>
          <p:nvPr/>
        </p:nvPicPr>
        <p:blipFill>
          <a:blip r:embed="rId3"/>
          <a:stretch/>
        </p:blipFill>
        <p:spPr>
          <a:xfrm>
            <a:off x="468360" y="1557360"/>
            <a:ext cx="3895560" cy="511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elancia%20quadrada3"/>
          <p:cNvPicPr/>
          <p:nvPr/>
        </p:nvPicPr>
        <p:blipFill>
          <a:blip r:embed="rId4"/>
          <a:stretch/>
        </p:blipFill>
        <p:spPr>
          <a:xfrm>
            <a:off x="4932360" y="4400640"/>
            <a:ext cx="3189240" cy="22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35C-53B1-4717-B29E-A8868C84E3A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3FD-735C-404A-8462-1613579103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obre o profess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genheiro Agrônomo (ESAL / UFLA, 198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stre em Administração (ESAL / UFLA,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outor em Administração (FGV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ós-doutorado em Gestão Estratégica da Inovação   (C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Ministério da Ciência e Tecnologia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fessor da UNIFA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ordenador do Mestrado em Desenvolvimento Sustentável e  Qualidade de Vida da UNIF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fessor e Pesquisador da EAESP/FGV (São Pau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squisador do CN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fessor colaborador da Unicamp e da Facamp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Pós-Gradu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cc"/>
                </a:solidFill>
                <a:latin typeface="Times New Roman"/>
              </a:rPr>
              <a:t>luciel@fae.b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53B-1518-470D-9A54-A5193900068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7C1-5590-45BD-9C92-E08F34BF70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Logistica_Abre"/>
          <p:cNvPicPr/>
          <p:nvPr/>
        </p:nvPicPr>
        <p:blipFill>
          <a:blip r:embed="rId1"/>
          <a:stretch/>
        </p:blipFill>
        <p:spPr>
          <a:xfrm>
            <a:off x="1619280" y="1989000"/>
            <a:ext cx="6032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9"/>
          <p:cNvSpPr/>
          <p:nvPr/>
        </p:nvSpPr>
        <p:spPr>
          <a:xfrm>
            <a:off x="1686600" y="5734080"/>
            <a:ext cx="60253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minhões dispersos no deserto, formando o perímetro da á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cupada pela 364th Support Company, 3 de março de 199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to: Dean Wagner/D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B5A4-A3B7-4A82-8788-1039D66F9B8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EAD-9706-4FE6-8612-99A069CEFC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916360" y="5661000"/>
            <a:ext cx="3384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Logística constitui um sistema operacional com o propósito de prever e prover recursos de toda ordem que permitam a realização de campanhas milita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Times New Roman"/>
              </a:rPr>
              <a:t>Tal esforço ficou bastante evidenciado em um dos mais recentes conflitos da Era Contemporânea: a Guerra do Golfo (1990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DESERT%20STORM%201"/>
          <p:cNvPicPr/>
          <p:nvPr/>
        </p:nvPicPr>
        <p:blipFill>
          <a:blip r:embed="rId1"/>
          <a:stretch/>
        </p:blipFill>
        <p:spPr>
          <a:xfrm>
            <a:off x="5003640" y="-185760"/>
            <a:ext cx="3529080" cy="2355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ESERT%20STORM%202"/>
          <p:cNvPicPr/>
          <p:nvPr/>
        </p:nvPicPr>
        <p:blipFill>
          <a:blip r:embed="rId2"/>
          <a:stretch/>
        </p:blipFill>
        <p:spPr>
          <a:xfrm>
            <a:off x="468360" y="3860640"/>
            <a:ext cx="4248000" cy="27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7" descr="DESERT%20STORM%203"/>
          <p:cNvPicPr/>
          <p:nvPr/>
        </p:nvPicPr>
        <p:blipFill>
          <a:blip r:embed="rId3"/>
          <a:stretch/>
        </p:blipFill>
        <p:spPr>
          <a:xfrm>
            <a:off x="5003640" y="2060640"/>
            <a:ext cx="3600720" cy="2371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DESERT%20STORM%207"/>
          <p:cNvPicPr/>
          <p:nvPr/>
        </p:nvPicPr>
        <p:blipFill>
          <a:blip r:embed="rId4"/>
          <a:stretch/>
        </p:blipFill>
        <p:spPr>
          <a:xfrm>
            <a:off x="5003640" y="4373640"/>
            <a:ext cx="3672000" cy="2440080"/>
          </a:xfrm>
          <a:prstGeom prst="rect">
            <a:avLst/>
          </a:prstGeom>
          <a:ln w="0">
            <a:noFill/>
          </a:ln>
        </p:spPr>
      </p:pic>
      <p:sp>
        <p:nvSpPr>
          <p:cNvPr id="219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CD3-C175-4882-A91B-145F5F0A76E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B54-1A31-444E-8F88-6D5A1A6830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2" name="Picture 11" descr="1326880"/>
          <p:cNvPicPr/>
          <p:nvPr/>
        </p:nvPicPr>
        <p:blipFill>
          <a:blip r:embed="rId1"/>
          <a:stretch/>
        </p:blipFill>
        <p:spPr>
          <a:xfrm>
            <a:off x="4859280" y="333360"/>
            <a:ext cx="4140360" cy="2752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34920" y="5071680"/>
            <a:ext cx="8893080" cy="180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Há 20 anos, a DHL é responsável pelo processo logístico das corridas, coordenando durante toda a temporada o transporte por ar, terra e mar dos motores, pneus, combustível, peças reservas e de reposição, os equipamentos de precisão e, até mesmo, a infra-estrutura da área vip das corridas, o chamado “Paddock Club” VIP – num total de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300 toneladas cúbicas de itens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4" descr="f1fcmilan"/>
          <p:cNvPicPr/>
          <p:nvPr/>
        </p:nvPicPr>
        <p:blipFill>
          <a:blip r:embed="rId2"/>
          <a:stretch/>
        </p:blipFill>
        <p:spPr>
          <a:xfrm>
            <a:off x="468360" y="1628640"/>
            <a:ext cx="3809880" cy="30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Text Box 19"/>
          <p:cNvSpPr/>
          <p:nvPr/>
        </p:nvSpPr>
        <p:spPr>
          <a:xfrm>
            <a:off x="491184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1" descr="180px-DHL-Fahrzeug"/>
          <p:cNvPicPr/>
          <p:nvPr/>
        </p:nvPicPr>
        <p:blipFill>
          <a:blip r:embed="rId3"/>
          <a:stretch/>
        </p:blipFill>
        <p:spPr>
          <a:xfrm>
            <a:off x="5580000" y="292428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227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02C-3147-488E-ADFE-5F4F8845DF3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A9FE-6D35-4FFD-A42F-04DE9C145B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Logística na F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0" name="Picture 4" descr="f1fcolimpiakos"/>
          <p:cNvPicPr/>
          <p:nvPr/>
        </p:nvPicPr>
        <p:blipFill>
          <a:blip r:embed="rId1"/>
          <a:stretch/>
        </p:blipFill>
        <p:spPr>
          <a:xfrm>
            <a:off x="5281560" y="411120"/>
            <a:ext cx="3538440" cy="2441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179280" y="2920320"/>
            <a:ext cx="8893440" cy="37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ualmente, ao término do mês de janeiro, uma equipe de 20 profissionais especializados, locada em escritórios DHL na Itália e Inglaterra, elabora e executa o plano de transporte de todos os equipamentos, que inclui catalogação, embalagem, transporte e entrega dos itens em cada local de corr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isso, a DHL faz uso de aviões, navios, caminhões e até containeres refrigerados, quando necessário. </a:t>
            </a: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Organização, precisão e agilidade, características que diferenciam a DHL no mercado, são colocadas a serviço da Fórmula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715-A1E9-4D58-8914-BF1DD2688AF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D3B-E2C4-4EE8-8801-0D9E1F4C6D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08000" y="224280"/>
            <a:ext cx="4176720" cy="592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Ser responsável pela logística da temporada significa também garantir a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segurança do transporte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e manter o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sigilo no acesso aos equipamentos e tecnologias secretas,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adotadas por cada equi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A DHL também se dispõe a conhecer e observar as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peculiaridades legais e regionais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de cada país onde acontece um Grande Prêmio, de forma que a legislação e os processos de importação e exportação locais não interfiram na pontualidade, decisiva para a realização a contento de cada corr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7" descr="f1emocionante"/>
          <p:cNvPicPr/>
          <p:nvPr/>
        </p:nvPicPr>
        <p:blipFill>
          <a:blip r:embed="rId1"/>
          <a:stretch/>
        </p:blipFill>
        <p:spPr>
          <a:xfrm>
            <a:off x="4427640" y="1916280"/>
            <a:ext cx="4681440" cy="3317760"/>
          </a:xfrm>
          <a:prstGeom prst="rect">
            <a:avLst/>
          </a:prstGeom>
          <a:ln w="0">
            <a:noFill/>
          </a:ln>
        </p:spPr>
      </p:pic>
      <p:sp>
        <p:nvSpPr>
          <p:cNvPr id="23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743D-4559-42F4-A59D-074BC4D5A14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6801-D664-4C4A-8D15-697ACA6AC7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Logística na F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885040"/>
            <a:ext cx="8893440" cy="382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Cada escuderia conta com </a:t>
            </a: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três conjuntos de equipamentos</a:t>
            </a: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, transportados em sistema de rodízio, que permite a chegada dos itens com antecipação necessária para realização dos treinos e das corrid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Os equipamentos, enviados pela DHL a partir de seus escritórios em Londres e Milão, constantemente retornam para inspeção aos locais de base das equipes, antes de serem remetidos ao próximo Grande Prêm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800000"/>
                </a:solidFill>
                <a:latin typeface="바탕"/>
              </a:rPr>
              <a:t> </a:t>
            </a:r>
            <a:r>
              <a:rPr b="1" lang="pt-BR" sz="2200" spc="-1" strike="noStrike">
                <a:solidFill>
                  <a:srgbClr val="800000"/>
                </a:solidFill>
                <a:latin typeface="바탕"/>
              </a:rPr>
              <a:t>Somente os carros – os dois oficiais de cada equipe e o reserva – vão diretamente de um circuito a out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7" descr="massa_bahr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04640"/>
            <a:ext cx="3456000" cy="2246400"/>
          </a:xfrm>
          <a:prstGeom prst="rect">
            <a:avLst/>
          </a:prstGeom>
          <a:ln w="0">
            <a:noFill/>
          </a:ln>
        </p:spPr>
      </p:pic>
      <p:sp>
        <p:nvSpPr>
          <p:cNvPr id="24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8488-A202-4877-98DE-3F53C4AD282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B47-BCCF-42CF-BBBC-4CC92F1D2D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Logística na F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08000" y="5426640"/>
            <a:ext cx="8893080" cy="109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Em alguns países da Europa, além da coordenação da logística, a DHL assume inclusive o transporte dos carros e do combustível especial usado nas corri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grid-girls-paddock-beauty-f1"/>
          <p:cNvPicPr/>
          <p:nvPr/>
        </p:nvPicPr>
        <p:blipFill>
          <a:blip r:embed="rId1"/>
          <a:stretch/>
        </p:blipFill>
        <p:spPr>
          <a:xfrm>
            <a:off x="4643280" y="260280"/>
            <a:ext cx="346716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EBE-8244-4203-960F-F55BE3075D4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046D-DA50-4B15-8591-3C34EE0DDD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79280" y="2872080"/>
            <a:ext cx="8893440" cy="385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No 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prazo de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48h logo após o término de cada corrida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, todas as peças e materiais são embalados e recolhidos entre segunda e terça-feira de manhã, seguindo imediatamente para a próxima etap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A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temporada de 2008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exigiu a agilidade e competência da DHL em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18 Grandes Prêmios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, realizados da Austrália ao Brasil, de março a novembro. Foram incluídos ainda na temporada os circuitos de Cingapura e Valenç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Os carros que participam de todas as etapas da Fórmula 1 cobrem um total de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100 mil km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em suas viagens de um circuito para outro.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Durante a temporada completa, apenas um carro completa nove mil km de percurso nas pistas e dez vezes a mesma distância no 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2" descr="1"/>
          <p:cNvPicPr/>
          <p:nvPr/>
        </p:nvPicPr>
        <p:blipFill>
          <a:blip r:embed="rId1"/>
          <a:stretch/>
        </p:blipFill>
        <p:spPr>
          <a:xfrm>
            <a:off x="179280" y="210960"/>
            <a:ext cx="485784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0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50CA-B301-47EC-80E4-A2C967D374D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A2C-B9E6-4BE5-AE40-3331B3F280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o tudo isso é feito?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o é o Processo Logístico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53" name="Picture 5" descr="f1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457E-D663-4D7A-9222-87ECC28DE01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2649-7DBB-4F96-B58F-58B72F6C4F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762120" y="1295280"/>
            <a:ext cx="7543800" cy="419112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O PROCESSO LOGÍSTICO É O PROCESSO DE TROCA DE INFORMAÇÕES QUE MOVIMENTA MATERIAIS E RECURSOS DE DETERMINADOS LOCAIS PARA OUTROS, QUANDO E ONDE ESTES SÃO NECESSÁRIOS, NO SENTIDO DE ATENDER A DEMANDA D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7F55-7559-4EF6-ADF0-2E8C971C0C4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597-B3DA-4711-8BAE-B2D2405B96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BALLOU, Ronald H. 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Gerenciamento da Cadeia de Suprimentos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/ 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Logística Empresarial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. Porto Alegre:  Bookman. 2006  (Cap.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BOWERSOX, Donald. J.; CLOSS, David. J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. Logística Empresarial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. O Processo de Integração da Cadeia de Suprimento. Atlas: São Paulo. 2001  (Cap. 1 a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LIVEIRA-LUCIEL, Henrique de.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rodução á Logística Empresarial Integrad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Conceitos e casos para estudo. Notas de aula. Graduação. Centro Universitário das Faculdades Associadas de Ensino – UNIFAE. São João da Boa Vista.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166840" y="1197000"/>
            <a:ext cx="4810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itura obrigatória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FF5-29F3-4303-89A0-93C9DFB305E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2166840" y="4221000"/>
            <a:ext cx="4810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itura complementa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EC31-D9DF-4C58-8BE8-BF68EA60FB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3276720" y="2276640"/>
            <a:ext cx="3528720" cy="288108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LOGÍSTICA EMPRESARIA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O OBJETIVO PROVER O CLIENTE COM NÍVEIS DE SERVIÇOS DESEJ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</a:rPr>
              <a:t>A META DA LOGÍSTICA EMPRESARIAL É ATENDER O NÍVEL DE SERVIÇO DEFINIDO, AO MENOR CUSTO POSSÍVEL, MAXIMIZAN-DO A LUCRATIVIDADE DO NEGÓ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" descr="_40282941_afpwatermelons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869000"/>
            <a:ext cx="1284120" cy="1752480"/>
          </a:xfrm>
          <a:prstGeom prst="rect">
            <a:avLst/>
          </a:prstGeom>
          <a:ln w="0">
            <a:noFill/>
          </a:ln>
        </p:spPr>
      </p:pic>
      <p:sp>
        <p:nvSpPr>
          <p:cNvPr id="264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0B9F-1AFF-4372-A885-2538D785A7E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920" y="16002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990000"/>
                </a:solidFill>
                <a:latin typeface="Arial Black"/>
              </a:rPr>
              <a:t>POR QUE A LOGÍSTICA É IMPORTANTE PARA AS EMPRESAS ?</a:t>
            </a:r>
            <a:endParaRPr b="0" lang="en-US" sz="6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66" name="Picture 3" descr="coisa1"/>
          <p:cNvPicPr/>
          <p:nvPr/>
        </p:nvPicPr>
        <p:blipFill>
          <a:blip r:embed="rId1"/>
          <a:stretch/>
        </p:blipFill>
        <p:spPr>
          <a:xfrm>
            <a:off x="6904080" y="380880"/>
            <a:ext cx="223992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9CB-AA5C-4EA0-8B9B-06342690A3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O comércio e a Log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Da Logística ao </a:t>
            </a:r>
            <a:r>
              <a:rPr b="0" i="1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Supply Chai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A Cadeia de Valor e a Logís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logistica-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7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5FD1-863C-4613-A5B5-36660C3CCD5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7602-1C03-4C76-B3C6-0E691AFBB4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98984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de os tempos bíblicos os líderes militares já se utilizavam da logíst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guerras eram longas e geralmente distantes, eram necessários grandes e constantes deslocamentos de recur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transportar as tropas, armamentos e carros de guerra pesados aos locais de combate eram necessários um planejamento, organização e execução de tarefas logísticas, que envolviam a definição de uma rota, nem sempre o mais curta, pois era necessário ter uma fonte de água potável próxima, transporte, armazenagem e distribuição de equipamentos e supri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antiga Grécia, Roma e no Império Bizantino, os militares com o título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‘Logistikas’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ram os responsáveis por garantir recursos e suprimentos para a gu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9" descr="turco%20otomano%20-%20ALUNOS%20ONLINE"/>
          <p:cNvPicPr/>
          <p:nvPr/>
        </p:nvPicPr>
        <p:blipFill>
          <a:blip r:embed="rId1"/>
          <a:stretch/>
        </p:blipFill>
        <p:spPr>
          <a:xfrm>
            <a:off x="5796000" y="0"/>
            <a:ext cx="2590920" cy="1989000"/>
          </a:xfrm>
          <a:prstGeom prst="rect">
            <a:avLst/>
          </a:prstGeom>
          <a:ln w="0">
            <a:noFill/>
          </a:ln>
        </p:spPr>
      </p:pic>
      <p:sp>
        <p:nvSpPr>
          <p:cNvPr id="276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032C-94E7-43F6-BFDD-EAB5544A1B4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031-8667-45ED-A333-9AB882F849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verdadeira tomada de consciência da logística como ciência teve sua origem nas teorias criadas e desenvolvidas pelo Tenente-Coronel Thorpe, do Corpo de Fuzileiros Navais dos Estados Unidos que, no ano de 1917, publicou o liv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Logística Pura: a ciência da preparação para a guerra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Thorpe, a estratégia e a tática proporcionam o esquema da condução das operações militares, enquanto a logística proporciona os meios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m, pela primeira vez, a logística situa-se no mesmo nível da estratégia e da tática dentro da A Arte da Gu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0" descr="200px-Landings_on_the_beach_of_Ibe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89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28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5D9E-2F6C-4D09-9E70-8FA73FCFB17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4F75-C3C5-465D-9384-8201E3B701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8062920" cy="331308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é o fim da Segunda Guerra Mundial a Logística esteve associada apenas às atividades milita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este período, com o avanço tecnológico e a necessidade de suprir os locais destruídos pela guerra, a logística passou também a ser adotada pelas organizações e empresas civ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180px-FedEx_DC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046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fuzileiro01x"/>
          <p:cNvPicPr/>
          <p:nvPr/>
        </p:nvPicPr>
        <p:blipFill>
          <a:blip r:embed="rId3"/>
          <a:stretch/>
        </p:blipFill>
        <p:spPr>
          <a:xfrm>
            <a:off x="3564000" y="404640"/>
            <a:ext cx="2448000" cy="1729080"/>
          </a:xfrm>
          <a:prstGeom prst="rect">
            <a:avLst/>
          </a:prstGeom>
          <a:ln w="0">
            <a:noFill/>
          </a:ln>
        </p:spPr>
      </p:pic>
      <p:sp>
        <p:nvSpPr>
          <p:cNvPr id="287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52B5-3D9C-4EF9-A23F-5FE5D844235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1A1F-7987-4E4F-BD35-B374B45B2A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98984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As novas exigências para a atividade logística no mundo passam pelo </a:t>
            </a: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maior controle e identificação de oportunidades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de custos, redução nos prazos de entrega e aumento da qualidade no cumprimento do prazo, disponibilidade constante dos produtos, programação das entregas, facilidade na gestão dos pedidos e flexibilização da fabricação, análises de longo prazo com incrementos em inovação tecnológica, novas metodologias de custeio, novas ferramentas para redefinição de processos e adequação dos negócios (Exemplo: Resposta Eficiente ao Consumidor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ficient Consumer Respon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entre ou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300px-Automatisches_Kleinteilelager"/>
          <p:cNvPicPr/>
          <p:nvPr/>
        </p:nvPicPr>
        <p:blipFill>
          <a:blip r:embed="rId1"/>
          <a:stretch/>
        </p:blipFill>
        <p:spPr>
          <a:xfrm>
            <a:off x="5437080" y="115920"/>
            <a:ext cx="2519640" cy="1888920"/>
          </a:xfrm>
          <a:prstGeom prst="rect">
            <a:avLst/>
          </a:prstGeom>
          <a:ln w="0">
            <a:noFill/>
          </a:ln>
        </p:spPr>
      </p:pic>
      <p:sp>
        <p:nvSpPr>
          <p:cNvPr id="29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3B8-84A2-469D-A605-6BD8768F397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9D21-A1A0-4341-8240-1EFB1A1DCB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conceitos de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“Logística Empresarial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“Logística Integrada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ão recentes no Bras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cesso de difusão teve início, de forma ainda tímida, nos primeiros anos da década de 1990, com o processo de abertura comercial, e se acelerou a partir de 1994, com a estabilização econômica propiciada pelo Plan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4" descr="associate1"/>
          <p:cNvPicPr/>
          <p:nvPr/>
        </p:nvPicPr>
        <p:blipFill>
          <a:blip r:embed="rId1"/>
          <a:stretch/>
        </p:blipFill>
        <p:spPr>
          <a:xfrm>
            <a:off x="0" y="4191120"/>
            <a:ext cx="1063800" cy="1989000"/>
          </a:xfrm>
          <a:prstGeom prst="rect">
            <a:avLst/>
          </a:prstGeom>
          <a:ln w="0">
            <a:noFill/>
          </a:ln>
        </p:spPr>
      </p:pic>
      <p:sp>
        <p:nvSpPr>
          <p:cNvPr id="297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38B-28E9-4688-9725-7FDF552DC81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LAS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4C7B-66A7-47F8-8A4C-5EE510834D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Introdução / Cenário 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3200400" cy="441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mbiente inflacio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conomia fech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ixo nível de compet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191120" y="2092320"/>
            <a:ext cx="3733560" cy="444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Levou as empresas a negligenciarem o processo logístico dentro das cadeias de supri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66"/>
                </a:solidFill>
                <a:latin typeface="Times New Roman"/>
              </a:rPr>
              <a:t>Gerou um atraso de pelo menos 10 anos em relação às melhores práticas internacionais.</a:t>
            </a:r>
            <a:r>
              <a:rPr b="0" lang="pt-BR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1352520" y="1409760"/>
            <a:ext cx="139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7"/>
          <p:cNvSpPr txBox="1"/>
          <p:nvPr/>
        </p:nvSpPr>
        <p:spPr>
          <a:xfrm>
            <a:off x="4419720" y="1371600"/>
            <a:ext cx="29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quenci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2514600" y="5181480"/>
            <a:ext cx="2133720" cy="68580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7CF4-1D11-4ACE-BFF7-860BBBF730D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4B2D-1B7C-4862-96D6-2FD7EF52FC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905120" y="609480"/>
            <a:ext cx="5257800" cy="1447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Não havendo demanda por conhecimentos no setor produtivo, era natural que não surgirem ofertas de ensino, pesquisa e consultoria em logística empresarial no país.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Razão do nosso atras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Conseqüências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10" name="Picture 5" descr="imag3"/>
          <p:cNvPicPr/>
          <p:nvPr/>
        </p:nvPicPr>
        <p:blipFill>
          <a:blip r:embed="rId2"/>
          <a:stretch/>
        </p:blipFill>
        <p:spPr>
          <a:xfrm>
            <a:off x="5867280" y="4419720"/>
            <a:ext cx="2487600" cy="1620720"/>
          </a:xfrm>
          <a:prstGeom prst="rect">
            <a:avLst/>
          </a:prstGeom>
          <a:ln w="0">
            <a:noFill/>
          </a:ln>
        </p:spPr>
      </p:pic>
      <p:sp>
        <p:nvSpPr>
          <p:cNvPr id="311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129C-7DCE-422C-A613-854E73D1670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7093-6740-4922-BA56-EF0E444C16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281800" cy="3024360"/>
          </a:xfrm>
          <a:prstGeom prst="rect">
            <a:avLst/>
          </a:prstGeom>
          <a:solidFill>
            <a:srgbClr val="ff9999"/>
          </a:solidFill>
          <a:ln w="7632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 QUE É LOGÍST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OR QUE  A  LOGÍSTICA  É  IMPORTANTE PARA AS EMPRES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1908000" y="260280"/>
            <a:ext cx="5410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LOGÍS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0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FF0B-DAFB-4067-B8D9-68E153E07DE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0506-698A-4EFB-AAC2-9CC3D580FC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Logística Empresarial – </a:t>
            </a:r>
            <a:r>
              <a:rPr b="0" lang="pt-BR" sz="3600" spc="-1" strike="noStrike">
                <a:solidFill>
                  <a:srgbClr val="3333cc"/>
                </a:solidFill>
                <a:latin typeface="Times New Roman"/>
              </a:rPr>
              <a:t>conceito atual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studa a administração do fluxo de bens e serviços em organizações orientadas ou não para o luc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fatiza os princípios e conceitos que servem como guias para a tomada de decis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</a:rPr>
              <a:t>Tópicos relacionados:</a:t>
            </a:r>
            <a:r>
              <a:rPr b="0" lang="pt-BR" sz="2400" spc="-1" strike="noStrike">
                <a:solidFill>
                  <a:srgbClr val="0000ff"/>
                </a:solidFill>
                <a:latin typeface="Verdana"/>
              </a:rPr>
              <a:t> Distribuição Física, Administração de Materiais, Nível de Serviço, Administração de Tráfego, Manuseio e Acondicionamento do Produto, Controles de Estoq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C98-331B-463E-86F6-5A778E35572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970-0329-401F-99D6-0BB3E86F98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rebuchet MS"/>
              </a:rPr>
              <a:t>CONCEITO DE LOGÍSTICA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rocesso de planejar, implementar e controlar eficientemente e eficazmente o </a:t>
            </a:r>
            <a:r>
              <a:rPr b="0" lang="pt-BR" sz="2800" spc="-1" strike="noStrike">
                <a:solidFill>
                  <a:srgbClr val="3333cc"/>
                </a:solidFill>
                <a:latin typeface="Trebuchet MS"/>
              </a:rPr>
              <a:t>fluxo e armazenagem de bens e serviços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, assim como as </a:t>
            </a:r>
            <a:r>
              <a:rPr b="0" lang="pt-BR" sz="2800" spc="-1" strike="noStrike">
                <a:solidFill>
                  <a:srgbClr val="cc0000"/>
                </a:solidFill>
                <a:latin typeface="Trebuchet MS"/>
              </a:rPr>
              <a:t>informações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a eles relacionadas desde o ponto de origem até o ponto de consumo com o propósito de atender as necessidades dos clien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Concil of Logistics Management, atual CSC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5" descr="logistica2"/>
          <p:cNvPicPr/>
          <p:nvPr/>
        </p:nvPicPr>
        <p:blipFill>
          <a:blip r:embed="rId1"/>
          <a:stretch/>
        </p:blipFill>
        <p:spPr>
          <a:xfrm>
            <a:off x="2895480" y="3936960"/>
            <a:ext cx="4321440" cy="2921040"/>
          </a:xfrm>
          <a:prstGeom prst="rect">
            <a:avLst/>
          </a:prstGeom>
          <a:ln w="0">
            <a:noFill/>
          </a:ln>
        </p:spPr>
      </p:pic>
      <p:sp>
        <p:nvSpPr>
          <p:cNvPr id="320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11A4-0AEE-4910-9DD2-6CD7797F5CE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660-1146-458D-B432-2653351F0B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0" y="42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70000"/>
            <a:ext cx="849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É 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tegração dos principais processos</a:t>
            </a: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 de negócio do usuário final até os fornecedores dos produtos, serviços e informações que adicionam valor para clientes e a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414600" y="3886200"/>
            <a:ext cx="551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The International Center for Competitive Excellence, 199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Global Supply Chain Forum, 199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logistica3"/>
          <p:cNvPicPr/>
          <p:nvPr/>
        </p:nvPicPr>
        <p:blipFill>
          <a:blip r:embed="rId1"/>
          <a:stretch/>
        </p:blipFill>
        <p:spPr>
          <a:xfrm>
            <a:off x="2666880" y="4886280"/>
            <a:ext cx="4114800" cy="1895400"/>
          </a:xfrm>
          <a:prstGeom prst="rect">
            <a:avLst/>
          </a:prstGeom>
          <a:ln w="0">
            <a:noFill/>
          </a:ln>
        </p:spPr>
      </p:pic>
      <p:sp>
        <p:nvSpPr>
          <p:cNvPr id="326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73C-8D8E-47A9-AFEC-6C73EDF8C0B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042920" y="1374840"/>
            <a:ext cx="70819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“</a:t>
            </a: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É a parte do Supply Chain que planeja, implementa e controla eficientemente a armazenagem, movimentação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Book Antiqua"/>
              </a:rPr>
              <a:t>materiais</a:t>
            </a:r>
            <a:r>
              <a:rPr b="0" lang="pt-BR" sz="2800" spc="-1" strike="noStrike" u="sng">
                <a:solidFill>
                  <a:srgbClr val="0000cc"/>
                </a:solidFill>
                <a:uFillTx/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(matérias prima, produtos em processo e produtos empacotados)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Book Antiqua"/>
              </a:rPr>
              <a:t>informações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relacionadas desde o ponto de origem até o ponto de consumo com a </a:t>
            </a:r>
            <a:r>
              <a:rPr b="0" lang="pt-BR" sz="2800" spc="-1" strike="noStrike" u="sng">
                <a:solidFill>
                  <a:srgbClr val="0000cc"/>
                </a:solidFill>
                <a:uFillTx/>
                <a:latin typeface="Book Antiqua"/>
              </a:rPr>
              <a:t>finalidade de atender a demanda dos clientes a um custo competitivo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893880" y="6165720"/>
            <a:ext cx="825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CMP - Council of Supply Chain Managemen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-152280" y="50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CLM - DEFINITION OF LOG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ço Reservado para Data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FB5-7DC2-495B-9CEB-94ABE47B742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EB6-DEBA-46FE-AA43-9BA7973F1F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06B-97D5-4F0E-B023-388CCBE8A6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cscmp logo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1552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324000" y="2924280"/>
            <a:ext cx="8250120" cy="1982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CMP - Council of Supply Chain Managemen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ttp://cscmp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ombard, Illinois - 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235-ECF0-4145-AF97-E31C8224530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76680" y="743040"/>
            <a:ext cx="8991720" cy="704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pt-BR" sz="5100" spc="-1" strike="noStrike">
                <a:solidFill>
                  <a:srgbClr val="ff0000"/>
                </a:solidFill>
                <a:latin typeface="Times New Roman"/>
              </a:rPr>
              <a:t>Supply Chain Management</a:t>
            </a:r>
            <a:endParaRPr b="0" lang="en-US" sz="51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752480" y="1905120"/>
            <a:ext cx="441972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É a gestão integrada de todos os processos e atividades da empresa responsáveis pelo atendimento dos clientes (produtos, serviços e informações) desde o momento que desejam entrar em contato com a organização até o momento que o pagamento da fatura tenha sido efet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Imagem aslog"/>
          <p:cNvPicPr/>
          <p:nvPr/>
        </p:nvPicPr>
        <p:blipFill>
          <a:blip r:embed="rId1"/>
          <a:stretch/>
        </p:blipFill>
        <p:spPr>
          <a:xfrm>
            <a:off x="6676920" y="2003400"/>
            <a:ext cx="1882800" cy="405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BE8A-2767-4A7D-B218-7D385DC473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É o processo de planejamento, implementação e controle do fluxo e armazenagem eficientes e de baixo custo de matérias primas, estoque em processo, produto acabado e informações relacionadas, desde o ponto de origem até o ponto de consumo, com o objetivo de atender aos requisitos do client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762120" y="2286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Times New Roman"/>
              </a:rPr>
              <a:t>LOGÍSTICA </a:t>
            </a:r>
            <a:br>
              <a:rPr sz="4400"/>
            </a:br>
            <a:r>
              <a:rPr b="1" i="1" lang="pt-BR" sz="3600" spc="-1" strike="noStrike">
                <a:solidFill>
                  <a:srgbClr val="3333cc"/>
                </a:solidFill>
                <a:latin typeface="Times New Roman"/>
              </a:rPr>
              <a:t>Definição da AB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6" descr="barra_superior_04"/>
          <p:cNvPicPr/>
          <p:nvPr/>
        </p:nvPicPr>
        <p:blipFill>
          <a:blip r:embed="rId1"/>
          <a:stretch/>
        </p:blipFill>
        <p:spPr>
          <a:xfrm>
            <a:off x="212760" y="5745240"/>
            <a:ext cx="8550360" cy="9604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9"/>
          <p:cNvSpPr/>
          <p:nvPr/>
        </p:nvSpPr>
        <p:spPr>
          <a:xfrm>
            <a:off x="3807360" y="1614600"/>
            <a:ext cx="46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3333cc"/>
                </a:solidFill>
                <a:latin typeface="Times New Roman"/>
              </a:rPr>
              <a:t>Fortalecendo os elos da cadeia de supri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FB1-98BC-4D38-A4EA-4A3C2DC91D2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8F6-6A1F-4ECD-AB95-AEF2B289AD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43920" y="404640"/>
            <a:ext cx="3157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abml.org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4920" y="0"/>
            <a:ext cx="5184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ssociação Brasileira de Movimentação e 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-92160" y="4365720"/>
            <a:ext cx="2719440" cy="268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ABML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caba de conseguir a criação da primeira norma brasileira de sistemas de armazenagem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NBR 15.524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, que define parâmetros para o uso de estruturas porta-paletes, que representam 7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dos projetos de logística e distribuição existentes no mercado. </a:t>
            </a:r>
            <a:br>
              <a:rPr sz="1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Jan/20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59A-8CA1-451F-8069-5EA9E4662C5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5A58-E095-4DEB-AABE-30D1F75FB1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s definições para</a:t>
            </a:r>
            <a:br>
              <a:rPr sz="4400"/>
            </a:b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 ASLO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ogística é uma parte da cadeia de suprimentos que planeja, implementa e controla com eficácia o fluxo e a armazenagem dos bens, dos serviços e das informações entre  o ponto da origem e o ponto de consumo destes itens, a fim de satisfazer todas as exigências dos consumidores em g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142920" y="476280"/>
            <a:ext cx="8858160" cy="9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7" descr="aslog"/>
          <p:cNvPicPr/>
          <p:nvPr/>
        </p:nvPicPr>
        <p:blipFill>
          <a:blip r:embed="rId1"/>
          <a:stretch/>
        </p:blipFill>
        <p:spPr>
          <a:xfrm>
            <a:off x="457200" y="457200"/>
            <a:ext cx="2743200" cy="870120"/>
          </a:xfrm>
          <a:prstGeom prst="rect">
            <a:avLst/>
          </a:prstGeom>
          <a:ln w="0">
            <a:noFill/>
          </a:ln>
        </p:spPr>
      </p:pic>
      <p:sp>
        <p:nvSpPr>
          <p:cNvPr id="357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E762-6AB5-4BBB-BF29-BCBE4345D17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BD6-9C59-4FCA-AA51-BA0F0B1223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s definições para</a:t>
            </a:r>
            <a:br>
              <a:rPr sz="4400"/>
            </a:b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 ASLO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erenciamento da cadeia de suprimentos é um sistema coordenado e estratégico para o funcionamento da tática dos tradicionais negócios de uma empresa, com a finalidade de otimizar a longo prazo o desempenho individual desta empresa no mercado e na cadeia como um t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42920" y="-3040200"/>
            <a:ext cx="8858160" cy="12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R. Armando Penteado, 352-01242-010 - São Paulo - SP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  (11) 3661.4657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 Fax(11)3663-5569</a:t>
            </a: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42920" y="-3040200"/>
            <a:ext cx="8858160" cy="12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R. Armando Penteado, 352-01242-010 - São Paulo - SP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  (11) 3661.4657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 Fax(11)3663-5569</a:t>
            </a: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8" descr="aslog"/>
          <p:cNvPicPr/>
          <p:nvPr/>
        </p:nvPicPr>
        <p:blipFill>
          <a:blip r:embed="rId1"/>
          <a:stretch/>
        </p:blipFill>
        <p:spPr>
          <a:xfrm>
            <a:off x="457200" y="457200"/>
            <a:ext cx="2743200" cy="870120"/>
          </a:xfrm>
          <a:prstGeom prst="rect">
            <a:avLst/>
          </a:prstGeom>
          <a:ln w="0">
            <a:noFill/>
          </a:ln>
        </p:spPr>
      </p:pic>
      <p:sp>
        <p:nvSpPr>
          <p:cNvPr id="364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1373-4B20-4BE7-88A5-21C9F07CBAB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9732-719D-4AD8-A4F1-E04241A2BB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07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LOGÍSTICA PARA A EC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PRODUTORES E CONSUMIDORES DISPERSOS GEOGRA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NECESSIDADE DE ENCURTAR A DISTÂNCIA E O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LOGÍSTICA CRIA A UTILIDADE DE TEMPO E 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684360" y="457200"/>
            <a:ext cx="5943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O QUE É LOGÍSTIC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36800" y="5589720"/>
            <a:ext cx="697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=&gt; Logística vista como Racionalização de Process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C2A3-ED3D-4E99-B506-FB5B241E902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96C0-F575-45AA-AC8D-1546A994C6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3240" y="1371600"/>
            <a:ext cx="3190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aslog.org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19F-0904-4225-A8DE-A4484BDA5B4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A6A-22F1-410E-9995-95050B28D2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1982880" y="6391440"/>
            <a:ext cx="3190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aslog.org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947E-9071-4856-B64E-BC86625F4C5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9C2A-C0BE-4F95-BDF5-C13266E7B4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2625840"/>
            <a:ext cx="9144000" cy="423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5320" y="1467000"/>
            <a:ext cx="8991720" cy="5810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incipais Elos e Flu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Arial"/>
              </a:rPr>
              <a:t>Cadeia Logística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7692480" y="4114800"/>
            <a:ext cx="1052280" cy="1326600"/>
            <a:chOff x="7692480" y="4114800"/>
            <a:chExt cx="1052280" cy="1326600"/>
          </a:xfrm>
        </p:grpSpPr>
        <p:sp>
          <p:nvSpPr>
            <p:cNvPr id="378" name="Rectangle 6"/>
            <p:cNvSpPr/>
            <p:nvPr/>
          </p:nvSpPr>
          <p:spPr>
            <a:xfrm>
              <a:off x="7692480" y="5105520"/>
              <a:ext cx="105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Object 7" descr=""/>
            <p:cNvPicPr/>
            <p:nvPr/>
          </p:nvPicPr>
          <p:blipFill>
            <a:blip r:embed="rId1"/>
            <a:stretch/>
          </p:blipFill>
          <p:spPr>
            <a:xfrm>
              <a:off x="7953480" y="4114800"/>
              <a:ext cx="49212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8"/>
          <p:cNvGrpSpPr/>
          <p:nvPr/>
        </p:nvGrpSpPr>
        <p:grpSpPr>
          <a:xfrm>
            <a:off x="476280" y="4114800"/>
            <a:ext cx="1625400" cy="1307520"/>
            <a:chOff x="476280" y="4114800"/>
            <a:chExt cx="1625400" cy="1307520"/>
          </a:xfrm>
        </p:grpSpPr>
        <p:pic>
          <p:nvPicPr>
            <p:cNvPr id="381" name="Object 9" descr=""/>
            <p:cNvPicPr/>
            <p:nvPr/>
          </p:nvPicPr>
          <p:blipFill>
            <a:blip r:embed="rId2"/>
            <a:stretch/>
          </p:blipFill>
          <p:spPr>
            <a:xfrm>
              <a:off x="485640" y="4114800"/>
              <a:ext cx="15541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10"/>
            <p:cNvSpPr/>
            <p:nvPr/>
          </p:nvSpPr>
          <p:spPr>
            <a:xfrm>
              <a:off x="476280" y="5086440"/>
              <a:ext cx="162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FORNECE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1"/>
          <p:cNvGrpSpPr/>
          <p:nvPr/>
        </p:nvGrpSpPr>
        <p:grpSpPr>
          <a:xfrm>
            <a:off x="2085840" y="4114800"/>
            <a:ext cx="1681200" cy="1321560"/>
            <a:chOff x="2085840" y="4114800"/>
            <a:chExt cx="1681200" cy="1321560"/>
          </a:xfrm>
        </p:grpSpPr>
        <p:pic>
          <p:nvPicPr>
            <p:cNvPr id="384" name="Object 12" descr=""/>
            <p:cNvPicPr/>
            <p:nvPr/>
          </p:nvPicPr>
          <p:blipFill>
            <a:blip r:embed="rId3"/>
            <a:stretch/>
          </p:blipFill>
          <p:spPr>
            <a:xfrm>
              <a:off x="2085840" y="4114800"/>
              <a:ext cx="168120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13"/>
            <p:cNvSpPr/>
            <p:nvPr/>
          </p:nvSpPr>
          <p:spPr>
            <a:xfrm>
              <a:off x="2161440" y="5100480"/>
              <a:ext cx="150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FABRIC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14"/>
          <p:cNvGrpSpPr/>
          <p:nvPr/>
        </p:nvGrpSpPr>
        <p:grpSpPr>
          <a:xfrm>
            <a:off x="3838680" y="4419720"/>
            <a:ext cx="1839960" cy="1021680"/>
            <a:chOff x="3838680" y="4419720"/>
            <a:chExt cx="1839960" cy="1021680"/>
          </a:xfrm>
        </p:grpSpPr>
        <p:pic>
          <p:nvPicPr>
            <p:cNvPr id="387" name="Object 15" descr=""/>
            <p:cNvPicPr/>
            <p:nvPr/>
          </p:nvPicPr>
          <p:blipFill>
            <a:blip r:embed="rId4"/>
            <a:stretch/>
          </p:blipFill>
          <p:spPr>
            <a:xfrm>
              <a:off x="3838680" y="4419720"/>
              <a:ext cx="183996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6"/>
            <p:cNvSpPr/>
            <p:nvPr/>
          </p:nvSpPr>
          <p:spPr>
            <a:xfrm>
              <a:off x="3962880" y="5105520"/>
              <a:ext cx="164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ISTRIBU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17"/>
          <p:cNvGrpSpPr/>
          <p:nvPr/>
        </p:nvGrpSpPr>
        <p:grpSpPr>
          <a:xfrm>
            <a:off x="5743440" y="4348080"/>
            <a:ext cx="2044800" cy="1093320"/>
            <a:chOff x="5743440" y="4348080"/>
            <a:chExt cx="2044800" cy="1093320"/>
          </a:xfrm>
        </p:grpSpPr>
        <p:pic>
          <p:nvPicPr>
            <p:cNvPr id="390" name="Object 18" descr=""/>
            <p:cNvPicPr/>
            <p:nvPr/>
          </p:nvPicPr>
          <p:blipFill>
            <a:blip r:embed="rId5"/>
            <a:stretch/>
          </p:blipFill>
          <p:spPr>
            <a:xfrm>
              <a:off x="5743440" y="4348080"/>
              <a:ext cx="204480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19"/>
            <p:cNvSpPr/>
            <p:nvPr/>
          </p:nvSpPr>
          <p:spPr>
            <a:xfrm>
              <a:off x="6276600" y="5105520"/>
              <a:ext cx="101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VAREJ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20"/>
          <p:cNvGrpSpPr/>
          <p:nvPr/>
        </p:nvGrpSpPr>
        <p:grpSpPr>
          <a:xfrm>
            <a:off x="1400040" y="3200400"/>
            <a:ext cx="6934320" cy="609480"/>
            <a:chOff x="1400040" y="3200400"/>
            <a:chExt cx="6934320" cy="609480"/>
          </a:xfrm>
        </p:grpSpPr>
        <p:sp>
          <p:nvSpPr>
            <p:cNvPr id="393" name="Line 21"/>
            <p:cNvSpPr/>
            <p:nvPr/>
          </p:nvSpPr>
          <p:spPr>
            <a:xfrm>
              <a:off x="1400040" y="3809880"/>
              <a:ext cx="6934320" cy="0"/>
            </a:xfrm>
            <a:prstGeom prst="line">
              <a:avLst/>
            </a:prstGeom>
            <a:ln w="88920">
              <a:solidFill>
                <a:srgbClr val="ffcc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838680" y="320040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MATERI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23"/>
          <p:cNvGrpSpPr/>
          <p:nvPr/>
        </p:nvGrpSpPr>
        <p:grpSpPr>
          <a:xfrm>
            <a:off x="1400040" y="5638680"/>
            <a:ext cx="6934320" cy="609840"/>
            <a:chOff x="1400040" y="5638680"/>
            <a:chExt cx="6934320" cy="609840"/>
          </a:xfrm>
        </p:grpSpPr>
        <p:sp>
          <p:nvSpPr>
            <p:cNvPr id="396" name="Line 24"/>
            <p:cNvSpPr/>
            <p:nvPr/>
          </p:nvSpPr>
          <p:spPr>
            <a:xfrm>
              <a:off x="1400040" y="5638680"/>
              <a:ext cx="6934320" cy="0"/>
            </a:xfrm>
            <a:prstGeom prst="line">
              <a:avLst/>
            </a:prstGeom>
            <a:ln w="88920">
              <a:solidFill>
                <a:srgbClr val="ff5050"/>
              </a:solidFill>
              <a:miter/>
              <a:headEnd len="med" type="triangle" w="sm"/>
              <a:tailEnd len="med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utoShape 25"/>
            <p:cNvSpPr/>
            <p:nvPr/>
          </p:nvSpPr>
          <p:spPr>
            <a:xfrm>
              <a:off x="3457440" y="58672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Espaço Reservado para Data 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97D-6163-460C-B14E-3928B07538B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F6E-EB93-402C-9CCC-5B970CA7A1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227320" y="914400"/>
            <a:ext cx="49449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rocessos de planejar, operar, contro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0200" y="4740120"/>
            <a:ext cx="2427120" cy="1819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o mínimo c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duto c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a quantidade c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lugar c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tempo ex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7"/>
          <p:cNvGrpSpPr/>
          <p:nvPr/>
        </p:nvGrpSpPr>
        <p:grpSpPr>
          <a:xfrm>
            <a:off x="609480" y="1349280"/>
            <a:ext cx="8000280" cy="3538080"/>
            <a:chOff x="609480" y="1349280"/>
            <a:chExt cx="8000280" cy="3538080"/>
          </a:xfrm>
        </p:grpSpPr>
        <p:sp>
          <p:nvSpPr>
            <p:cNvPr id="403" name="Text Box 2"/>
            <p:cNvSpPr/>
            <p:nvPr/>
          </p:nvSpPr>
          <p:spPr>
            <a:xfrm>
              <a:off x="1957680" y="3699000"/>
              <a:ext cx="3596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4"/>
            <p:cNvSpPr/>
            <p:nvPr/>
          </p:nvSpPr>
          <p:spPr>
            <a:xfrm>
              <a:off x="3216240" y="1521360"/>
              <a:ext cx="2876760" cy="2189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Fluxo e Armazen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Matéria Pri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Produtos em proc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Produtos Acab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Informa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Dinhei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5"/>
            <p:cNvSpPr/>
            <p:nvPr/>
          </p:nvSpPr>
          <p:spPr>
            <a:xfrm>
              <a:off x="6632640" y="1958400"/>
              <a:ext cx="1707480" cy="870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6902280" y="2132280"/>
              <a:ext cx="170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rebuchet MS"/>
                </a:rPr>
                <a:t>Ao ponto de dest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609480" y="1958400"/>
              <a:ext cx="1708200" cy="870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879120" y="2132280"/>
              <a:ext cx="170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rebuchet MS"/>
                </a:rPr>
                <a:t>Do ponto de orig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5373720" y="4306680"/>
              <a:ext cx="3146760" cy="58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Trebuchet MS"/>
                </a:rPr>
                <a:t>Satisfazendo as necessidades e preferências dos 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5823720" y="2393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H="1">
              <a:off x="2496960" y="2393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84080" y="3699000"/>
              <a:ext cx="161784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 flipH="1">
              <a:off x="1867320" y="3699000"/>
              <a:ext cx="170820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4295160" y="134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Text Box 16"/>
          <p:cNvSpPr/>
          <p:nvPr/>
        </p:nvSpPr>
        <p:spPr>
          <a:xfrm>
            <a:off x="304920" y="76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rebuchet MS"/>
              </a:rPr>
              <a:t>Elementos Básicos da Logís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9" descr="Imagem aslog"/>
          <p:cNvPicPr/>
          <p:nvPr/>
        </p:nvPicPr>
        <p:blipFill>
          <a:blip r:embed="rId1"/>
          <a:srcRect l="0" t="19204" r="0" b="49018"/>
          <a:stretch/>
        </p:blipFill>
        <p:spPr>
          <a:xfrm>
            <a:off x="3276720" y="5105520"/>
            <a:ext cx="2590560" cy="1668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0"/>
          <p:cNvSpPr/>
          <p:nvPr/>
        </p:nvSpPr>
        <p:spPr>
          <a:xfrm>
            <a:off x="1018080" y="4202280"/>
            <a:ext cx="18770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 forma econômic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ficiente e efe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21"/>
          <p:cNvSpPr/>
          <p:nvPr/>
        </p:nvSpPr>
        <p:spPr>
          <a:xfrm>
            <a:off x="609480" y="45720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Espaço Reservado para Data 2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920-BF5E-4177-A3B6-50F429387C6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94F-1C51-4D73-A200-2C2DA27EA5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4920" y="228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rebuchet MS"/>
              </a:rPr>
              <a:t>Fluxos Logísticos / Cadeia de Supr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752480" y="838080"/>
            <a:ext cx="990720" cy="342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Fornece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6248520" y="838080"/>
            <a:ext cx="990360" cy="34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Consum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105520" y="838080"/>
            <a:ext cx="990360" cy="3240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Varej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962520" y="838080"/>
            <a:ext cx="990360" cy="34225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2819520" y="838080"/>
            <a:ext cx="990360" cy="3422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Manuf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429000" y="3048120"/>
            <a:ext cx="2666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uxo de dinh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429000" y="1447920"/>
            <a:ext cx="2666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uxo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05320" y="2209680"/>
            <a:ext cx="2666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uxo de 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"/>
          <p:cNvSpPr/>
          <p:nvPr/>
        </p:nvSpPr>
        <p:spPr>
          <a:xfrm flipH="1">
            <a:off x="2361960" y="35053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2"/>
          <p:cNvSpPr/>
          <p:nvPr/>
        </p:nvSpPr>
        <p:spPr>
          <a:xfrm>
            <a:off x="2438280" y="274320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3"/>
          <p:cNvSpPr/>
          <p:nvPr/>
        </p:nvSpPr>
        <p:spPr>
          <a:xfrm flipH="1">
            <a:off x="3733560" y="1295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2438280" y="190512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2437920" y="1295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24382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7"/>
          <p:cNvSpPr/>
          <p:nvPr/>
        </p:nvSpPr>
        <p:spPr>
          <a:xfrm>
            <a:off x="2438280" y="1600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1066680" y="4648320"/>
            <a:ext cx="739152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Supply Chain Management (SCM):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integração  dos processos industriais e comerciais, partindo do consumidor final e indo até os fornecedores iniciais, gerando produtos, serviços e informações que agregam valor para o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ço Reservado para Data 2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2396-BB26-4826-B55E-D645DD04999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6B61-61CB-414F-A9C2-68268C9872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"/>
          <p:cNvSpPr/>
          <p:nvPr/>
        </p:nvSpPr>
        <p:spPr>
          <a:xfrm>
            <a:off x="1143000" y="3808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rebuchet MS"/>
              </a:rPr>
              <a:t>Evolução do conceito de 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447920"/>
          <a:ext cx="8534520" cy="48178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se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de Mate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de Materiais + Dis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ística Integ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ply Chai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ply Chain Management + Efficient Consumer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0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stão de esto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stão de comp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imentação de mate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imização do sistema de transpo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uação Segment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ão sistêmica da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por sistemas de informa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Ríg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ão sistêmica da empresa incluindo fornecedores e canais de dis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Flexí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o uso de alianças estratégicas, subcontratação e canais alternativos de dis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Estraté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29"/>
          <p:cNvSpPr/>
          <p:nvPr/>
        </p:nvSpPr>
        <p:spPr>
          <a:xfrm>
            <a:off x="228600" y="2895480"/>
            <a:ext cx="35053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</a:rPr>
              <a:t>Perspectiva 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0"/>
          <p:cNvSpPr/>
          <p:nvPr/>
        </p:nvSpPr>
        <p:spPr>
          <a:xfrm>
            <a:off x="152280" y="1447920"/>
            <a:ext cx="152640" cy="1600200"/>
          </a:xfrm>
          <a:custGeom>
            <a:avLst/>
            <a:gdLst>
              <a:gd name="textAreaLeft" fmla="*/ 20160 w 152640"/>
              <a:gd name="textAreaRight" fmla="*/ 132480 w 15264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04920" y="5638680"/>
            <a:ext cx="22096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</a:rPr>
              <a:t>Fo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2"/>
          <p:cNvSpPr/>
          <p:nvPr/>
        </p:nvSpPr>
        <p:spPr>
          <a:xfrm flipH="1" rot="11113200">
            <a:off x="75600" y="3885840"/>
            <a:ext cx="228600" cy="1600200"/>
          </a:xfrm>
          <a:custGeom>
            <a:avLst/>
            <a:gdLst>
              <a:gd name="textAreaLeft" fmla="*/ 30600 w 228600"/>
              <a:gd name="textAreaRight" fmla="*/ 198000 w 2286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3E8-FF22-4F0E-AF4D-16F129BE35C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1E2-6758-4DC7-8CE8-28DD324A89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2209680" y="5943600"/>
            <a:ext cx="4724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0" y="838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33cc"/>
                </a:solidFill>
                <a:latin typeface="Arial"/>
              </a:rPr>
              <a:t>Gerenciamento Integrado do Negóci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1542960" y="1866960"/>
            <a:ext cx="7429680" cy="3943440"/>
          </a:xfrm>
          <a:prstGeom prst="rect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5175360" y="2241720"/>
            <a:ext cx="1955520" cy="18032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nuf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17360" y="1878120"/>
            <a:ext cx="1282680" cy="39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AutoShape 7"/>
          <p:cNvCxnSpPr>
            <a:stCxn id="454" idx="2"/>
            <a:endCxn id="452" idx="2"/>
          </p:cNvCxnSpPr>
          <p:nvPr/>
        </p:nvCxnSpPr>
        <p:spPr>
          <a:xfrm rot="10800000">
            <a:off x="758160" y="2283840"/>
            <a:ext cx="899280" cy="859320"/>
          </a:xfrm>
          <a:prstGeom prst="bentConnector2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5" name="Oval 8"/>
          <p:cNvSpPr/>
          <p:nvPr/>
        </p:nvSpPr>
        <p:spPr>
          <a:xfrm>
            <a:off x="6908760" y="2241720"/>
            <a:ext cx="1955880" cy="1803240"/>
          </a:xfrm>
          <a:prstGeom prst="ellips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9"/>
          <p:cNvSpPr/>
          <p:nvPr/>
        </p:nvSpPr>
        <p:spPr>
          <a:xfrm>
            <a:off x="5175360" y="3803760"/>
            <a:ext cx="1955520" cy="1803240"/>
          </a:xfrm>
          <a:prstGeom prst="ellipse">
            <a:avLst/>
          </a:prstGeom>
          <a:solidFill>
            <a:srgbClr val="0080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no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600200" y="4648320"/>
            <a:ext cx="35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Finanças - Engenharia - RH Informações - 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1670040" y="2241720"/>
            <a:ext cx="1955880" cy="180324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12"/>
          <p:cNvSpPr/>
          <p:nvPr/>
        </p:nvSpPr>
        <p:spPr>
          <a:xfrm>
            <a:off x="3422520" y="2241720"/>
            <a:ext cx="1955880" cy="1803240"/>
          </a:xfrm>
          <a:prstGeom prst="ellipse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WordArt 13"/>
          <p:cNvSpPr txBox="1"/>
          <p:nvPr/>
        </p:nvSpPr>
        <p:spPr>
          <a:xfrm>
            <a:off x="2895480" y="6058080"/>
            <a:ext cx="3400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GR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60" name="Picture 18" descr="key"/>
          <p:cNvPicPr/>
          <p:nvPr/>
        </p:nvPicPr>
        <p:blipFill>
          <a:blip r:embed="rId3"/>
          <a:stretch/>
        </p:blipFill>
        <p:spPr>
          <a:xfrm>
            <a:off x="533520" y="5361120"/>
            <a:ext cx="1465200" cy="1496880"/>
          </a:xfrm>
          <a:prstGeom prst="rect">
            <a:avLst/>
          </a:prstGeom>
          <a:ln w="0">
            <a:noFill/>
          </a:ln>
        </p:spPr>
      </p:pic>
      <p:sp>
        <p:nvSpPr>
          <p:cNvPr id="461" name="Espaço Reservado para Data 1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BEC6-9295-4CEB-A90C-4F30D9013F4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8EB-F0E0-4DE0-AB1F-4273976233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304920" y="3448080"/>
            <a:ext cx="280008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ção inflexí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38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clos lon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ível Alto de Inven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to custo de Custom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nsist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itos aju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flitos fun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685800"/>
            <a:ext cx="8902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Supply Chain - Performance Desej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286080" y="3200400"/>
            <a:ext cx="296244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Transformação dos negó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Adaptações ráp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ventário x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Baixo Custo de custom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Credibil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Operação livre de er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1523880"/>
            <a:ext cx="8844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ara atingir os objetivos de satisfação dos clientes, um crescimento sustentado e melhoria da produtividade, o processo de suprimento precisa ser rápido, eficiente, eficaz e flexíve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6475320" y="3048120"/>
            <a:ext cx="253692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es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atisfação d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atisfação do funcio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Redução dos custos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5791320" y="495288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865800" y="2670120"/>
            <a:ext cx="8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H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856320" y="2651040"/>
            <a:ext cx="131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AMANH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839280" y="2629080"/>
            <a:ext cx="16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1"/>
          <p:cNvSpPr/>
          <p:nvPr/>
        </p:nvSpPr>
        <p:spPr>
          <a:xfrm>
            <a:off x="2590920" y="495288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12"/>
          <p:cNvSpPr/>
          <p:nvPr/>
        </p:nvSpPr>
        <p:spPr>
          <a:xfrm>
            <a:off x="5762520" y="249408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865800" y="2670120"/>
            <a:ext cx="8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H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4"/>
          <p:cNvSpPr/>
          <p:nvPr/>
        </p:nvSpPr>
        <p:spPr>
          <a:xfrm>
            <a:off x="3856320" y="2651040"/>
            <a:ext cx="131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MANH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6839280" y="2629080"/>
            <a:ext cx="16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16"/>
          <p:cNvSpPr/>
          <p:nvPr/>
        </p:nvSpPr>
        <p:spPr>
          <a:xfrm>
            <a:off x="2606760" y="249408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Espaço Reservado para Data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C5B-F13D-458C-B74B-F92ADE67B79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944-64B2-42FE-A8AB-5A89861D9A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457200"/>
            <a:ext cx="9144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Objetivos Para o Proces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5"/>
          <p:cNvGrpSpPr/>
          <p:nvPr/>
        </p:nvGrpSpPr>
        <p:grpSpPr>
          <a:xfrm>
            <a:off x="34920" y="1739880"/>
            <a:ext cx="9010800" cy="4353120"/>
            <a:chOff x="34920" y="1739880"/>
            <a:chExt cx="9010800" cy="4353120"/>
          </a:xfrm>
        </p:grpSpPr>
        <p:sp>
          <p:nvSpPr>
            <p:cNvPr id="482" name="AutoShape 4"/>
            <p:cNvSpPr/>
            <p:nvPr/>
          </p:nvSpPr>
          <p:spPr>
            <a:xfrm>
              <a:off x="34920" y="1739880"/>
              <a:ext cx="901080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6"/>
            <p:cNvSpPr/>
            <p:nvPr/>
          </p:nvSpPr>
          <p:spPr>
            <a:xfrm>
              <a:off x="407880" y="203364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7"/>
            <p:cNvSpPr/>
            <p:nvPr/>
          </p:nvSpPr>
          <p:spPr>
            <a:xfrm>
              <a:off x="666720" y="203364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"/>
            <p:cNvSpPr/>
            <p:nvPr/>
          </p:nvSpPr>
          <p:spPr>
            <a:xfrm>
              <a:off x="948240" y="2021040"/>
              <a:ext cx="1381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Serviç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9"/>
            <p:cNvSpPr/>
            <p:nvPr/>
          </p:nvSpPr>
          <p:spPr>
            <a:xfrm>
              <a:off x="3077280" y="222732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0"/>
            <p:cNvSpPr/>
            <p:nvPr/>
          </p:nvSpPr>
          <p:spPr>
            <a:xfrm>
              <a:off x="3144240" y="2220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1"/>
            <p:cNvSpPr/>
            <p:nvPr/>
          </p:nvSpPr>
          <p:spPr>
            <a:xfrm>
              <a:off x="3496680" y="2041560"/>
              <a:ext cx="1626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umprir a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2"/>
            <p:cNvSpPr/>
            <p:nvPr/>
          </p:nvSpPr>
          <p:spPr>
            <a:xfrm>
              <a:off x="5385600" y="2041560"/>
              <a:ext cx="1547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promessa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3"/>
            <p:cNvSpPr/>
            <p:nvPr/>
          </p:nvSpPr>
          <p:spPr>
            <a:xfrm>
              <a:off x="136440" y="17398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4"/>
            <p:cNvSpPr/>
            <p:nvPr/>
          </p:nvSpPr>
          <p:spPr>
            <a:xfrm>
              <a:off x="136440" y="1739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5"/>
            <p:cNvSpPr/>
            <p:nvPr/>
          </p:nvSpPr>
          <p:spPr>
            <a:xfrm>
              <a:off x="13644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136440" y="17398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7"/>
            <p:cNvSpPr/>
            <p:nvPr/>
          </p:nvSpPr>
          <p:spPr>
            <a:xfrm>
              <a:off x="136440" y="1739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8"/>
            <p:cNvSpPr/>
            <p:nvPr/>
          </p:nvSpPr>
          <p:spPr>
            <a:xfrm>
              <a:off x="13644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9"/>
            <p:cNvSpPr/>
            <p:nvPr/>
          </p:nvSpPr>
          <p:spPr>
            <a:xfrm>
              <a:off x="168120" y="173988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0"/>
            <p:cNvSpPr/>
            <p:nvPr/>
          </p:nvSpPr>
          <p:spPr>
            <a:xfrm>
              <a:off x="168120" y="1739880"/>
              <a:ext cx="27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2925720" y="17398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2"/>
            <p:cNvSpPr/>
            <p:nvPr/>
          </p:nvSpPr>
          <p:spPr>
            <a:xfrm>
              <a:off x="2925720" y="1739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3"/>
            <p:cNvSpPr/>
            <p:nvPr/>
          </p:nvSpPr>
          <p:spPr>
            <a:xfrm>
              <a:off x="292572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24"/>
            <p:cNvSpPr/>
            <p:nvPr/>
          </p:nvSpPr>
          <p:spPr>
            <a:xfrm>
              <a:off x="2957400" y="173988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5"/>
            <p:cNvSpPr/>
            <p:nvPr/>
          </p:nvSpPr>
          <p:spPr>
            <a:xfrm>
              <a:off x="2957400" y="1739880"/>
              <a:ext cx="600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8959680" y="173988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7"/>
            <p:cNvSpPr/>
            <p:nvPr/>
          </p:nvSpPr>
          <p:spPr>
            <a:xfrm>
              <a:off x="8959680" y="17398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28"/>
            <p:cNvSpPr/>
            <p:nvPr/>
          </p:nvSpPr>
          <p:spPr>
            <a:xfrm>
              <a:off x="895968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29"/>
            <p:cNvSpPr/>
            <p:nvPr/>
          </p:nvSpPr>
          <p:spPr>
            <a:xfrm>
              <a:off x="8959680" y="173988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30"/>
            <p:cNvSpPr/>
            <p:nvPr/>
          </p:nvSpPr>
          <p:spPr>
            <a:xfrm>
              <a:off x="8959680" y="17398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31"/>
            <p:cNvSpPr/>
            <p:nvPr/>
          </p:nvSpPr>
          <p:spPr>
            <a:xfrm>
              <a:off x="895968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32"/>
            <p:cNvSpPr/>
            <p:nvPr/>
          </p:nvSpPr>
          <p:spPr>
            <a:xfrm>
              <a:off x="136440" y="17654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3"/>
            <p:cNvSpPr/>
            <p:nvPr/>
          </p:nvSpPr>
          <p:spPr>
            <a:xfrm>
              <a:off x="136440" y="17654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34"/>
            <p:cNvSpPr/>
            <p:nvPr/>
          </p:nvSpPr>
          <p:spPr>
            <a:xfrm>
              <a:off x="2925720" y="17654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5"/>
            <p:cNvSpPr/>
            <p:nvPr/>
          </p:nvSpPr>
          <p:spPr>
            <a:xfrm>
              <a:off x="2925720" y="17654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36"/>
            <p:cNvSpPr/>
            <p:nvPr/>
          </p:nvSpPr>
          <p:spPr>
            <a:xfrm>
              <a:off x="8959680" y="1765440"/>
              <a:ext cx="32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37"/>
            <p:cNvSpPr/>
            <p:nvPr/>
          </p:nvSpPr>
          <p:spPr>
            <a:xfrm>
              <a:off x="8959680" y="17654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38"/>
            <p:cNvSpPr/>
            <p:nvPr/>
          </p:nvSpPr>
          <p:spPr>
            <a:xfrm>
              <a:off x="407880" y="294480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9"/>
            <p:cNvSpPr/>
            <p:nvPr/>
          </p:nvSpPr>
          <p:spPr>
            <a:xfrm>
              <a:off x="666720" y="294480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40"/>
            <p:cNvSpPr/>
            <p:nvPr/>
          </p:nvSpPr>
          <p:spPr>
            <a:xfrm>
              <a:off x="982800" y="2932200"/>
              <a:ext cx="1750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Velocidad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41"/>
            <p:cNvSpPr/>
            <p:nvPr/>
          </p:nvSpPr>
          <p:spPr>
            <a:xfrm>
              <a:off x="3077280" y="29732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3144240" y="2967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43"/>
            <p:cNvSpPr/>
            <p:nvPr/>
          </p:nvSpPr>
          <p:spPr>
            <a:xfrm>
              <a:off x="3474360" y="2787480"/>
              <a:ext cx="1430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Atingir a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44"/>
            <p:cNvSpPr/>
            <p:nvPr/>
          </p:nvSpPr>
          <p:spPr>
            <a:xfrm>
              <a:off x="5310000" y="2787480"/>
              <a:ext cx="331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melhores performanc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3394800" y="3121200"/>
              <a:ext cx="438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d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46"/>
            <p:cNvSpPr/>
            <p:nvPr/>
          </p:nvSpPr>
          <p:spPr>
            <a:xfrm>
              <a:off x="3972240" y="3121200"/>
              <a:ext cx="1221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47"/>
            <p:cNvSpPr/>
            <p:nvPr/>
          </p:nvSpPr>
          <p:spPr>
            <a:xfrm>
              <a:off x="136440" y="26542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48"/>
            <p:cNvSpPr/>
            <p:nvPr/>
          </p:nvSpPr>
          <p:spPr>
            <a:xfrm>
              <a:off x="136440" y="26542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49"/>
            <p:cNvSpPr/>
            <p:nvPr/>
          </p:nvSpPr>
          <p:spPr>
            <a:xfrm>
              <a:off x="136440" y="2654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50"/>
            <p:cNvSpPr/>
            <p:nvPr/>
          </p:nvSpPr>
          <p:spPr>
            <a:xfrm>
              <a:off x="168120" y="265428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1"/>
            <p:cNvSpPr/>
            <p:nvPr/>
          </p:nvSpPr>
          <p:spPr>
            <a:xfrm>
              <a:off x="168120" y="2654280"/>
              <a:ext cx="27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52"/>
            <p:cNvSpPr/>
            <p:nvPr/>
          </p:nvSpPr>
          <p:spPr>
            <a:xfrm>
              <a:off x="2925720" y="26542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53"/>
            <p:cNvSpPr/>
            <p:nvPr/>
          </p:nvSpPr>
          <p:spPr>
            <a:xfrm>
              <a:off x="2925720" y="26542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54"/>
            <p:cNvSpPr/>
            <p:nvPr/>
          </p:nvSpPr>
          <p:spPr>
            <a:xfrm>
              <a:off x="2925720" y="2654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55"/>
            <p:cNvSpPr/>
            <p:nvPr/>
          </p:nvSpPr>
          <p:spPr>
            <a:xfrm>
              <a:off x="2957400" y="265428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56"/>
            <p:cNvSpPr/>
            <p:nvPr/>
          </p:nvSpPr>
          <p:spPr>
            <a:xfrm>
              <a:off x="2957400" y="2654280"/>
              <a:ext cx="600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7"/>
            <p:cNvSpPr/>
            <p:nvPr/>
          </p:nvSpPr>
          <p:spPr>
            <a:xfrm>
              <a:off x="8959680" y="265428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58"/>
            <p:cNvSpPr/>
            <p:nvPr/>
          </p:nvSpPr>
          <p:spPr>
            <a:xfrm>
              <a:off x="8959680" y="26542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8959680" y="2654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60"/>
            <p:cNvSpPr/>
            <p:nvPr/>
          </p:nvSpPr>
          <p:spPr>
            <a:xfrm>
              <a:off x="136440" y="26798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61"/>
            <p:cNvSpPr/>
            <p:nvPr/>
          </p:nvSpPr>
          <p:spPr>
            <a:xfrm>
              <a:off x="136440" y="26798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62"/>
            <p:cNvSpPr/>
            <p:nvPr/>
          </p:nvSpPr>
          <p:spPr>
            <a:xfrm>
              <a:off x="2925720" y="26798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63"/>
            <p:cNvSpPr/>
            <p:nvPr/>
          </p:nvSpPr>
          <p:spPr>
            <a:xfrm>
              <a:off x="2925720" y="26798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64"/>
            <p:cNvSpPr/>
            <p:nvPr/>
          </p:nvSpPr>
          <p:spPr>
            <a:xfrm>
              <a:off x="8959680" y="2679840"/>
              <a:ext cx="32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5"/>
            <p:cNvSpPr/>
            <p:nvPr/>
          </p:nvSpPr>
          <p:spPr>
            <a:xfrm>
              <a:off x="8959680" y="26798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66"/>
            <p:cNvSpPr/>
            <p:nvPr/>
          </p:nvSpPr>
          <p:spPr>
            <a:xfrm>
              <a:off x="407880" y="385776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67"/>
            <p:cNvSpPr/>
            <p:nvPr/>
          </p:nvSpPr>
          <p:spPr>
            <a:xfrm>
              <a:off x="666720" y="385776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68"/>
            <p:cNvSpPr/>
            <p:nvPr/>
          </p:nvSpPr>
          <p:spPr>
            <a:xfrm>
              <a:off x="913680" y="3846600"/>
              <a:ext cx="939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Cust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69"/>
            <p:cNvSpPr/>
            <p:nvPr/>
          </p:nvSpPr>
          <p:spPr>
            <a:xfrm>
              <a:off x="3077280" y="405288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70"/>
            <p:cNvSpPr/>
            <p:nvPr/>
          </p:nvSpPr>
          <p:spPr>
            <a:xfrm>
              <a:off x="3144240" y="404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71"/>
            <p:cNvSpPr/>
            <p:nvPr/>
          </p:nvSpPr>
          <p:spPr>
            <a:xfrm>
              <a:off x="3481200" y="3867120"/>
              <a:ext cx="1413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Reduzir 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72"/>
            <p:cNvSpPr/>
            <p:nvPr/>
          </p:nvSpPr>
          <p:spPr>
            <a:xfrm>
              <a:off x="5142240" y="3867120"/>
              <a:ext cx="1559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usto total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73"/>
            <p:cNvSpPr/>
            <p:nvPr/>
          </p:nvSpPr>
          <p:spPr>
            <a:xfrm>
              <a:off x="6929280" y="3867120"/>
              <a:ext cx="120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logístic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74"/>
            <p:cNvSpPr/>
            <p:nvPr/>
          </p:nvSpPr>
          <p:spPr>
            <a:xfrm>
              <a:off x="136440" y="35654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136440" y="35654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>
              <a:off x="136440" y="3565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77"/>
            <p:cNvSpPr/>
            <p:nvPr/>
          </p:nvSpPr>
          <p:spPr>
            <a:xfrm>
              <a:off x="168120" y="356544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78"/>
            <p:cNvSpPr/>
            <p:nvPr/>
          </p:nvSpPr>
          <p:spPr>
            <a:xfrm>
              <a:off x="168120" y="3565440"/>
              <a:ext cx="27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79"/>
            <p:cNvSpPr/>
            <p:nvPr/>
          </p:nvSpPr>
          <p:spPr>
            <a:xfrm>
              <a:off x="2925720" y="35654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0"/>
            <p:cNvSpPr/>
            <p:nvPr/>
          </p:nvSpPr>
          <p:spPr>
            <a:xfrm>
              <a:off x="2925720" y="35654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1"/>
            <p:cNvSpPr/>
            <p:nvPr/>
          </p:nvSpPr>
          <p:spPr>
            <a:xfrm>
              <a:off x="2925720" y="3565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82"/>
            <p:cNvSpPr/>
            <p:nvPr/>
          </p:nvSpPr>
          <p:spPr>
            <a:xfrm>
              <a:off x="2957400" y="356544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3"/>
            <p:cNvSpPr/>
            <p:nvPr/>
          </p:nvSpPr>
          <p:spPr>
            <a:xfrm>
              <a:off x="2957400" y="3565440"/>
              <a:ext cx="600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84"/>
            <p:cNvSpPr/>
            <p:nvPr/>
          </p:nvSpPr>
          <p:spPr>
            <a:xfrm>
              <a:off x="8959680" y="356544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5"/>
            <p:cNvSpPr/>
            <p:nvPr/>
          </p:nvSpPr>
          <p:spPr>
            <a:xfrm>
              <a:off x="8959680" y="356544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86"/>
            <p:cNvSpPr/>
            <p:nvPr/>
          </p:nvSpPr>
          <p:spPr>
            <a:xfrm>
              <a:off x="8959680" y="3565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87"/>
            <p:cNvSpPr/>
            <p:nvPr/>
          </p:nvSpPr>
          <p:spPr>
            <a:xfrm>
              <a:off x="136440" y="359100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88"/>
            <p:cNvSpPr/>
            <p:nvPr/>
          </p:nvSpPr>
          <p:spPr>
            <a:xfrm>
              <a:off x="136440" y="359100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89"/>
            <p:cNvSpPr/>
            <p:nvPr/>
          </p:nvSpPr>
          <p:spPr>
            <a:xfrm>
              <a:off x="2925720" y="359100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0"/>
            <p:cNvSpPr/>
            <p:nvPr/>
          </p:nvSpPr>
          <p:spPr>
            <a:xfrm>
              <a:off x="2925720" y="359100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91"/>
            <p:cNvSpPr/>
            <p:nvPr/>
          </p:nvSpPr>
          <p:spPr>
            <a:xfrm>
              <a:off x="8959680" y="3591000"/>
              <a:ext cx="32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2"/>
            <p:cNvSpPr/>
            <p:nvPr/>
          </p:nvSpPr>
          <p:spPr>
            <a:xfrm>
              <a:off x="8959680" y="359100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93"/>
            <p:cNvSpPr/>
            <p:nvPr/>
          </p:nvSpPr>
          <p:spPr>
            <a:xfrm>
              <a:off x="407880" y="476892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94"/>
            <p:cNvSpPr/>
            <p:nvPr/>
          </p:nvSpPr>
          <p:spPr>
            <a:xfrm>
              <a:off x="666720" y="476892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95"/>
            <p:cNvSpPr/>
            <p:nvPr/>
          </p:nvSpPr>
          <p:spPr>
            <a:xfrm>
              <a:off x="973800" y="4757760"/>
              <a:ext cx="1657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Satisfaçã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96"/>
            <p:cNvSpPr/>
            <p:nvPr/>
          </p:nvSpPr>
          <p:spPr>
            <a:xfrm>
              <a:off x="3077280" y="496728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97"/>
            <p:cNvSpPr/>
            <p:nvPr/>
          </p:nvSpPr>
          <p:spPr>
            <a:xfrm>
              <a:off x="3144240" y="49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98"/>
            <p:cNvSpPr/>
            <p:nvPr/>
          </p:nvSpPr>
          <p:spPr>
            <a:xfrm>
              <a:off x="3490200" y="4781520"/>
              <a:ext cx="1510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onquista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99"/>
            <p:cNvSpPr/>
            <p:nvPr/>
          </p:nvSpPr>
          <p:spPr>
            <a:xfrm>
              <a:off x="5152680" y="478152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da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00"/>
            <p:cNvSpPr/>
            <p:nvPr/>
          </p:nvSpPr>
          <p:spPr>
            <a:xfrm>
              <a:off x="5759280" y="4781520"/>
              <a:ext cx="1689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lealdade d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1"/>
            <p:cNvSpPr/>
            <p:nvPr/>
          </p:nvSpPr>
          <p:spPr>
            <a:xfrm>
              <a:off x="7658640" y="4781520"/>
              <a:ext cx="927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02"/>
            <p:cNvSpPr/>
            <p:nvPr/>
          </p:nvSpPr>
          <p:spPr>
            <a:xfrm>
              <a:off x="136440" y="44798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03"/>
            <p:cNvSpPr/>
            <p:nvPr/>
          </p:nvSpPr>
          <p:spPr>
            <a:xfrm>
              <a:off x="136440" y="4479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4"/>
            <p:cNvSpPr/>
            <p:nvPr/>
          </p:nvSpPr>
          <p:spPr>
            <a:xfrm>
              <a:off x="136440" y="44798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05"/>
            <p:cNvSpPr/>
            <p:nvPr/>
          </p:nvSpPr>
          <p:spPr>
            <a:xfrm>
              <a:off x="168120" y="447984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06"/>
            <p:cNvSpPr/>
            <p:nvPr/>
          </p:nvSpPr>
          <p:spPr>
            <a:xfrm>
              <a:off x="168120" y="4479840"/>
              <a:ext cx="27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07"/>
            <p:cNvSpPr/>
            <p:nvPr/>
          </p:nvSpPr>
          <p:spPr>
            <a:xfrm>
              <a:off x="2925720" y="44798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08"/>
            <p:cNvSpPr/>
            <p:nvPr/>
          </p:nvSpPr>
          <p:spPr>
            <a:xfrm>
              <a:off x="2925720" y="4479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09"/>
            <p:cNvSpPr/>
            <p:nvPr/>
          </p:nvSpPr>
          <p:spPr>
            <a:xfrm>
              <a:off x="2925720" y="44798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10"/>
            <p:cNvSpPr/>
            <p:nvPr/>
          </p:nvSpPr>
          <p:spPr>
            <a:xfrm>
              <a:off x="2957400" y="447984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11"/>
            <p:cNvSpPr/>
            <p:nvPr/>
          </p:nvSpPr>
          <p:spPr>
            <a:xfrm>
              <a:off x="2957400" y="4479840"/>
              <a:ext cx="600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12"/>
            <p:cNvSpPr/>
            <p:nvPr/>
          </p:nvSpPr>
          <p:spPr>
            <a:xfrm>
              <a:off x="8959680" y="447984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13"/>
            <p:cNvSpPr/>
            <p:nvPr/>
          </p:nvSpPr>
          <p:spPr>
            <a:xfrm>
              <a:off x="8959680" y="447984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4"/>
            <p:cNvSpPr/>
            <p:nvPr/>
          </p:nvSpPr>
          <p:spPr>
            <a:xfrm>
              <a:off x="8959680" y="44798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15"/>
            <p:cNvSpPr/>
            <p:nvPr/>
          </p:nvSpPr>
          <p:spPr>
            <a:xfrm>
              <a:off x="136440" y="4505400"/>
              <a:ext cx="3168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16"/>
            <p:cNvSpPr/>
            <p:nvPr/>
          </p:nvSpPr>
          <p:spPr>
            <a:xfrm>
              <a:off x="136440" y="4505400"/>
              <a:ext cx="1800" cy="88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117"/>
            <p:cNvSpPr/>
            <p:nvPr/>
          </p:nvSpPr>
          <p:spPr>
            <a:xfrm>
              <a:off x="136440" y="5392800"/>
              <a:ext cx="31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18"/>
            <p:cNvSpPr/>
            <p:nvPr/>
          </p:nvSpPr>
          <p:spPr>
            <a:xfrm>
              <a:off x="136440" y="53928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19"/>
            <p:cNvSpPr/>
            <p:nvPr/>
          </p:nvSpPr>
          <p:spPr>
            <a:xfrm>
              <a:off x="13644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120"/>
            <p:cNvSpPr/>
            <p:nvPr/>
          </p:nvSpPr>
          <p:spPr>
            <a:xfrm>
              <a:off x="136440" y="5392800"/>
              <a:ext cx="31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21"/>
            <p:cNvSpPr/>
            <p:nvPr/>
          </p:nvSpPr>
          <p:spPr>
            <a:xfrm>
              <a:off x="136440" y="53928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22"/>
            <p:cNvSpPr/>
            <p:nvPr/>
          </p:nvSpPr>
          <p:spPr>
            <a:xfrm>
              <a:off x="13644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23"/>
            <p:cNvSpPr/>
            <p:nvPr/>
          </p:nvSpPr>
          <p:spPr>
            <a:xfrm>
              <a:off x="168120" y="5392800"/>
              <a:ext cx="2757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24"/>
            <p:cNvSpPr/>
            <p:nvPr/>
          </p:nvSpPr>
          <p:spPr>
            <a:xfrm>
              <a:off x="168120" y="5392800"/>
              <a:ext cx="27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25"/>
            <p:cNvSpPr/>
            <p:nvPr/>
          </p:nvSpPr>
          <p:spPr>
            <a:xfrm>
              <a:off x="2925720" y="4505400"/>
              <a:ext cx="3168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26"/>
            <p:cNvSpPr/>
            <p:nvPr/>
          </p:nvSpPr>
          <p:spPr>
            <a:xfrm>
              <a:off x="2925720" y="4505400"/>
              <a:ext cx="1800" cy="88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27"/>
            <p:cNvSpPr/>
            <p:nvPr/>
          </p:nvSpPr>
          <p:spPr>
            <a:xfrm>
              <a:off x="2925720" y="5392800"/>
              <a:ext cx="31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8"/>
            <p:cNvSpPr/>
            <p:nvPr/>
          </p:nvSpPr>
          <p:spPr>
            <a:xfrm>
              <a:off x="2925720" y="53928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29"/>
            <p:cNvSpPr/>
            <p:nvPr/>
          </p:nvSpPr>
          <p:spPr>
            <a:xfrm>
              <a:off x="292572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30"/>
            <p:cNvSpPr/>
            <p:nvPr/>
          </p:nvSpPr>
          <p:spPr>
            <a:xfrm>
              <a:off x="2957400" y="5392800"/>
              <a:ext cx="60022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1"/>
            <p:cNvSpPr/>
            <p:nvPr/>
          </p:nvSpPr>
          <p:spPr>
            <a:xfrm>
              <a:off x="2957400" y="5392800"/>
              <a:ext cx="600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2"/>
            <p:cNvSpPr/>
            <p:nvPr/>
          </p:nvSpPr>
          <p:spPr>
            <a:xfrm>
              <a:off x="8959680" y="4505400"/>
              <a:ext cx="3204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33"/>
            <p:cNvSpPr/>
            <p:nvPr/>
          </p:nvSpPr>
          <p:spPr>
            <a:xfrm>
              <a:off x="8959680" y="4505400"/>
              <a:ext cx="1800" cy="88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34"/>
            <p:cNvSpPr/>
            <p:nvPr/>
          </p:nvSpPr>
          <p:spPr>
            <a:xfrm>
              <a:off x="8959680" y="5392800"/>
              <a:ext cx="320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35"/>
            <p:cNvSpPr/>
            <p:nvPr/>
          </p:nvSpPr>
          <p:spPr>
            <a:xfrm>
              <a:off x="8959680" y="53928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36"/>
            <p:cNvSpPr/>
            <p:nvPr/>
          </p:nvSpPr>
          <p:spPr>
            <a:xfrm>
              <a:off x="895968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37"/>
            <p:cNvSpPr/>
            <p:nvPr/>
          </p:nvSpPr>
          <p:spPr>
            <a:xfrm>
              <a:off x="8959680" y="5392800"/>
              <a:ext cx="320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38"/>
            <p:cNvSpPr/>
            <p:nvPr/>
          </p:nvSpPr>
          <p:spPr>
            <a:xfrm>
              <a:off x="8959680" y="53928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39"/>
            <p:cNvSpPr/>
            <p:nvPr/>
          </p:nvSpPr>
          <p:spPr>
            <a:xfrm>
              <a:off x="895968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Espaço Reservado para Data 14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E737-A221-40E6-A31A-01EF0D2CD4E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34AD-53CC-4540-B3BD-66A89078E2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0" y="380880"/>
            <a:ext cx="886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Times New Roman"/>
              </a:rPr>
              <a:t>Processos - Mudanças Necessá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209520" y="1123920"/>
            <a:ext cx="373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Foco Inte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Orientação Fun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Transaçõ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Seqüen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Comando &amp; Contro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Custos Loc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Lead Times long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4"/>
          <p:cNvSpPr/>
          <p:nvPr/>
        </p:nvSpPr>
        <p:spPr>
          <a:xfrm>
            <a:off x="4381560" y="104760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5"/>
          <p:cNvSpPr/>
          <p:nvPr/>
        </p:nvSpPr>
        <p:spPr>
          <a:xfrm>
            <a:off x="4381560" y="186696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6"/>
          <p:cNvSpPr/>
          <p:nvPr/>
        </p:nvSpPr>
        <p:spPr>
          <a:xfrm>
            <a:off x="4402080" y="264780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7"/>
          <p:cNvSpPr/>
          <p:nvPr/>
        </p:nvSpPr>
        <p:spPr>
          <a:xfrm>
            <a:off x="4402080" y="342756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8"/>
          <p:cNvSpPr/>
          <p:nvPr/>
        </p:nvSpPr>
        <p:spPr>
          <a:xfrm>
            <a:off x="4400640" y="422748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5753160" y="1143000"/>
            <a:ext cx="33908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Foco do Cl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Resultado Glob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Process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Flexível - Integr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Empower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Custos Tot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Resposta Ráp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10"/>
          <p:cNvSpPr/>
          <p:nvPr/>
        </p:nvSpPr>
        <p:spPr>
          <a:xfrm>
            <a:off x="4419720" y="502776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1"/>
          <p:cNvSpPr/>
          <p:nvPr/>
        </p:nvSpPr>
        <p:spPr>
          <a:xfrm>
            <a:off x="4419720" y="578952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Espaço Reservado para Data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2F1-A196-4C21-8E99-AD3714092D4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B92C-69EC-42A2-81FE-A7B976E38E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0066"/>
                </a:solidFill>
                <a:latin typeface="Arial Black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99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66"/>
                </a:solidFill>
                <a:latin typeface="Times New Roman"/>
              </a:rPr>
              <a:t>A LOGÍSTICA PARA UMA ORGANIZ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PROCESS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692360" y="3500280"/>
            <a:ext cx="6784920" cy="655920"/>
          </a:xfrm>
          <a:prstGeom prst="rightArrow">
            <a:avLst>
              <a:gd name="adj1" fmla="val 50000"/>
              <a:gd name="adj2" fmla="val 517829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301760" y="4324320"/>
            <a:ext cx="100656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RN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89320" y="4324320"/>
            <a:ext cx="10080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476520" y="4324320"/>
            <a:ext cx="100656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562640" y="4324320"/>
            <a:ext cx="100944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R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651640" y="4324320"/>
            <a:ext cx="10062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737400" y="4324320"/>
            <a:ext cx="10080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NAI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R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7824960" y="4324320"/>
            <a:ext cx="10062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2"/>
          <p:cNvSpPr/>
          <p:nvPr/>
        </p:nvSpPr>
        <p:spPr>
          <a:xfrm flipH="1">
            <a:off x="1619280" y="5229360"/>
            <a:ext cx="6781680" cy="655560"/>
          </a:xfrm>
          <a:prstGeom prst="rightArrow">
            <a:avLst>
              <a:gd name="adj1" fmla="val 50000"/>
              <a:gd name="adj2" fmla="val 517866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Espaço Reservado para Data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D56-FFEF-40F8-BD40-7FDACC9EBB0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5C8-91BC-4CA1-86F7-8A436A2FA3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0000"/>
                </a:solidFill>
                <a:latin typeface="Times New Roman"/>
              </a:rPr>
              <a:t>LOGÍSTIC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LANEJAMENTO DA P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PRIMENTO E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427640" y="3429000"/>
            <a:ext cx="520560" cy="44460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3300480" y="3892680"/>
            <a:ext cx="2349360" cy="749160"/>
          </a:xfrm>
          <a:prstGeom prst="roundRect">
            <a:avLst>
              <a:gd name="adj" fmla="val 12440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TO DE V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5205240" y="4807080"/>
            <a:ext cx="2349720" cy="749160"/>
          </a:xfrm>
          <a:prstGeom prst="roundRect">
            <a:avLst>
              <a:gd name="adj" fmla="val 12440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7"/>
          <p:cNvSpPr/>
          <p:nvPr/>
        </p:nvSpPr>
        <p:spPr>
          <a:xfrm>
            <a:off x="1547640" y="4807080"/>
            <a:ext cx="2349720" cy="749160"/>
          </a:xfrm>
          <a:prstGeom prst="roundRect">
            <a:avLst>
              <a:gd name="adj" fmla="val 1244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8"/>
          <p:cNvSpPr/>
          <p:nvPr/>
        </p:nvSpPr>
        <p:spPr>
          <a:xfrm>
            <a:off x="3446640" y="5797440"/>
            <a:ext cx="2349360" cy="749520"/>
          </a:xfrm>
          <a:prstGeom prst="roundRect">
            <a:avLst>
              <a:gd name="adj" fmla="val 12440"/>
            </a:avLst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log"/>
          <p:cNvPicPr/>
          <p:nvPr/>
        </p:nvPicPr>
        <p:blipFill>
          <a:blip r:embed="rId1"/>
          <a:stretch/>
        </p:blipFill>
        <p:spPr>
          <a:xfrm>
            <a:off x="8229600" y="609480"/>
            <a:ext cx="399960" cy="411120"/>
          </a:xfrm>
          <a:prstGeom prst="rect">
            <a:avLst/>
          </a:prstGeom>
          <a:ln w="0">
            <a:noFill/>
          </a:ln>
        </p:spPr>
      </p:pic>
      <p:sp>
        <p:nvSpPr>
          <p:cNvPr id="639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174F-BEFF-4D71-83D7-72B6841D0EF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72A-BBA6-41CA-9369-D53CAF7766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9151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3333cc"/>
                </a:solidFill>
                <a:latin typeface="Arial"/>
              </a:rPr>
              <a:t>ESTÁGIOS DE INTEG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Group 7"/>
          <p:cNvGrpSpPr/>
          <p:nvPr/>
        </p:nvGrpSpPr>
        <p:grpSpPr>
          <a:xfrm>
            <a:off x="69840" y="3216240"/>
            <a:ext cx="9001080" cy="1228680"/>
            <a:chOff x="69840" y="3216240"/>
            <a:chExt cx="9001080" cy="1228680"/>
          </a:xfrm>
        </p:grpSpPr>
        <p:sp>
          <p:nvSpPr>
            <p:cNvPr id="647" name="Rectangle 8"/>
            <p:cNvSpPr/>
            <p:nvPr/>
          </p:nvSpPr>
          <p:spPr>
            <a:xfrm>
              <a:off x="69840" y="3216240"/>
              <a:ext cx="9001080" cy="454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INTERMEDIÁRIO - ORIENTAÇÃO POR PROCES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9"/>
            <p:cNvSpPr/>
            <p:nvPr/>
          </p:nvSpPr>
          <p:spPr>
            <a:xfrm>
              <a:off x="24120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>
              <a:off x="130824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11"/>
            <p:cNvSpPr/>
            <p:nvPr/>
          </p:nvSpPr>
          <p:spPr>
            <a:xfrm>
              <a:off x="237492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12"/>
            <p:cNvSpPr/>
            <p:nvPr/>
          </p:nvSpPr>
          <p:spPr>
            <a:xfrm>
              <a:off x="344160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13"/>
            <p:cNvSpPr/>
            <p:nvPr/>
          </p:nvSpPr>
          <p:spPr>
            <a:xfrm>
              <a:off x="450864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>
              <a:off x="557532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15"/>
            <p:cNvSpPr/>
            <p:nvPr/>
          </p:nvSpPr>
          <p:spPr>
            <a:xfrm>
              <a:off x="664200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16"/>
            <p:cNvSpPr/>
            <p:nvPr/>
          </p:nvSpPr>
          <p:spPr>
            <a:xfrm>
              <a:off x="770904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299880" y="398772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NEGÓ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1366920" y="3987720"/>
              <a:ext cx="115236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9"/>
            <p:cNvSpPr/>
            <p:nvPr/>
          </p:nvSpPr>
          <p:spPr>
            <a:xfrm>
              <a:off x="243360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FINANÇ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20"/>
            <p:cNvSpPr/>
            <p:nvPr/>
          </p:nvSpPr>
          <p:spPr>
            <a:xfrm>
              <a:off x="350028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LOGÍST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21"/>
            <p:cNvSpPr/>
            <p:nvPr/>
          </p:nvSpPr>
          <p:spPr>
            <a:xfrm>
              <a:off x="456732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PRODU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22"/>
            <p:cNvSpPr/>
            <p:nvPr/>
          </p:nvSpPr>
          <p:spPr>
            <a:xfrm>
              <a:off x="563400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VEN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670068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SA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24"/>
            <p:cNvSpPr/>
            <p:nvPr/>
          </p:nvSpPr>
          <p:spPr>
            <a:xfrm>
              <a:off x="7767720" y="3995640"/>
              <a:ext cx="115236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25"/>
          <p:cNvGrpSpPr/>
          <p:nvPr/>
        </p:nvGrpSpPr>
        <p:grpSpPr>
          <a:xfrm>
            <a:off x="33480" y="817560"/>
            <a:ext cx="9075600" cy="2236680"/>
            <a:chOff x="33480" y="817560"/>
            <a:chExt cx="9075600" cy="2236680"/>
          </a:xfrm>
        </p:grpSpPr>
        <p:sp>
          <p:nvSpPr>
            <p:cNvPr id="665" name="Rectangle 26"/>
            <p:cNvSpPr/>
            <p:nvPr/>
          </p:nvSpPr>
          <p:spPr>
            <a:xfrm>
              <a:off x="108000" y="817560"/>
              <a:ext cx="9001080" cy="45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TUAL - ORIENTAÇÃO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27"/>
            <p:cNvSpPr/>
            <p:nvPr/>
          </p:nvSpPr>
          <p:spPr>
            <a:xfrm>
              <a:off x="127080" y="1384200"/>
              <a:ext cx="117612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28"/>
            <p:cNvSpPr/>
            <p:nvPr/>
          </p:nvSpPr>
          <p:spPr>
            <a:xfrm>
              <a:off x="127080" y="1985760"/>
              <a:ext cx="117612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9"/>
            <p:cNvSpPr/>
            <p:nvPr/>
          </p:nvSpPr>
          <p:spPr>
            <a:xfrm>
              <a:off x="7764480" y="1985760"/>
              <a:ext cx="11764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0"/>
            <p:cNvSpPr/>
            <p:nvPr/>
          </p:nvSpPr>
          <p:spPr>
            <a:xfrm>
              <a:off x="7737480" y="1384200"/>
              <a:ext cx="11764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1"/>
            <p:cNvSpPr/>
            <p:nvPr/>
          </p:nvSpPr>
          <p:spPr>
            <a:xfrm>
              <a:off x="1649520" y="1985760"/>
              <a:ext cx="11746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2"/>
            <p:cNvSpPr/>
            <p:nvPr/>
          </p:nvSpPr>
          <p:spPr>
            <a:xfrm>
              <a:off x="3171960" y="1985760"/>
              <a:ext cx="11746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3"/>
            <p:cNvSpPr/>
            <p:nvPr/>
          </p:nvSpPr>
          <p:spPr>
            <a:xfrm>
              <a:off x="4694400" y="1985760"/>
              <a:ext cx="11746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4"/>
            <p:cNvSpPr/>
            <p:nvPr/>
          </p:nvSpPr>
          <p:spPr>
            <a:xfrm>
              <a:off x="6216480" y="1985760"/>
              <a:ext cx="117504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35"/>
            <p:cNvSpPr/>
            <p:nvPr/>
          </p:nvSpPr>
          <p:spPr>
            <a:xfrm>
              <a:off x="1649520" y="138420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36"/>
            <p:cNvSpPr/>
            <p:nvPr/>
          </p:nvSpPr>
          <p:spPr>
            <a:xfrm>
              <a:off x="3171960" y="138420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7"/>
            <p:cNvSpPr/>
            <p:nvPr/>
          </p:nvSpPr>
          <p:spPr>
            <a:xfrm>
              <a:off x="4694400" y="138420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8"/>
            <p:cNvSpPr/>
            <p:nvPr/>
          </p:nvSpPr>
          <p:spPr>
            <a:xfrm>
              <a:off x="6216480" y="1384200"/>
              <a:ext cx="117504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9"/>
            <p:cNvSpPr/>
            <p:nvPr/>
          </p:nvSpPr>
          <p:spPr>
            <a:xfrm>
              <a:off x="33480" y="1488960"/>
              <a:ext cx="138096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FORNECE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40"/>
            <p:cNvSpPr/>
            <p:nvPr/>
          </p:nvSpPr>
          <p:spPr>
            <a:xfrm>
              <a:off x="3218040" y="1487520"/>
              <a:ext cx="10666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41"/>
            <p:cNvSpPr/>
            <p:nvPr/>
          </p:nvSpPr>
          <p:spPr>
            <a:xfrm>
              <a:off x="1695600" y="1487520"/>
              <a:ext cx="10666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OMPR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2"/>
            <p:cNvSpPr/>
            <p:nvPr/>
          </p:nvSpPr>
          <p:spPr>
            <a:xfrm>
              <a:off x="4676760" y="148752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DISTRIBUI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43"/>
            <p:cNvSpPr/>
            <p:nvPr/>
          </p:nvSpPr>
          <p:spPr>
            <a:xfrm>
              <a:off x="6199200" y="148752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FATUR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4"/>
            <p:cNvSpPr/>
            <p:nvPr/>
          </p:nvSpPr>
          <p:spPr>
            <a:xfrm>
              <a:off x="109440" y="2136600"/>
              <a:ext cx="12114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LABORATO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45"/>
            <p:cNvSpPr/>
            <p:nvPr/>
          </p:nvSpPr>
          <p:spPr>
            <a:xfrm>
              <a:off x="1695600" y="2136600"/>
              <a:ext cx="10666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46"/>
            <p:cNvSpPr/>
            <p:nvPr/>
          </p:nvSpPr>
          <p:spPr>
            <a:xfrm>
              <a:off x="3005280" y="2138400"/>
              <a:ext cx="153324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47"/>
            <p:cNvSpPr/>
            <p:nvPr/>
          </p:nvSpPr>
          <p:spPr>
            <a:xfrm>
              <a:off x="4676760" y="2074680"/>
              <a:ext cx="1209600" cy="393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ONTROLE DE MATERIA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48"/>
            <p:cNvSpPr/>
            <p:nvPr/>
          </p:nvSpPr>
          <p:spPr>
            <a:xfrm>
              <a:off x="6261120" y="2074680"/>
              <a:ext cx="1068480" cy="393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SERVIÇO AO CLI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49"/>
            <p:cNvSpPr/>
            <p:nvPr/>
          </p:nvSpPr>
          <p:spPr>
            <a:xfrm>
              <a:off x="7783560" y="1487520"/>
              <a:ext cx="10684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50"/>
            <p:cNvSpPr/>
            <p:nvPr/>
          </p:nvSpPr>
          <p:spPr>
            <a:xfrm>
              <a:off x="7783560" y="2136600"/>
              <a:ext cx="11620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51"/>
            <p:cNvSpPr/>
            <p:nvPr/>
          </p:nvSpPr>
          <p:spPr>
            <a:xfrm>
              <a:off x="3171960" y="258444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52"/>
            <p:cNvSpPr/>
            <p:nvPr/>
          </p:nvSpPr>
          <p:spPr>
            <a:xfrm>
              <a:off x="4694400" y="258444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53"/>
            <p:cNvSpPr/>
            <p:nvPr/>
          </p:nvSpPr>
          <p:spPr>
            <a:xfrm>
              <a:off x="3154320" y="271116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NEGÓ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54"/>
            <p:cNvSpPr/>
            <p:nvPr/>
          </p:nvSpPr>
          <p:spPr>
            <a:xfrm>
              <a:off x="4676760" y="271116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VEN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55"/>
          <p:cNvGrpSpPr/>
          <p:nvPr/>
        </p:nvGrpSpPr>
        <p:grpSpPr>
          <a:xfrm>
            <a:off x="142920" y="4816440"/>
            <a:ext cx="9001080" cy="1976760"/>
            <a:chOff x="142920" y="4816440"/>
            <a:chExt cx="9001080" cy="1976760"/>
          </a:xfrm>
        </p:grpSpPr>
        <p:sp>
          <p:nvSpPr>
            <p:cNvPr id="695" name="Rectangle 56"/>
            <p:cNvSpPr/>
            <p:nvPr/>
          </p:nvSpPr>
          <p:spPr>
            <a:xfrm>
              <a:off x="142920" y="4816440"/>
              <a:ext cx="900108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FINAL - INTEGRAÇÃO DOS  PROCES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57"/>
            <p:cNvSpPr/>
            <p:nvPr/>
          </p:nvSpPr>
          <p:spPr>
            <a:xfrm>
              <a:off x="4578120" y="5378400"/>
              <a:ext cx="227772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58"/>
            <p:cNvSpPr/>
            <p:nvPr/>
          </p:nvSpPr>
          <p:spPr>
            <a:xfrm>
              <a:off x="287280" y="5378400"/>
              <a:ext cx="227916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59"/>
            <p:cNvSpPr/>
            <p:nvPr/>
          </p:nvSpPr>
          <p:spPr>
            <a:xfrm>
              <a:off x="2430360" y="5378400"/>
              <a:ext cx="227916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e824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60"/>
            <p:cNvSpPr/>
            <p:nvPr/>
          </p:nvSpPr>
          <p:spPr>
            <a:xfrm>
              <a:off x="333360" y="5641920"/>
              <a:ext cx="21808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SUPRI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61"/>
            <p:cNvSpPr/>
            <p:nvPr/>
          </p:nvSpPr>
          <p:spPr>
            <a:xfrm>
              <a:off x="4638600" y="5641920"/>
              <a:ext cx="221904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ATEND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62"/>
            <p:cNvSpPr/>
            <p:nvPr/>
          </p:nvSpPr>
          <p:spPr>
            <a:xfrm>
              <a:off x="2504880" y="5641920"/>
              <a:ext cx="2104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MANUFA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63"/>
            <p:cNvSpPr/>
            <p:nvPr/>
          </p:nvSpPr>
          <p:spPr>
            <a:xfrm>
              <a:off x="3359160" y="6291000"/>
              <a:ext cx="25300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INTEGR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Oval 64"/>
            <p:cNvSpPr/>
            <p:nvPr/>
          </p:nvSpPr>
          <p:spPr>
            <a:xfrm>
              <a:off x="6719760" y="5378400"/>
              <a:ext cx="227916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65"/>
            <p:cNvSpPr/>
            <p:nvPr/>
          </p:nvSpPr>
          <p:spPr>
            <a:xfrm>
              <a:off x="6848280" y="5641920"/>
              <a:ext cx="214272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VEN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5" name="AutoShape 66"/>
            <p:cNvCxnSpPr>
              <a:stCxn id="697" idx="4"/>
              <a:endCxn id="703" idx="4"/>
            </p:cNvCxnSpPr>
            <p:nvPr/>
          </p:nvCxnSpPr>
          <p:spPr>
            <a:xfrm flipH="1" rot="16200000">
              <a:off x="4641120" y="3070800"/>
              <a:ext cx="2520" cy="6432840"/>
            </a:xfrm>
            <a:prstGeom prst="bentConnector3">
              <a:avLst>
                <a:gd name="adj1" fmla="val 23483333"/>
              </a:avLst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706" name="Espaço Reservado para Data 6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75F1-D148-41FF-8175-73D6D2CBDB8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4D27-124E-4925-A28B-3965611597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38160"/>
            <a:ext cx="9151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PROCESSOS INTEG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7"/>
          <p:cNvSpPr/>
          <p:nvPr/>
        </p:nvSpPr>
        <p:spPr>
          <a:xfrm>
            <a:off x="977760" y="1511280"/>
            <a:ext cx="7188480" cy="3987720"/>
          </a:xfrm>
          <a:prstGeom prst="ellipse">
            <a:avLst/>
          </a:prstGeom>
          <a:noFill/>
          <a:ln w="507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Object 8"/>
          <p:cNvGraphicFramePr/>
          <p:nvPr/>
        </p:nvGraphicFramePr>
        <p:xfrm>
          <a:off x="7236000" y="4043520"/>
          <a:ext cx="1377720" cy="105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043520"/>
                    <a:ext cx="1377720" cy="105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9"/>
          <p:cNvGraphicFramePr/>
          <p:nvPr/>
        </p:nvGraphicFramePr>
        <p:xfrm>
          <a:off x="7162920" y="1487520"/>
          <a:ext cx="13111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487520"/>
                    <a:ext cx="13111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10"/>
          <p:cNvGraphicFramePr/>
          <p:nvPr/>
        </p:nvGraphicFramePr>
        <p:xfrm>
          <a:off x="3564000" y="4883040"/>
          <a:ext cx="201600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883040"/>
                    <a:ext cx="2016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3960720" y="2916360"/>
          <a:ext cx="1222560" cy="11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0720" y="2916360"/>
                    <a:ext cx="122256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12"/>
          <p:cNvGraphicFramePr/>
          <p:nvPr/>
        </p:nvGraphicFramePr>
        <p:xfrm>
          <a:off x="3843360" y="914400"/>
          <a:ext cx="145728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3360" y="914400"/>
                    <a:ext cx="1457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13"/>
          <p:cNvGraphicFramePr/>
          <p:nvPr/>
        </p:nvGraphicFramePr>
        <p:xfrm>
          <a:off x="554040" y="1447920"/>
          <a:ext cx="884160" cy="120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5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4040" y="1447920"/>
                    <a:ext cx="8841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14"/>
          <p:cNvGraphicFramePr/>
          <p:nvPr/>
        </p:nvGraphicFramePr>
        <p:xfrm>
          <a:off x="1511280" y="2085840"/>
          <a:ext cx="54612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7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11280" y="2085840"/>
                    <a:ext cx="5461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Rectangle 15"/>
          <p:cNvSpPr/>
          <p:nvPr/>
        </p:nvSpPr>
        <p:spPr>
          <a:xfrm>
            <a:off x="509760" y="2646360"/>
            <a:ext cx="178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ENDIMENTO DO PE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6"/>
          <p:cNvSpPr/>
          <p:nvPr/>
        </p:nvSpPr>
        <p:spPr>
          <a:xfrm>
            <a:off x="7005600" y="2684520"/>
            <a:ext cx="1781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NSPORTE &amp; ENTR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3367080" y="2189160"/>
            <a:ext cx="235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LACIONAMENTO COM O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3767040" y="4151160"/>
            <a:ext cx="15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9"/>
          <p:cNvSpPr/>
          <p:nvPr/>
        </p:nvSpPr>
        <p:spPr>
          <a:xfrm>
            <a:off x="528480" y="5237280"/>
            <a:ext cx="15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0"/>
          <p:cNvSpPr/>
          <p:nvPr/>
        </p:nvSpPr>
        <p:spPr>
          <a:xfrm>
            <a:off x="3048120" y="5846760"/>
            <a:ext cx="3124080" cy="9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NUFATURA &amp; SUP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1"/>
          <p:cNvSpPr/>
          <p:nvPr/>
        </p:nvSpPr>
        <p:spPr>
          <a:xfrm>
            <a:off x="6948360" y="5237280"/>
            <a:ext cx="2138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LAÇÃO COM FORNEC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Object 22"/>
          <p:cNvGraphicFramePr/>
          <p:nvPr/>
        </p:nvGraphicFramePr>
        <p:xfrm>
          <a:off x="380880" y="3968640"/>
          <a:ext cx="1600200" cy="12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880" y="3968640"/>
                    <a:ext cx="16002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Rectangle 23"/>
          <p:cNvSpPr/>
          <p:nvPr/>
        </p:nvSpPr>
        <p:spPr>
          <a:xfrm>
            <a:off x="0" y="6400800"/>
            <a:ext cx="9075600" cy="4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INTEGRAÇÃO E MELHORIAS DRÁSTICAS NOS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Espaço Reservado para Data 2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4CF-7C60-4E03-84DB-655716E1D5F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AF4F-9AD9-4B0A-B8EB-1755315506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2"/>
          <p:cNvSpPr/>
          <p:nvPr/>
        </p:nvSpPr>
        <p:spPr>
          <a:xfrm>
            <a:off x="1716120" y="2260440"/>
            <a:ext cx="5500800" cy="351792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3517920"/>
              <a:gd name="textAreaBottom" fmla="*/ 3518280 h 3517920"/>
            </a:gdLst>
            <a:ahLst/>
            <a:rect l="textAreaLeft" t="textAreaTop" r="textAreaRight" b="textAreaBottom"/>
            <a:pathLst>
              <a:path w="3465" h="2216">
                <a:moveTo>
                  <a:pt x="3465" y="1966"/>
                </a:moveTo>
                <a:lnTo>
                  <a:pt x="3403" y="2026"/>
                </a:lnTo>
                <a:lnTo>
                  <a:pt x="3336" y="2074"/>
                </a:lnTo>
                <a:lnTo>
                  <a:pt x="3268" y="2119"/>
                </a:lnTo>
                <a:lnTo>
                  <a:pt x="3195" y="2156"/>
                </a:lnTo>
                <a:lnTo>
                  <a:pt x="3122" y="2183"/>
                </a:lnTo>
                <a:lnTo>
                  <a:pt x="3046" y="2203"/>
                </a:lnTo>
                <a:lnTo>
                  <a:pt x="2971" y="2211"/>
                </a:lnTo>
                <a:lnTo>
                  <a:pt x="2893" y="2216"/>
                </a:lnTo>
                <a:lnTo>
                  <a:pt x="2815" y="2211"/>
                </a:lnTo>
                <a:lnTo>
                  <a:pt x="2740" y="2198"/>
                </a:lnTo>
                <a:lnTo>
                  <a:pt x="2663" y="2178"/>
                </a:lnTo>
                <a:lnTo>
                  <a:pt x="2591" y="2150"/>
                </a:lnTo>
                <a:lnTo>
                  <a:pt x="2520" y="2112"/>
                </a:lnTo>
                <a:lnTo>
                  <a:pt x="2472" y="2081"/>
                </a:lnTo>
                <a:lnTo>
                  <a:pt x="2375" y="2030"/>
                </a:lnTo>
                <a:lnTo>
                  <a:pt x="2270" y="1984"/>
                </a:lnTo>
                <a:lnTo>
                  <a:pt x="2164" y="1951"/>
                </a:lnTo>
                <a:lnTo>
                  <a:pt x="2056" y="1922"/>
                </a:lnTo>
                <a:lnTo>
                  <a:pt x="1946" y="1904"/>
                </a:lnTo>
                <a:lnTo>
                  <a:pt x="1836" y="1889"/>
                </a:lnTo>
                <a:lnTo>
                  <a:pt x="1724" y="1884"/>
                </a:lnTo>
                <a:lnTo>
                  <a:pt x="1614" y="1889"/>
                </a:lnTo>
                <a:lnTo>
                  <a:pt x="1503" y="1900"/>
                </a:lnTo>
                <a:lnTo>
                  <a:pt x="1393" y="1920"/>
                </a:lnTo>
                <a:lnTo>
                  <a:pt x="1287" y="1949"/>
                </a:lnTo>
                <a:lnTo>
                  <a:pt x="1179" y="1982"/>
                </a:lnTo>
                <a:lnTo>
                  <a:pt x="1074" y="2024"/>
                </a:lnTo>
                <a:lnTo>
                  <a:pt x="975" y="2072"/>
                </a:lnTo>
                <a:lnTo>
                  <a:pt x="956" y="2081"/>
                </a:lnTo>
                <a:lnTo>
                  <a:pt x="944" y="2088"/>
                </a:lnTo>
                <a:lnTo>
                  <a:pt x="874" y="2123"/>
                </a:lnTo>
                <a:lnTo>
                  <a:pt x="799" y="2152"/>
                </a:lnTo>
                <a:lnTo>
                  <a:pt x="725" y="2172"/>
                </a:lnTo>
                <a:lnTo>
                  <a:pt x="649" y="2187"/>
                </a:lnTo>
                <a:lnTo>
                  <a:pt x="570" y="2194"/>
                </a:lnTo>
                <a:lnTo>
                  <a:pt x="496" y="2189"/>
                </a:lnTo>
                <a:lnTo>
                  <a:pt x="417" y="2174"/>
                </a:lnTo>
                <a:lnTo>
                  <a:pt x="341" y="2156"/>
                </a:lnTo>
                <a:lnTo>
                  <a:pt x="267" y="2127"/>
                </a:lnTo>
                <a:lnTo>
                  <a:pt x="199" y="2094"/>
                </a:lnTo>
                <a:lnTo>
                  <a:pt x="127" y="2048"/>
                </a:lnTo>
                <a:lnTo>
                  <a:pt x="63" y="1999"/>
                </a:lnTo>
                <a:lnTo>
                  <a:pt x="0" y="1942"/>
                </a:lnTo>
                <a:lnTo>
                  <a:pt x="220" y="1558"/>
                </a:lnTo>
                <a:lnTo>
                  <a:pt x="0" y="88"/>
                </a:lnTo>
                <a:lnTo>
                  <a:pt x="61" y="179"/>
                </a:lnTo>
                <a:lnTo>
                  <a:pt x="125" y="256"/>
                </a:lnTo>
                <a:lnTo>
                  <a:pt x="191" y="323"/>
                </a:lnTo>
                <a:lnTo>
                  <a:pt x="261" y="376"/>
                </a:lnTo>
                <a:lnTo>
                  <a:pt x="333" y="422"/>
                </a:lnTo>
                <a:lnTo>
                  <a:pt x="405" y="455"/>
                </a:lnTo>
                <a:lnTo>
                  <a:pt x="481" y="477"/>
                </a:lnTo>
                <a:lnTo>
                  <a:pt x="556" y="484"/>
                </a:lnTo>
                <a:lnTo>
                  <a:pt x="630" y="482"/>
                </a:lnTo>
                <a:lnTo>
                  <a:pt x="705" y="464"/>
                </a:lnTo>
                <a:lnTo>
                  <a:pt x="779" y="433"/>
                </a:lnTo>
                <a:lnTo>
                  <a:pt x="851" y="391"/>
                </a:lnTo>
                <a:lnTo>
                  <a:pt x="920" y="336"/>
                </a:lnTo>
                <a:lnTo>
                  <a:pt x="944" y="318"/>
                </a:lnTo>
                <a:lnTo>
                  <a:pt x="956" y="307"/>
                </a:lnTo>
                <a:lnTo>
                  <a:pt x="970" y="294"/>
                </a:lnTo>
                <a:lnTo>
                  <a:pt x="1074" y="214"/>
                </a:lnTo>
                <a:lnTo>
                  <a:pt x="1179" y="148"/>
                </a:lnTo>
                <a:lnTo>
                  <a:pt x="1287" y="97"/>
                </a:lnTo>
                <a:lnTo>
                  <a:pt x="1393" y="55"/>
                </a:lnTo>
                <a:lnTo>
                  <a:pt x="1503" y="24"/>
                </a:lnTo>
                <a:lnTo>
                  <a:pt x="1614" y="7"/>
                </a:lnTo>
                <a:lnTo>
                  <a:pt x="1724" y="0"/>
                </a:lnTo>
                <a:lnTo>
                  <a:pt x="1836" y="7"/>
                </a:lnTo>
                <a:lnTo>
                  <a:pt x="1946" y="29"/>
                </a:lnTo>
                <a:lnTo>
                  <a:pt x="2056" y="60"/>
                </a:lnTo>
                <a:lnTo>
                  <a:pt x="2164" y="102"/>
                </a:lnTo>
                <a:lnTo>
                  <a:pt x="2270" y="159"/>
                </a:lnTo>
                <a:lnTo>
                  <a:pt x="2375" y="228"/>
                </a:lnTo>
                <a:lnTo>
                  <a:pt x="2478" y="307"/>
                </a:lnTo>
                <a:lnTo>
                  <a:pt x="2520" y="334"/>
                </a:lnTo>
                <a:lnTo>
                  <a:pt x="2590" y="376"/>
                </a:lnTo>
                <a:lnTo>
                  <a:pt x="2659" y="422"/>
                </a:lnTo>
                <a:lnTo>
                  <a:pt x="2734" y="453"/>
                </a:lnTo>
                <a:lnTo>
                  <a:pt x="2807" y="477"/>
                </a:lnTo>
                <a:lnTo>
                  <a:pt x="2881" y="484"/>
                </a:lnTo>
                <a:lnTo>
                  <a:pt x="2958" y="482"/>
                </a:lnTo>
                <a:lnTo>
                  <a:pt x="3032" y="464"/>
                </a:lnTo>
                <a:lnTo>
                  <a:pt x="3105" y="435"/>
                </a:lnTo>
                <a:lnTo>
                  <a:pt x="3177" y="396"/>
                </a:lnTo>
                <a:lnTo>
                  <a:pt x="3248" y="345"/>
                </a:lnTo>
                <a:lnTo>
                  <a:pt x="3317" y="278"/>
                </a:lnTo>
                <a:lnTo>
                  <a:pt x="3381" y="208"/>
                </a:lnTo>
                <a:lnTo>
                  <a:pt x="3442" y="122"/>
                </a:lnTo>
                <a:lnTo>
                  <a:pt x="3465" y="88"/>
                </a:lnTo>
                <a:lnTo>
                  <a:pt x="3254" y="1558"/>
                </a:lnTo>
                <a:lnTo>
                  <a:pt x="3465" y="19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reeform 3"/>
          <p:cNvSpPr/>
          <p:nvPr/>
        </p:nvSpPr>
        <p:spPr>
          <a:xfrm>
            <a:off x="673200" y="1565280"/>
            <a:ext cx="7875360" cy="4680000"/>
          </a:xfrm>
          <a:custGeom>
            <a:avLst/>
            <a:gdLst>
              <a:gd name="textAreaLeft" fmla="*/ 0 w 7875360"/>
              <a:gd name="textAreaRight" fmla="*/ 7875720 w 787536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3464" h="2216">
                <a:moveTo>
                  <a:pt x="3464" y="1966"/>
                </a:moveTo>
                <a:lnTo>
                  <a:pt x="3404" y="2026"/>
                </a:lnTo>
                <a:lnTo>
                  <a:pt x="3337" y="2070"/>
                </a:lnTo>
                <a:lnTo>
                  <a:pt x="3269" y="2116"/>
                </a:lnTo>
                <a:lnTo>
                  <a:pt x="3197" y="2156"/>
                </a:lnTo>
                <a:lnTo>
                  <a:pt x="3123" y="2183"/>
                </a:lnTo>
                <a:lnTo>
                  <a:pt x="3047" y="2200"/>
                </a:lnTo>
                <a:lnTo>
                  <a:pt x="2970" y="2211"/>
                </a:lnTo>
                <a:lnTo>
                  <a:pt x="2894" y="2216"/>
                </a:lnTo>
                <a:lnTo>
                  <a:pt x="2815" y="2211"/>
                </a:lnTo>
                <a:lnTo>
                  <a:pt x="2741" y="2198"/>
                </a:lnTo>
                <a:lnTo>
                  <a:pt x="2665" y="2178"/>
                </a:lnTo>
                <a:lnTo>
                  <a:pt x="2593" y="2147"/>
                </a:lnTo>
                <a:lnTo>
                  <a:pt x="2520" y="2110"/>
                </a:lnTo>
                <a:lnTo>
                  <a:pt x="2474" y="2083"/>
                </a:lnTo>
                <a:lnTo>
                  <a:pt x="2376" y="2028"/>
                </a:lnTo>
                <a:lnTo>
                  <a:pt x="2272" y="1986"/>
                </a:lnTo>
                <a:lnTo>
                  <a:pt x="2165" y="1949"/>
                </a:lnTo>
                <a:lnTo>
                  <a:pt x="2057" y="1922"/>
                </a:lnTo>
                <a:lnTo>
                  <a:pt x="1946" y="1902"/>
                </a:lnTo>
                <a:lnTo>
                  <a:pt x="1836" y="1889"/>
                </a:lnTo>
                <a:lnTo>
                  <a:pt x="1725" y="1885"/>
                </a:lnTo>
                <a:lnTo>
                  <a:pt x="1616" y="1889"/>
                </a:lnTo>
                <a:lnTo>
                  <a:pt x="1505" y="1900"/>
                </a:lnTo>
                <a:lnTo>
                  <a:pt x="1395" y="1920"/>
                </a:lnTo>
                <a:lnTo>
                  <a:pt x="1287" y="1946"/>
                </a:lnTo>
                <a:lnTo>
                  <a:pt x="1179" y="1982"/>
                </a:lnTo>
                <a:lnTo>
                  <a:pt x="1075" y="2024"/>
                </a:lnTo>
                <a:lnTo>
                  <a:pt x="977" y="2070"/>
                </a:lnTo>
                <a:lnTo>
                  <a:pt x="958" y="2079"/>
                </a:lnTo>
                <a:lnTo>
                  <a:pt x="945" y="2086"/>
                </a:lnTo>
                <a:lnTo>
                  <a:pt x="876" y="2123"/>
                </a:lnTo>
                <a:lnTo>
                  <a:pt x="802" y="2152"/>
                </a:lnTo>
                <a:lnTo>
                  <a:pt x="727" y="2172"/>
                </a:lnTo>
                <a:lnTo>
                  <a:pt x="650" y="2185"/>
                </a:lnTo>
                <a:lnTo>
                  <a:pt x="572" y="2192"/>
                </a:lnTo>
                <a:lnTo>
                  <a:pt x="497" y="2187"/>
                </a:lnTo>
                <a:lnTo>
                  <a:pt x="419" y="2174"/>
                </a:lnTo>
                <a:lnTo>
                  <a:pt x="344" y="2156"/>
                </a:lnTo>
                <a:lnTo>
                  <a:pt x="270" y="2125"/>
                </a:lnTo>
                <a:lnTo>
                  <a:pt x="199" y="2092"/>
                </a:lnTo>
                <a:lnTo>
                  <a:pt x="129" y="2048"/>
                </a:lnTo>
                <a:lnTo>
                  <a:pt x="63" y="1999"/>
                </a:lnTo>
                <a:lnTo>
                  <a:pt x="0" y="1940"/>
                </a:lnTo>
                <a:lnTo>
                  <a:pt x="221" y="1555"/>
                </a:lnTo>
                <a:lnTo>
                  <a:pt x="0" y="89"/>
                </a:lnTo>
                <a:lnTo>
                  <a:pt x="63" y="177"/>
                </a:lnTo>
                <a:lnTo>
                  <a:pt x="124" y="256"/>
                </a:lnTo>
                <a:lnTo>
                  <a:pt x="193" y="325"/>
                </a:lnTo>
                <a:lnTo>
                  <a:pt x="262" y="376"/>
                </a:lnTo>
                <a:lnTo>
                  <a:pt x="334" y="420"/>
                </a:lnTo>
                <a:lnTo>
                  <a:pt x="407" y="455"/>
                </a:lnTo>
                <a:lnTo>
                  <a:pt x="483" y="477"/>
                </a:lnTo>
                <a:lnTo>
                  <a:pt x="556" y="482"/>
                </a:lnTo>
                <a:lnTo>
                  <a:pt x="631" y="480"/>
                </a:lnTo>
                <a:lnTo>
                  <a:pt x="706" y="462"/>
                </a:lnTo>
                <a:lnTo>
                  <a:pt x="780" y="433"/>
                </a:lnTo>
                <a:lnTo>
                  <a:pt x="853" y="391"/>
                </a:lnTo>
                <a:lnTo>
                  <a:pt x="921" y="336"/>
                </a:lnTo>
                <a:lnTo>
                  <a:pt x="945" y="316"/>
                </a:lnTo>
                <a:lnTo>
                  <a:pt x="958" y="305"/>
                </a:lnTo>
                <a:lnTo>
                  <a:pt x="971" y="292"/>
                </a:lnTo>
                <a:lnTo>
                  <a:pt x="1075" y="214"/>
                </a:lnTo>
                <a:lnTo>
                  <a:pt x="1179" y="150"/>
                </a:lnTo>
                <a:lnTo>
                  <a:pt x="1287" y="95"/>
                </a:lnTo>
                <a:lnTo>
                  <a:pt x="1395" y="53"/>
                </a:lnTo>
                <a:lnTo>
                  <a:pt x="1505" y="24"/>
                </a:lnTo>
                <a:lnTo>
                  <a:pt x="1616" y="7"/>
                </a:lnTo>
                <a:lnTo>
                  <a:pt x="1725" y="0"/>
                </a:lnTo>
                <a:lnTo>
                  <a:pt x="1836" y="7"/>
                </a:lnTo>
                <a:lnTo>
                  <a:pt x="1946" y="27"/>
                </a:lnTo>
                <a:lnTo>
                  <a:pt x="2057" y="60"/>
                </a:lnTo>
                <a:lnTo>
                  <a:pt x="2165" y="102"/>
                </a:lnTo>
                <a:lnTo>
                  <a:pt x="2272" y="159"/>
                </a:lnTo>
                <a:lnTo>
                  <a:pt x="2376" y="228"/>
                </a:lnTo>
                <a:lnTo>
                  <a:pt x="2479" y="305"/>
                </a:lnTo>
                <a:lnTo>
                  <a:pt x="2520" y="334"/>
                </a:lnTo>
                <a:lnTo>
                  <a:pt x="2591" y="376"/>
                </a:lnTo>
                <a:lnTo>
                  <a:pt x="2662" y="420"/>
                </a:lnTo>
                <a:lnTo>
                  <a:pt x="2735" y="455"/>
                </a:lnTo>
                <a:lnTo>
                  <a:pt x="2810" y="477"/>
                </a:lnTo>
                <a:lnTo>
                  <a:pt x="2883" y="482"/>
                </a:lnTo>
                <a:lnTo>
                  <a:pt x="2959" y="480"/>
                </a:lnTo>
                <a:lnTo>
                  <a:pt x="3033" y="462"/>
                </a:lnTo>
                <a:lnTo>
                  <a:pt x="3106" y="435"/>
                </a:lnTo>
                <a:lnTo>
                  <a:pt x="3179" y="396"/>
                </a:lnTo>
                <a:lnTo>
                  <a:pt x="3249" y="343"/>
                </a:lnTo>
                <a:lnTo>
                  <a:pt x="3317" y="281"/>
                </a:lnTo>
                <a:lnTo>
                  <a:pt x="3383" y="206"/>
                </a:lnTo>
                <a:lnTo>
                  <a:pt x="3443" y="122"/>
                </a:lnTo>
                <a:lnTo>
                  <a:pt x="3464" y="89"/>
                </a:lnTo>
                <a:lnTo>
                  <a:pt x="3255" y="1555"/>
                </a:lnTo>
                <a:lnTo>
                  <a:pt x="3464" y="196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99"/>
              </a:gs>
              <a:gs pos="100000">
                <a:srgbClr val="ff6600"/>
              </a:gs>
            </a:gsLst>
            <a:lin ang="2700000"/>
          </a:gradFill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1782720" y="2610000"/>
            <a:ext cx="55580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1000" indent="-35100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oduto C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8252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ugar C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3320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ntidade C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ora C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enor Cu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0" y="228600"/>
            <a:ext cx="91440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Busca 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Vantagem Competi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pela Log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6" descr="bone1"/>
          <p:cNvPicPr/>
          <p:nvPr/>
        </p:nvPicPr>
        <p:blipFill>
          <a:blip r:embed="rId1"/>
          <a:stretch/>
        </p:blipFill>
        <p:spPr>
          <a:xfrm>
            <a:off x="6980400" y="5443560"/>
            <a:ext cx="2116080" cy="1380960"/>
          </a:xfrm>
          <a:prstGeom prst="rect">
            <a:avLst/>
          </a:prstGeom>
          <a:ln w="0">
            <a:noFill/>
          </a:ln>
        </p:spPr>
      </p:pic>
      <p:sp>
        <p:nvSpPr>
          <p:cNvPr id="745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F83-691B-4EE5-B1D8-41197714EE0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1E87-0CD9-4424-AFAE-C35A5EBB93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Logística hoj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idades bem organizadas permitem a circulação de caminhões apenas nas madrugadas, quando dos centros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instalados nos arredores do perímetro urbano partem pequenos veículos de entregas rápidas para abastecer os estabelecimentos comerciais e de serviços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editorial do jornal O Estado de São Paulo, de 11 de novembro de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9" descr="Fila de trânsito - EUA"/>
          <p:cNvPicPr/>
          <p:nvPr/>
        </p:nvPicPr>
        <p:blipFill>
          <a:blip r:embed="rId1"/>
          <a:stretch/>
        </p:blipFill>
        <p:spPr>
          <a:xfrm>
            <a:off x="5003640" y="189000"/>
            <a:ext cx="3297240" cy="2636640"/>
          </a:xfrm>
          <a:prstGeom prst="rect">
            <a:avLst/>
          </a:prstGeom>
          <a:ln w="0">
            <a:noFill/>
          </a:ln>
        </p:spPr>
      </p:pic>
      <p:sp>
        <p:nvSpPr>
          <p:cNvPr id="750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B436-A9AB-41C2-A226-179296BC6A8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FECC-FD6C-44D8-A985-7DCFBF2A6F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76"/>
          <p:cNvSpPr/>
          <p:nvPr/>
        </p:nvSpPr>
        <p:spPr>
          <a:xfrm>
            <a:off x="3200400" y="617220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5867280" y="2209680"/>
            <a:ext cx="297180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76320" y="2209680"/>
            <a:ext cx="563868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9480" y="304920"/>
            <a:ext cx="792504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533520" y="10666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22096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trimon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38098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8"/>
          <p:cNvSpPr/>
          <p:nvPr/>
        </p:nvSpPr>
        <p:spPr>
          <a:xfrm>
            <a:off x="54100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9"/>
          <p:cNvSpPr/>
          <p:nvPr/>
        </p:nvSpPr>
        <p:spPr>
          <a:xfrm>
            <a:off x="70102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AutoShape 10"/>
          <p:cNvSpPr/>
          <p:nvPr/>
        </p:nvSpPr>
        <p:spPr>
          <a:xfrm>
            <a:off x="2209680" y="24382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11"/>
          <p:cNvSpPr/>
          <p:nvPr/>
        </p:nvSpPr>
        <p:spPr>
          <a:xfrm>
            <a:off x="152280" y="35053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uxil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utoShape 12"/>
          <p:cNvSpPr/>
          <p:nvPr/>
        </p:nvSpPr>
        <p:spPr>
          <a:xfrm>
            <a:off x="1600200" y="35053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téri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3"/>
          <p:cNvSpPr/>
          <p:nvPr/>
        </p:nvSpPr>
        <p:spPr>
          <a:xfrm>
            <a:off x="2971800" y="3505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duto 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ce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14"/>
          <p:cNvSpPr/>
          <p:nvPr/>
        </p:nvSpPr>
        <p:spPr>
          <a:xfrm>
            <a:off x="4419720" y="3505320"/>
            <a:ext cx="121896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cab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5"/>
          <p:cNvSpPr/>
          <p:nvPr/>
        </p:nvSpPr>
        <p:spPr>
          <a:xfrm>
            <a:off x="7467480" y="35053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é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16"/>
          <p:cNvSpPr/>
          <p:nvPr/>
        </p:nvSpPr>
        <p:spPr>
          <a:xfrm>
            <a:off x="5943600" y="35053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7"/>
          <p:cNvSpPr/>
          <p:nvPr/>
        </p:nvSpPr>
        <p:spPr>
          <a:xfrm>
            <a:off x="6477120" y="251460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stal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>
            <a:off x="1066680" y="5105520"/>
            <a:ext cx="152424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9"/>
          <p:cNvSpPr/>
          <p:nvPr/>
        </p:nvSpPr>
        <p:spPr>
          <a:xfrm>
            <a:off x="1447920" y="6248520"/>
            <a:ext cx="152388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20"/>
          <p:cNvSpPr/>
          <p:nvPr/>
        </p:nvSpPr>
        <p:spPr>
          <a:xfrm>
            <a:off x="4267080" y="51814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21"/>
          <p:cNvSpPr/>
          <p:nvPr/>
        </p:nvSpPr>
        <p:spPr>
          <a:xfrm>
            <a:off x="6858000" y="51055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22"/>
          <p:cNvSpPr/>
          <p:nvPr/>
        </p:nvSpPr>
        <p:spPr>
          <a:xfrm>
            <a:off x="4724280" y="6172200"/>
            <a:ext cx="152424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AutoShape 23"/>
          <p:cNvCxnSpPr>
            <a:stCxn id="756" idx="2"/>
            <a:endCxn id="761" idx="0"/>
          </p:cNvCxnSpPr>
          <p:nvPr/>
        </p:nvCxnSpPr>
        <p:spPr>
          <a:xfrm flipH="1" rot="16200000">
            <a:off x="1695600" y="1180800"/>
            <a:ext cx="800640" cy="167688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24"/>
          <p:cNvCxnSpPr>
            <a:stCxn id="757" idx="2"/>
            <a:endCxn id="768" idx="0"/>
          </p:cNvCxnSpPr>
          <p:nvPr/>
        </p:nvCxnSpPr>
        <p:spPr>
          <a:xfrm flipH="1" rot="16200000">
            <a:off x="4629240" y="-76680"/>
            <a:ext cx="876960" cy="4268160"/>
          </a:xfrm>
          <a:prstGeom prst="bentConnector3">
            <a:avLst>
              <a:gd name="adj1" fmla="val 34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AutoShape 25"/>
          <p:cNvCxnSpPr>
            <a:stCxn id="762" idx="0"/>
            <a:endCxn id="765" idx="0"/>
          </p:cNvCxnSpPr>
          <p:nvPr/>
        </p:nvCxnSpPr>
        <p:spPr>
          <a:xfrm flipH="1" rot="16200000">
            <a:off x="2913840" y="1372320"/>
            <a:ext cx="2160" cy="4229640"/>
          </a:xfrm>
          <a:prstGeom prst="bentConnector3">
            <a:avLst>
              <a:gd name="adj1" fmla="val -17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7" name="Line 26"/>
          <p:cNvSpPr/>
          <p:nvPr/>
        </p:nvSpPr>
        <p:spPr>
          <a:xfrm>
            <a:off x="2286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7"/>
          <p:cNvSpPr/>
          <p:nvPr/>
        </p:nvSpPr>
        <p:spPr>
          <a:xfrm>
            <a:off x="36576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AutoShape 28"/>
          <p:cNvCxnSpPr>
            <a:stCxn id="767" idx="0"/>
            <a:endCxn id="766" idx="0"/>
          </p:cNvCxnSpPr>
          <p:nvPr/>
        </p:nvCxnSpPr>
        <p:spPr>
          <a:xfrm flipH="1" rot="16200000">
            <a:off x="7390800" y="2762640"/>
            <a:ext cx="2160" cy="1448640"/>
          </a:xfrm>
          <a:prstGeom prst="bentConnector3">
            <a:avLst>
              <a:gd name="adj1" fmla="val -13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0" name="Line 29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30"/>
          <p:cNvSpPr/>
          <p:nvPr/>
        </p:nvSpPr>
        <p:spPr>
          <a:xfrm flipV="1">
            <a:off x="16002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31"/>
          <p:cNvSpPr/>
          <p:nvPr/>
        </p:nvSpPr>
        <p:spPr>
          <a:xfrm flipV="1">
            <a:off x="1752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32"/>
          <p:cNvSpPr/>
          <p:nvPr/>
        </p:nvSpPr>
        <p:spPr>
          <a:xfrm flipV="1">
            <a:off x="19051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33"/>
          <p:cNvSpPr/>
          <p:nvPr/>
        </p:nvSpPr>
        <p:spPr>
          <a:xfrm>
            <a:off x="1905120" y="4800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34"/>
          <p:cNvSpPr/>
          <p:nvPr/>
        </p:nvSpPr>
        <p:spPr>
          <a:xfrm flipV="1">
            <a:off x="632448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35"/>
          <p:cNvSpPr/>
          <p:nvPr/>
        </p:nvSpPr>
        <p:spPr>
          <a:xfrm flipV="1">
            <a:off x="20574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36"/>
          <p:cNvSpPr/>
          <p:nvPr/>
        </p:nvSpPr>
        <p:spPr>
          <a:xfrm>
            <a:off x="2057400" y="4876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37"/>
          <p:cNvSpPr/>
          <p:nvPr/>
        </p:nvSpPr>
        <p:spPr>
          <a:xfrm flipV="1">
            <a:off x="8381880" y="419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38"/>
          <p:cNvSpPr/>
          <p:nvPr/>
        </p:nvSpPr>
        <p:spPr>
          <a:xfrm flipV="1">
            <a:off x="4495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0" name="AutoShape 39"/>
          <p:cNvCxnSpPr>
            <a:stCxn id="789" idx="0"/>
            <a:endCxn id="764" idx="2"/>
          </p:cNvCxnSpPr>
          <p:nvPr/>
        </p:nvCxnSpPr>
        <p:spPr>
          <a:xfrm flipV="1" rot="16200000">
            <a:off x="3685680" y="4066560"/>
            <a:ext cx="743760" cy="876960"/>
          </a:xfrm>
          <a:prstGeom prst="bentConnector3">
            <a:avLst>
              <a:gd name="adj1" fmla="val 51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Line 40"/>
          <p:cNvSpPr/>
          <p:nvPr/>
        </p:nvSpPr>
        <p:spPr>
          <a:xfrm flipV="1">
            <a:off x="46483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2" name="AutoShape 41"/>
          <p:cNvCxnSpPr>
            <a:stCxn id="791" idx="0"/>
            <a:endCxn id="763" idx="2"/>
          </p:cNvCxnSpPr>
          <p:nvPr/>
        </p:nvCxnSpPr>
        <p:spPr>
          <a:xfrm flipV="1" rot="16200000">
            <a:off x="2981160" y="3361680"/>
            <a:ext cx="896040" cy="2439000"/>
          </a:xfrm>
          <a:prstGeom prst="bentConnector3">
            <a:avLst>
              <a:gd name="adj1" fmla="val 510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3" name="Line 42"/>
          <p:cNvSpPr/>
          <p:nvPr/>
        </p:nvSpPr>
        <p:spPr>
          <a:xfrm flipV="1">
            <a:off x="480060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AutoShape 43"/>
          <p:cNvCxnSpPr>
            <a:stCxn id="793" idx="0"/>
            <a:endCxn id="762" idx="2"/>
          </p:cNvCxnSpPr>
          <p:nvPr/>
        </p:nvCxnSpPr>
        <p:spPr>
          <a:xfrm flipV="1" rot="16200000">
            <a:off x="2542680" y="2390040"/>
            <a:ext cx="515160" cy="4001040"/>
          </a:xfrm>
          <a:prstGeom prst="bentConnector3">
            <a:avLst>
              <a:gd name="adj1" fmla="val 607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Line 44"/>
          <p:cNvSpPr/>
          <p:nvPr/>
        </p:nvSpPr>
        <p:spPr>
          <a:xfrm flipH="1">
            <a:off x="38052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45"/>
          <p:cNvSpPr/>
          <p:nvPr/>
        </p:nvSpPr>
        <p:spPr>
          <a:xfrm flipV="1">
            <a:off x="38088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46"/>
          <p:cNvSpPr/>
          <p:nvPr/>
        </p:nvSpPr>
        <p:spPr>
          <a:xfrm flipV="1">
            <a:off x="4952880" y="4190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47"/>
          <p:cNvSpPr/>
          <p:nvPr/>
        </p:nvSpPr>
        <p:spPr>
          <a:xfrm flipV="1">
            <a:off x="510552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AutoShape 48"/>
          <p:cNvCxnSpPr>
            <a:stCxn id="798" idx="0"/>
            <a:endCxn id="767" idx="2"/>
          </p:cNvCxnSpPr>
          <p:nvPr/>
        </p:nvCxnSpPr>
        <p:spPr>
          <a:xfrm flipH="1" flipV="1" rot="5400000">
            <a:off x="5628960" y="3609360"/>
            <a:ext cx="515160" cy="1562760"/>
          </a:xfrm>
          <a:prstGeom prst="bentConnector3">
            <a:avLst>
              <a:gd name="adj1" fmla="val -27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Line 49"/>
          <p:cNvSpPr/>
          <p:nvPr/>
        </p:nvSpPr>
        <p:spPr>
          <a:xfrm flipV="1">
            <a:off x="5257800" y="457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AutoShape 50"/>
          <p:cNvCxnSpPr>
            <a:stCxn id="800" idx="0"/>
            <a:endCxn id="766" idx="2"/>
          </p:cNvCxnSpPr>
          <p:nvPr/>
        </p:nvCxnSpPr>
        <p:spPr>
          <a:xfrm flipH="1" flipV="1" rot="5400000">
            <a:off x="6467400" y="2923560"/>
            <a:ext cx="438840" cy="2858400"/>
          </a:xfrm>
          <a:prstGeom prst="bentConnector3">
            <a:avLst>
              <a:gd name="adj1" fmla="val 122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Line 51"/>
          <p:cNvSpPr/>
          <p:nvPr/>
        </p:nvSpPr>
        <p:spPr>
          <a:xfrm>
            <a:off x="29718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AutoShape 52"/>
          <p:cNvCxnSpPr>
            <a:stCxn id="772" idx="2"/>
            <a:endCxn id="773" idx="0"/>
          </p:cNvCxnSpPr>
          <p:nvPr/>
        </p:nvCxnSpPr>
        <p:spPr>
          <a:xfrm rot="5400000">
            <a:off x="6266520" y="4952880"/>
            <a:ext cx="419760" cy="198180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Line 53"/>
          <p:cNvSpPr/>
          <p:nvPr/>
        </p:nvSpPr>
        <p:spPr>
          <a:xfrm flipV="1">
            <a:off x="74674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54"/>
          <p:cNvSpPr/>
          <p:nvPr/>
        </p:nvSpPr>
        <p:spPr>
          <a:xfrm flipH="1">
            <a:off x="518148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55"/>
          <p:cNvSpPr/>
          <p:nvPr/>
        </p:nvSpPr>
        <p:spPr>
          <a:xfrm flipV="1">
            <a:off x="5181480" y="4114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56"/>
          <p:cNvSpPr/>
          <p:nvPr/>
        </p:nvSpPr>
        <p:spPr>
          <a:xfrm>
            <a:off x="1828800" y="5486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8" name="AutoShape 57"/>
          <p:cNvCxnSpPr>
            <a:stCxn id="771" idx="2"/>
            <a:endCxn id="770" idx="0"/>
          </p:cNvCxnSpPr>
          <p:nvPr/>
        </p:nvCxnSpPr>
        <p:spPr>
          <a:xfrm rot="5400000">
            <a:off x="3332880" y="4686120"/>
            <a:ext cx="419760" cy="266796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Line 58"/>
          <p:cNvSpPr/>
          <p:nvPr/>
        </p:nvSpPr>
        <p:spPr>
          <a:xfrm>
            <a:off x="129528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59"/>
          <p:cNvSpPr/>
          <p:nvPr/>
        </p:nvSpPr>
        <p:spPr>
          <a:xfrm>
            <a:off x="29718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60"/>
          <p:cNvSpPr/>
          <p:nvPr/>
        </p:nvSpPr>
        <p:spPr>
          <a:xfrm>
            <a:off x="46483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61"/>
          <p:cNvSpPr/>
          <p:nvPr/>
        </p:nvSpPr>
        <p:spPr>
          <a:xfrm>
            <a:off x="61722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62"/>
          <p:cNvSpPr/>
          <p:nvPr/>
        </p:nvSpPr>
        <p:spPr>
          <a:xfrm>
            <a:off x="769608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63"/>
          <p:cNvSpPr/>
          <p:nvPr/>
        </p:nvSpPr>
        <p:spPr>
          <a:xfrm>
            <a:off x="90360" y="220968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64"/>
          <p:cNvSpPr/>
          <p:nvPr/>
        </p:nvSpPr>
        <p:spPr>
          <a:xfrm>
            <a:off x="5868720" y="220968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5"/>
          <p:cNvSpPr/>
          <p:nvPr/>
        </p:nvSpPr>
        <p:spPr>
          <a:xfrm>
            <a:off x="4038480" y="5029200"/>
            <a:ext cx="441972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66"/>
          <p:cNvSpPr/>
          <p:nvPr/>
        </p:nvSpPr>
        <p:spPr>
          <a:xfrm>
            <a:off x="5640120" y="518148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67"/>
          <p:cNvSpPr/>
          <p:nvPr/>
        </p:nvSpPr>
        <p:spPr>
          <a:xfrm>
            <a:off x="76320" y="4952880"/>
            <a:ext cx="358128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68"/>
          <p:cNvSpPr/>
          <p:nvPr/>
        </p:nvSpPr>
        <p:spPr>
          <a:xfrm>
            <a:off x="90360" y="502920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69"/>
          <p:cNvSpPr/>
          <p:nvPr/>
        </p:nvSpPr>
        <p:spPr>
          <a:xfrm>
            <a:off x="152280" y="1522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70"/>
          <p:cNvSpPr/>
          <p:nvPr/>
        </p:nvSpPr>
        <p:spPr>
          <a:xfrm>
            <a:off x="152280" y="152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71"/>
          <p:cNvSpPr/>
          <p:nvPr/>
        </p:nvSpPr>
        <p:spPr>
          <a:xfrm>
            <a:off x="152280" y="1752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72"/>
          <p:cNvSpPr/>
          <p:nvPr/>
        </p:nvSpPr>
        <p:spPr>
          <a:xfrm flipV="1">
            <a:off x="373392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3"/>
          <p:cNvSpPr/>
          <p:nvPr/>
        </p:nvSpPr>
        <p:spPr>
          <a:xfrm>
            <a:off x="3733920" y="8380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74"/>
          <p:cNvSpPr/>
          <p:nvPr/>
        </p:nvSpPr>
        <p:spPr>
          <a:xfrm>
            <a:off x="8991720" y="152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75"/>
          <p:cNvSpPr/>
          <p:nvPr/>
        </p:nvSpPr>
        <p:spPr>
          <a:xfrm rot="16219800">
            <a:off x="-166320" y="83772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Espaço Reservado para Data 7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989-B0D1-407E-9AA9-AE7506AB223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520-95FE-4676-BB73-B9B97DE394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52"/>
          <p:cNvSpPr/>
          <p:nvPr/>
        </p:nvSpPr>
        <p:spPr>
          <a:xfrm>
            <a:off x="2819520" y="6172200"/>
            <a:ext cx="3200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"/>
          <p:cNvSpPr/>
          <p:nvPr/>
        </p:nvSpPr>
        <p:spPr>
          <a:xfrm flipH="1">
            <a:off x="152280" y="533520"/>
            <a:ext cx="883944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"/>
          <p:cNvSpPr/>
          <p:nvPr/>
        </p:nvSpPr>
        <p:spPr>
          <a:xfrm>
            <a:off x="4648320" y="685800"/>
            <a:ext cx="213336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ações pesso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/>
          <p:cNvSpPr/>
          <p:nvPr/>
        </p:nvSpPr>
        <p:spPr>
          <a:xfrm>
            <a:off x="7010280" y="6858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5"/>
          <p:cNvSpPr/>
          <p:nvPr/>
        </p:nvSpPr>
        <p:spPr>
          <a:xfrm>
            <a:off x="4724280" y="24382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o de entreg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4952520" y="1547640"/>
            <a:ext cx="13723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ticip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7163280" y="1547640"/>
            <a:ext cx="1332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amanh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3200400" y="24382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du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9"/>
          <p:cNvSpPr/>
          <p:nvPr/>
        </p:nvSpPr>
        <p:spPr>
          <a:xfrm>
            <a:off x="2133720" y="24382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"/>
          <p:cNvSpPr/>
          <p:nvPr/>
        </p:nvSpPr>
        <p:spPr>
          <a:xfrm>
            <a:off x="228600" y="2362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1"/>
          <p:cNvSpPr/>
          <p:nvPr/>
        </p:nvSpPr>
        <p:spPr>
          <a:xfrm>
            <a:off x="1066680" y="335268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nven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2"/>
          <p:cNvSpPr/>
          <p:nvPr/>
        </p:nvSpPr>
        <p:spPr>
          <a:xfrm>
            <a:off x="3962520" y="33526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est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3"/>
          <p:cNvSpPr/>
          <p:nvPr/>
        </p:nvSpPr>
        <p:spPr>
          <a:xfrm>
            <a:off x="1676520" y="57150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toqu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ceb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76320" y="5715000"/>
            <a:ext cx="13636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5"/>
          <p:cNvSpPr/>
          <p:nvPr/>
        </p:nvSpPr>
        <p:spPr>
          <a:xfrm>
            <a:off x="3276720" y="5715000"/>
            <a:ext cx="1022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6"/>
          <p:cNvSpPr/>
          <p:nvPr/>
        </p:nvSpPr>
        <p:spPr>
          <a:xfrm>
            <a:off x="4579920" y="5715000"/>
            <a:ext cx="13636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7"/>
          <p:cNvSpPr/>
          <p:nvPr/>
        </p:nvSpPr>
        <p:spPr>
          <a:xfrm>
            <a:off x="6248520" y="57150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trega 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8"/>
          <p:cNvSpPr/>
          <p:nvPr/>
        </p:nvSpPr>
        <p:spPr>
          <a:xfrm>
            <a:off x="7772400" y="57150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toque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9"/>
          <p:cNvSpPr/>
          <p:nvPr/>
        </p:nvSpPr>
        <p:spPr>
          <a:xfrm flipH="1">
            <a:off x="75960" y="6477120"/>
            <a:ext cx="88390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20"/>
          <p:cNvSpPr/>
          <p:nvPr/>
        </p:nvSpPr>
        <p:spPr>
          <a:xfrm>
            <a:off x="1752480" y="426708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Materiais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21"/>
          <p:cNvSpPr/>
          <p:nvPr/>
        </p:nvSpPr>
        <p:spPr>
          <a:xfrm>
            <a:off x="3505320" y="4267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produtos f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 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22"/>
          <p:cNvSpPr/>
          <p:nvPr/>
        </p:nvSpPr>
        <p:spPr>
          <a:xfrm>
            <a:off x="784872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23"/>
          <p:cNvSpPr/>
          <p:nvPr/>
        </p:nvSpPr>
        <p:spPr>
          <a:xfrm flipH="1">
            <a:off x="6324120" y="1828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24"/>
          <p:cNvSpPr/>
          <p:nvPr/>
        </p:nvSpPr>
        <p:spPr>
          <a:xfrm>
            <a:off x="56386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5"/>
          <p:cNvSpPr/>
          <p:nvPr/>
        </p:nvSpPr>
        <p:spPr>
          <a:xfrm>
            <a:off x="5638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6"/>
          <p:cNvSpPr/>
          <p:nvPr/>
        </p:nvSpPr>
        <p:spPr>
          <a:xfrm flipH="1">
            <a:off x="4419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27"/>
          <p:cNvSpPr/>
          <p:nvPr/>
        </p:nvSpPr>
        <p:spPr>
          <a:xfrm flipH="1">
            <a:off x="289512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28"/>
          <p:cNvSpPr/>
          <p:nvPr/>
        </p:nvSpPr>
        <p:spPr>
          <a:xfrm flipH="1">
            <a:off x="182844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AutoShape 29"/>
          <p:cNvCxnSpPr>
            <a:stCxn id="833" idx="2"/>
            <a:endCxn id="849" idx="3"/>
          </p:cNvCxnSpPr>
          <p:nvPr/>
        </p:nvCxnSpPr>
        <p:spPr>
          <a:xfrm rot="5400000">
            <a:off x="4590360" y="3676320"/>
            <a:ext cx="1886760" cy="515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8" name="AutoShape 30"/>
          <p:cNvCxnSpPr>
            <a:stCxn id="838" idx="2"/>
            <a:endCxn id="848" idx="1"/>
          </p:cNvCxnSpPr>
          <p:nvPr/>
        </p:nvCxnSpPr>
        <p:spPr>
          <a:xfrm flipH="1" rot="16200000">
            <a:off x="417960" y="3562200"/>
            <a:ext cx="1886760" cy="743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Line 31"/>
          <p:cNvSpPr/>
          <p:nvPr/>
        </p:nvSpPr>
        <p:spPr>
          <a:xfrm>
            <a:off x="1447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32"/>
          <p:cNvSpPr/>
          <p:nvPr/>
        </p:nvSpPr>
        <p:spPr>
          <a:xfrm>
            <a:off x="29718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33"/>
          <p:cNvSpPr/>
          <p:nvPr/>
        </p:nvSpPr>
        <p:spPr>
          <a:xfrm>
            <a:off x="42670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34"/>
          <p:cNvSpPr/>
          <p:nvPr/>
        </p:nvSpPr>
        <p:spPr>
          <a:xfrm>
            <a:off x="59436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35"/>
          <p:cNvSpPr/>
          <p:nvPr/>
        </p:nvSpPr>
        <p:spPr>
          <a:xfrm>
            <a:off x="75438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36"/>
          <p:cNvSpPr/>
          <p:nvPr/>
        </p:nvSpPr>
        <p:spPr>
          <a:xfrm>
            <a:off x="609588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37"/>
          <p:cNvSpPr/>
          <p:nvPr/>
        </p:nvSpPr>
        <p:spPr>
          <a:xfrm>
            <a:off x="76212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38"/>
          <p:cNvSpPr/>
          <p:nvPr/>
        </p:nvSpPr>
        <p:spPr>
          <a:xfrm>
            <a:off x="44956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39"/>
          <p:cNvSpPr/>
          <p:nvPr/>
        </p:nvSpPr>
        <p:spPr>
          <a:xfrm>
            <a:off x="1981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40"/>
          <p:cNvSpPr/>
          <p:nvPr/>
        </p:nvSpPr>
        <p:spPr>
          <a:xfrm>
            <a:off x="2666880" y="2971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41"/>
          <p:cNvSpPr/>
          <p:nvPr/>
        </p:nvSpPr>
        <p:spPr>
          <a:xfrm>
            <a:off x="3886200" y="2971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42"/>
          <p:cNvSpPr/>
          <p:nvPr/>
        </p:nvSpPr>
        <p:spPr>
          <a:xfrm>
            <a:off x="1371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43"/>
          <p:cNvSpPr/>
          <p:nvPr/>
        </p:nvSpPr>
        <p:spPr>
          <a:xfrm>
            <a:off x="23623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44"/>
          <p:cNvSpPr/>
          <p:nvPr/>
        </p:nvSpPr>
        <p:spPr>
          <a:xfrm>
            <a:off x="41911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45"/>
          <p:cNvSpPr/>
          <p:nvPr/>
        </p:nvSpPr>
        <p:spPr>
          <a:xfrm>
            <a:off x="52578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6"/>
          <p:cNvSpPr/>
          <p:nvPr/>
        </p:nvSpPr>
        <p:spPr>
          <a:xfrm>
            <a:off x="6318360" y="4724280"/>
            <a:ext cx="16063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rden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d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7"/>
          <p:cNvSpPr/>
          <p:nvPr/>
        </p:nvSpPr>
        <p:spPr>
          <a:xfrm>
            <a:off x="6330960" y="3122640"/>
            <a:ext cx="1593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a entre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8"/>
          <p:cNvSpPr/>
          <p:nvPr/>
        </p:nvSpPr>
        <p:spPr>
          <a:xfrm>
            <a:off x="3581280" y="2286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Times New Roman"/>
              </a:rPr>
              <a:t>Fluxo de Dados e Decisõ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2894400" y="647712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Fluxo físico e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WordArt 50"/>
          <p:cNvSpPr txBox="1"/>
          <p:nvPr/>
        </p:nvSpPr>
        <p:spPr>
          <a:xfrm>
            <a:off x="152280" y="990720"/>
            <a:ext cx="4419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Fluxos na Logística Integ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879" name="Text Box 51"/>
          <p:cNvSpPr/>
          <p:nvPr/>
        </p:nvSpPr>
        <p:spPr>
          <a:xfrm>
            <a:off x="153720" y="1573200"/>
            <a:ext cx="21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Martins e Campos Alt, Saraiva (2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Espaço Reservado para Data 5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8B2-53C7-4BCA-8F21-8619643C095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89F-295B-4A7F-81BD-9F8D9489BD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Logística hoje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29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 realizada por Luiz Carlos Di Sério e Rubens da Costa Santos, da FGV/SP (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área abrange um sem-número de atividades e envolve um paradoxo: quanto mais transparente, quanto menos percebida por todos, melhor será seu desempenh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Times New Roman"/>
              </a:rPr>
              <a:t>Isto vale tanto para uma empresa como a imensa engrenagem da cadeia de negócios que movimenta todo o mercado e faz os produtos chegarem às mãos d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adoção de modernos sistemas de gerenciamento logístico, uso d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e a busca constante pela eficiência operacional são fatores-chave de sucesso para a conquista dos objetivos empresa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EA1B-06E6-4EEA-BE42-55FECD41A05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EAC5-F308-47C7-9D34-85F8A6D1D4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Picture 5" descr="estagio_atual"/>
          <p:cNvPicPr/>
          <p:nvPr/>
        </p:nvPicPr>
        <p:blipFill>
          <a:blip r:embed="rId1"/>
          <a:stretch/>
        </p:blipFill>
        <p:spPr>
          <a:xfrm>
            <a:off x="611280" y="1368360"/>
            <a:ext cx="8064360" cy="530064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6"/>
          <p:cNvSpPr/>
          <p:nvPr/>
        </p:nvSpPr>
        <p:spPr>
          <a:xfrm>
            <a:off x="290880" y="520560"/>
            <a:ext cx="8768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Times New Roman"/>
              </a:rPr>
              <a:t>A estudo identificou o estágio atual em que se encontram as empresas no mercado brasilei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9193-D7FB-4C23-9387-7FC043672CB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7F5-C322-444A-8B79-4B0C4149B8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Rede de abastecimento interconectada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91" name="Picture 7" descr="cenario_possivel"/>
          <p:cNvPicPr/>
          <p:nvPr/>
        </p:nvPicPr>
        <p:blipFill>
          <a:blip r:embed="rId1"/>
          <a:stretch/>
        </p:blipFill>
        <p:spPr>
          <a:xfrm>
            <a:off x="627120" y="1916280"/>
            <a:ext cx="7761240" cy="4133520"/>
          </a:xfrm>
          <a:prstGeom prst="rect">
            <a:avLst/>
          </a:prstGeom>
          <a:ln w="0">
            <a:noFill/>
          </a:ln>
        </p:spPr>
      </p:pic>
      <p:sp>
        <p:nvSpPr>
          <p:cNvPr id="892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71D-0B59-4F76-B77F-E906E0CF3C0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492E-B357-4B56-AA9F-84A30475AC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933480" y="3359160"/>
            <a:ext cx="7308720" cy="655560"/>
          </a:xfrm>
          <a:prstGeom prst="rightArrow">
            <a:avLst>
              <a:gd name="adj1" fmla="val 50000"/>
              <a:gd name="adj2" fmla="val 55811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 flipH="1">
            <a:off x="857160" y="5510160"/>
            <a:ext cx="7315200" cy="655560"/>
          </a:xfrm>
          <a:prstGeom prst="rightArrow">
            <a:avLst>
              <a:gd name="adj1" fmla="val 50000"/>
              <a:gd name="adj2" fmla="val 55860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5" descr=""/>
          <p:cNvPicPr/>
          <p:nvPr/>
        </p:nvPicPr>
        <p:blipFill>
          <a:blip r:embed="rId1"/>
          <a:stretch/>
        </p:blipFill>
        <p:spPr>
          <a:xfrm>
            <a:off x="5581800" y="4348080"/>
            <a:ext cx="204444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6" descr=""/>
          <p:cNvPicPr/>
          <p:nvPr/>
        </p:nvPicPr>
        <p:blipFill>
          <a:blip r:embed="rId2"/>
          <a:stretch/>
        </p:blipFill>
        <p:spPr>
          <a:xfrm>
            <a:off x="1924200" y="4114800"/>
            <a:ext cx="1680840" cy="107640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7" descr=""/>
          <p:cNvPicPr/>
          <p:nvPr/>
        </p:nvPicPr>
        <p:blipFill>
          <a:blip r:embed="rId3"/>
          <a:stretch/>
        </p:blipFill>
        <p:spPr>
          <a:xfrm>
            <a:off x="3676680" y="4419720"/>
            <a:ext cx="1839960" cy="7776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8" descr=""/>
          <p:cNvPicPr/>
          <p:nvPr/>
        </p:nvPicPr>
        <p:blipFill>
          <a:blip r:embed="rId4"/>
          <a:stretch/>
        </p:blipFill>
        <p:spPr>
          <a:xfrm>
            <a:off x="324000" y="4114800"/>
            <a:ext cx="1554120" cy="9828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5"/>
          <a:stretch/>
        </p:blipFill>
        <p:spPr>
          <a:xfrm>
            <a:off x="7791480" y="4114800"/>
            <a:ext cx="492120" cy="977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371880" y="508644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RNECE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000520" y="5100480"/>
            <a:ext cx="1338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799800" y="5105520"/>
            <a:ext cx="146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7565760" y="5153040"/>
            <a:ext cx="94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6114960" y="510552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ARE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0066"/>
                </a:solidFill>
                <a:latin typeface="Arial Black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99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 LOGÍSTICA PARA UMA ORGANIZ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 LOGÍ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spaço Reservado para Data 1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78C8-B431-48E6-BAE6-E6BF4F25EA8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3972-87E8-4C6F-A214-818D04AAD6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5" descr="cenario_prospectivo"/>
          <p:cNvPicPr/>
          <p:nvPr/>
        </p:nvPicPr>
        <p:blipFill>
          <a:blip r:embed="rId1"/>
          <a:stretch/>
        </p:blipFill>
        <p:spPr>
          <a:xfrm>
            <a:off x="324000" y="1619280"/>
            <a:ext cx="8423280" cy="500868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6"/>
          <p:cNvSpPr/>
          <p:nvPr/>
        </p:nvSpPr>
        <p:spPr>
          <a:xfrm>
            <a:off x="1908720" y="333360"/>
            <a:ext cx="49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de adaptativa baseada em 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m cenário pro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CD08-C3EF-4D62-88DE-296D2283F94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0AA0-11AA-49A6-A23D-8E045069C2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Conclusões gerai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8062920" cy="5043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s resultados obtidos evidenciam que investir em logística poderá produzir importantes ganhos que elevam a competitividade das empresas. Merecem destaque entre estes resultados potencia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0% de ganhos com a melhoria no nível de at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0% de ganhos com a integração com o sistema financ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40% de redução no tempo médio de fechamento de negócios e no tempo percorrido entre o pedido e a entrega ao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40% de redução nos custos de transações financei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30% de aumento da receita com clientes no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7% de aumento da receita com clientes at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960-2B9F-4261-AB2E-B184EBCBF68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409-0045-4FB8-8121-DB19679006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"/>
          <p:cNvSpPr/>
          <p:nvPr/>
        </p:nvSpPr>
        <p:spPr>
          <a:xfrm>
            <a:off x="1752480" y="914400"/>
            <a:ext cx="5791320" cy="5029200"/>
          </a:xfrm>
          <a:prstGeom prst="rect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ividades típica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tençã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ped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se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WordArt 3"/>
          <p:cNvSpPr txBox="1"/>
          <p:nvPr/>
        </p:nvSpPr>
        <p:spPr>
          <a:xfrm>
            <a:off x="152280" y="228600"/>
            <a:ext cx="4419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Interfaces do Sistema Logíst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4954320" y="228600"/>
            <a:ext cx="21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Ballou (19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Martins e Campos Alt, Saraiva (2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5"/>
          <p:cNvSpPr/>
          <p:nvPr/>
        </p:nvSpPr>
        <p:spPr>
          <a:xfrm>
            <a:off x="152280" y="1752480"/>
            <a:ext cx="3124440" cy="358164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81640"/>
              <a:gd name="textAreaBottom" fmla="*/ 3429360 h 3581640"/>
            </a:gdLst>
            <a:ahLst/>
            <a:rect l="textAreaLeft" t="textAreaTop" r="textAreaRight" b="textAreaBottom"/>
            <a:pathLst>
              <a:path w="21600" h="24760">
                <a:moveTo>
                  <a:pt x="3600" y="0"/>
                </a:moveTo>
                <a:arcTo wR="3600" hR="3600" stAng="16200000" swAng="-5400000"/>
                <a:lnTo>
                  <a:pt x="0" y="21160"/>
                </a:lnTo>
                <a:arcTo wR="3600" hR="3600" stAng="10800000" swAng="-5400000"/>
                <a:lnTo>
                  <a:pt x="18000" y="24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dução        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Controle da     - Programaçã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alidade            da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   - Lo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talhado          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tenção      - 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equipa-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se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6"/>
          <p:cNvSpPr/>
          <p:nvPr/>
        </p:nvSpPr>
        <p:spPr>
          <a:xfrm>
            <a:off x="5791320" y="1752480"/>
            <a:ext cx="3124080" cy="35816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581640"/>
              <a:gd name="textAreaBottom" fmla="*/ 3429360 h 3581640"/>
            </a:gdLst>
            <a:ahLst/>
            <a:rect l="textAreaLeft" t="textAreaTop" r="textAreaRight" b="textAreaBottom"/>
            <a:pathLst>
              <a:path w="21600" h="24763">
                <a:moveTo>
                  <a:pt x="3600" y="0"/>
                </a:moveTo>
                <a:arcTo wR="3600" hR="3600" stAng="16200000" swAng="-5400000"/>
                <a:lnTo>
                  <a:pt x="0" y="21163"/>
                </a:lnTo>
                <a:arcTo wR="3600" hR="3600" stAng="10800000" swAng="-5400000"/>
                <a:lnTo>
                  <a:pt x="18000" y="24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tividades        Mark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Padrões de         - Promo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íveis de              - Propag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rviço (NS).       - 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mação de       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ço.                  - Adm.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balagem          forç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ocalização         ve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depósi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"/>
          <p:cNvSpPr/>
          <p:nvPr/>
        </p:nvSpPr>
        <p:spPr>
          <a:xfrm>
            <a:off x="391320" y="598176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Produção/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8"/>
          <p:cNvSpPr/>
          <p:nvPr/>
        </p:nvSpPr>
        <p:spPr>
          <a:xfrm>
            <a:off x="6877440" y="598788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Marketing/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Espaço Reservado para Data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ED4B-5B49-4EF7-B6ED-87950767A10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F543-3F66-4FE0-B2ED-FB776279C1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omposição de custos e margem de uma empresa industrial típica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447920" y="259092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r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1447920" y="304812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stos Log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1447920" y="350532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sto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1447920" y="396252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stos de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5334120" y="2590920"/>
            <a:ext cx="281916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5334120" y="3048120"/>
            <a:ext cx="281916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5334120" y="3505320"/>
            <a:ext cx="281916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5334120" y="3962520"/>
            <a:ext cx="281916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Espaço Reservado para Data 1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4BB9-DDC7-4D4E-A7CB-BD3959C3F5F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CD50-5A8E-4613-A986-C4526F2874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4038480" y="76320"/>
            <a:ext cx="1752840" cy="533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6858000" y="1066680"/>
            <a:ext cx="1752480" cy="533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mo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990720" y="1066680"/>
            <a:ext cx="1752480" cy="533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4038480" y="1905120"/>
            <a:ext cx="1752840" cy="533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a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6" name="AutoShape 6"/>
          <p:cNvCxnSpPr>
            <a:stCxn id="924" idx="3"/>
            <a:endCxn id="923" idx="1"/>
          </p:cNvCxnSpPr>
          <p:nvPr/>
        </p:nvCxnSpPr>
        <p:spPr>
          <a:xfrm>
            <a:off x="2762280" y="1333080"/>
            <a:ext cx="4077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7" name="AutoShape 7"/>
          <p:cNvCxnSpPr>
            <a:stCxn id="922" idx="2"/>
            <a:endCxn id="925" idx="0"/>
          </p:cNvCxnSpPr>
          <p:nvPr/>
        </p:nvCxnSpPr>
        <p:spPr>
          <a:xfrm>
            <a:off x="4914720" y="628200"/>
            <a:ext cx="1080" cy="12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8" name="AutoShape 8"/>
          <p:cNvCxnSpPr>
            <a:stCxn id="924" idx="0"/>
            <a:endCxn id="922" idx="1"/>
          </p:cNvCxnSpPr>
          <p:nvPr/>
        </p:nvCxnSpPr>
        <p:spPr>
          <a:xfrm flipV="1">
            <a:off x="1866600" y="342360"/>
            <a:ext cx="2153160" cy="70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9" name="AutoShape 9"/>
          <p:cNvCxnSpPr>
            <a:stCxn id="922" idx="3"/>
            <a:endCxn id="923" idx="0"/>
          </p:cNvCxnSpPr>
          <p:nvPr/>
        </p:nvCxnSpPr>
        <p:spPr>
          <a:xfrm>
            <a:off x="5810400" y="342720"/>
            <a:ext cx="1924560" cy="70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0" name="AutoShape 10"/>
          <p:cNvCxnSpPr>
            <a:stCxn id="924" idx="2"/>
            <a:endCxn id="925" idx="1"/>
          </p:cNvCxnSpPr>
          <p:nvPr/>
        </p:nvCxnSpPr>
        <p:spPr>
          <a:xfrm>
            <a:off x="1866600" y="1618920"/>
            <a:ext cx="2153160" cy="55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1" name="AutoShape 11"/>
          <p:cNvCxnSpPr>
            <a:stCxn id="925" idx="3"/>
            <a:endCxn id="923" idx="2"/>
          </p:cNvCxnSpPr>
          <p:nvPr/>
        </p:nvCxnSpPr>
        <p:spPr>
          <a:xfrm flipV="1">
            <a:off x="5810400" y="1618560"/>
            <a:ext cx="1924560" cy="55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2" name="Rectangle 12"/>
          <p:cNvSpPr/>
          <p:nvPr/>
        </p:nvSpPr>
        <p:spPr>
          <a:xfrm>
            <a:off x="4038480" y="2971800"/>
            <a:ext cx="175284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762120" y="373392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ras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62120" y="518148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st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4038480" y="6019920"/>
            <a:ext cx="175284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 ped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7315200" y="518148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17"/>
          <p:cNvSpPr/>
          <p:nvPr/>
        </p:nvSpPr>
        <p:spPr>
          <a:xfrm>
            <a:off x="7315200" y="373392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AutoShape 18"/>
          <p:cNvCxnSpPr>
            <a:stCxn id="934" idx="3"/>
            <a:endCxn id="936" idx="1"/>
          </p:cNvCxnSpPr>
          <p:nvPr/>
        </p:nvCxnSpPr>
        <p:spPr>
          <a:xfrm>
            <a:off x="2533320" y="5524200"/>
            <a:ext cx="476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AutoShape 19"/>
          <p:cNvCxnSpPr>
            <a:stCxn id="933" idx="3"/>
            <a:endCxn id="937" idx="1"/>
          </p:cNvCxnSpPr>
          <p:nvPr/>
        </p:nvCxnSpPr>
        <p:spPr>
          <a:xfrm>
            <a:off x="2533320" y="4076280"/>
            <a:ext cx="476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AutoShape 20"/>
          <p:cNvCxnSpPr>
            <a:stCxn id="932" idx="0"/>
            <a:endCxn id="925" idx="2"/>
          </p:cNvCxnSpPr>
          <p:nvPr/>
        </p:nvCxnSpPr>
        <p:spPr>
          <a:xfrm flipV="1">
            <a:off x="4914720" y="2457000"/>
            <a:ext cx="1080" cy="496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AutoShape 21"/>
          <p:cNvCxnSpPr>
            <a:stCxn id="934" idx="3"/>
            <a:endCxn id="932" idx="2"/>
          </p:cNvCxnSpPr>
          <p:nvPr/>
        </p:nvCxnSpPr>
        <p:spPr>
          <a:xfrm flipV="1">
            <a:off x="2533320" y="3675960"/>
            <a:ext cx="2382120" cy="184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AutoShape 22"/>
          <p:cNvCxnSpPr>
            <a:stCxn id="932" idx="2"/>
            <a:endCxn id="936" idx="1"/>
          </p:cNvCxnSpPr>
          <p:nvPr/>
        </p:nvCxnSpPr>
        <p:spPr>
          <a:xfrm>
            <a:off x="4915080" y="3676320"/>
            <a:ext cx="2381760" cy="184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3" name="AutoShape 23"/>
          <p:cNvCxnSpPr>
            <a:stCxn id="934" idx="3"/>
            <a:endCxn id="937" idx="1"/>
          </p:cNvCxnSpPr>
          <p:nvPr/>
        </p:nvCxnSpPr>
        <p:spPr>
          <a:xfrm flipV="1">
            <a:off x="2533320" y="4076280"/>
            <a:ext cx="4763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4" name="AutoShape 24"/>
          <p:cNvCxnSpPr>
            <a:stCxn id="933" idx="3"/>
            <a:endCxn id="936" idx="1"/>
          </p:cNvCxnSpPr>
          <p:nvPr/>
        </p:nvCxnSpPr>
        <p:spPr>
          <a:xfrm>
            <a:off x="2533320" y="4076640"/>
            <a:ext cx="4763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5" name="AutoShape 25"/>
          <p:cNvCxnSpPr>
            <a:stCxn id="937" idx="1"/>
            <a:endCxn id="935" idx="0"/>
          </p:cNvCxnSpPr>
          <p:nvPr/>
        </p:nvCxnSpPr>
        <p:spPr>
          <a:xfrm flipH="1">
            <a:off x="4914720" y="4076280"/>
            <a:ext cx="2381760" cy="192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6" name="AutoShape 26"/>
          <p:cNvCxnSpPr>
            <a:stCxn id="933" idx="3"/>
            <a:endCxn id="935" idx="0"/>
          </p:cNvCxnSpPr>
          <p:nvPr/>
        </p:nvCxnSpPr>
        <p:spPr>
          <a:xfrm>
            <a:off x="2533320" y="4076280"/>
            <a:ext cx="2382120" cy="192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7" name="AutoShape 27"/>
          <p:cNvCxnSpPr>
            <a:stCxn id="933" idx="0"/>
            <a:endCxn id="932" idx="1"/>
          </p:cNvCxnSpPr>
          <p:nvPr/>
        </p:nvCxnSpPr>
        <p:spPr>
          <a:xfrm flipV="1">
            <a:off x="1638360" y="3314160"/>
            <a:ext cx="238176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8" name="AutoShape 28"/>
          <p:cNvCxnSpPr>
            <a:stCxn id="932" idx="3"/>
            <a:endCxn id="937" idx="0"/>
          </p:cNvCxnSpPr>
          <p:nvPr/>
        </p:nvCxnSpPr>
        <p:spPr>
          <a:xfrm>
            <a:off x="5810400" y="3314520"/>
            <a:ext cx="238176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9" name="AutoShape 29"/>
          <p:cNvCxnSpPr>
            <a:stCxn id="934" idx="2"/>
            <a:endCxn id="935" idx="1"/>
          </p:cNvCxnSpPr>
          <p:nvPr/>
        </p:nvCxnSpPr>
        <p:spPr>
          <a:xfrm>
            <a:off x="1638360" y="5886000"/>
            <a:ext cx="2381760" cy="47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0" name="AutoShape 30"/>
          <p:cNvCxnSpPr>
            <a:stCxn id="935" idx="3"/>
            <a:endCxn id="936" idx="2"/>
          </p:cNvCxnSpPr>
          <p:nvPr/>
        </p:nvCxnSpPr>
        <p:spPr>
          <a:xfrm flipV="1">
            <a:off x="5810400" y="5885640"/>
            <a:ext cx="2381760" cy="47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1" name="AutoShape 31"/>
          <p:cNvCxnSpPr>
            <a:stCxn id="934" idx="0"/>
            <a:endCxn id="933" idx="2"/>
          </p:cNvCxnSpPr>
          <p:nvPr/>
        </p:nvCxnSpPr>
        <p:spPr>
          <a:xfrm flipV="1">
            <a:off x="1638000" y="4438440"/>
            <a:ext cx="1080" cy="724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2" name="AutoShape 32"/>
          <p:cNvCxnSpPr>
            <a:stCxn id="937" idx="2"/>
            <a:endCxn id="936" idx="0"/>
          </p:cNvCxnSpPr>
          <p:nvPr/>
        </p:nvCxnSpPr>
        <p:spPr>
          <a:xfrm>
            <a:off x="8191080" y="4438800"/>
            <a:ext cx="1080" cy="724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3" name="AutoShape 33"/>
          <p:cNvCxnSpPr>
            <a:stCxn id="932" idx="2"/>
            <a:endCxn id="935" idx="0"/>
          </p:cNvCxnSpPr>
          <p:nvPr/>
        </p:nvCxnSpPr>
        <p:spPr>
          <a:xfrm>
            <a:off x="4914720" y="3676680"/>
            <a:ext cx="1080" cy="232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4" name="Text Box 34"/>
          <p:cNvSpPr/>
          <p:nvPr/>
        </p:nvSpPr>
        <p:spPr>
          <a:xfrm>
            <a:off x="608760" y="2286000"/>
            <a:ext cx="29437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odelo conceitua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ogística inte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5"/>
          <p:cNvSpPr/>
          <p:nvPr/>
        </p:nvSpPr>
        <p:spPr>
          <a:xfrm>
            <a:off x="-302040" y="6451560"/>
            <a:ext cx="445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Fleury (2000, p.34) </a:t>
            </a:r>
            <a:r>
              <a:rPr b="0" lang="pt-BR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 Lambert e Stock (199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Espaço Reservado para Data 3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1A7B-5577-40CD-B253-6D03D0B742F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2546-FC1B-4706-B168-F94BBBADF9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imensões da </a:t>
            </a:r>
            <a:br>
              <a:rPr sz="4400"/>
            </a:b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xcelência Logística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2819520" y="228600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ucess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2819520" y="274320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gração in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2819520" y="320040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gração ex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6"/>
          <p:cNvSpPr/>
          <p:nvPr/>
        </p:nvSpPr>
        <p:spPr>
          <a:xfrm>
            <a:off x="2819520" y="365760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os baseados no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2819520" y="411480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ensuração abran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8"/>
          <p:cNvSpPr/>
          <p:nvPr/>
        </p:nvSpPr>
        <p:spPr>
          <a:xfrm>
            <a:off x="2819520" y="457200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3534480" y="5373720"/>
            <a:ext cx="24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Fleury (2000, p.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9E8F-3EEF-4426-9173-7FE6224FBFF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2690-07B6-47EB-A7AC-A8940DC8D8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Picture 6" descr="Ficheiro:Dhl.a300b4-200f.arp.jpg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969" name="Espaço Reservado para Data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DB5-F2B7-4BE3-8AA0-20DEC7CFE2C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CAF-2366-4907-B99E-9ADFFCB748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xemplo: </a:t>
            </a:r>
            <a:r>
              <a:rPr b="1" lang="pt-BR" sz="8800" spc="-1" strike="noStrike">
                <a:solidFill>
                  <a:srgbClr val="3333cc"/>
                </a:solidFill>
                <a:latin typeface="Times New Roman"/>
              </a:rPr>
              <a:t>DHL</a:t>
            </a:r>
            <a:endParaRPr b="0" lang="en-US" sz="8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DHL é uma empresa, sediada em Bonn e pertencente ao grupo alemã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utsche Post World Net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que opera nas áreas do transporte expresso de documentos e correspondências, bem como, na área da logística contrat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undada em 1969, a DHL é um acrônimo do nome dos seus dos seus criadores norte-americanos, são eles: Adrian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alse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Larry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illblo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Robert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y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1A1-CFE6-4E02-8967-2F48DA84659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7AD-A93F-49B6-9640-3F0B857E8B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800000"/>
                </a:solidFill>
                <a:latin typeface="Times New Roman"/>
              </a:rPr>
              <a:t>DHL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4000" y="98064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Na sua rede global incorpora cerca de 6 500 escritórios e mais de 120 000 destinos espalhados por mais de 220 paí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pesar de estar na terceira posição, em termos de empresas privadas na prestação de serviços nos Estado Unidos, onde foi fundada, a DHL domina o mercado internacional com aproximadamente 1.5 bilhões de envios por 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Sob o lema «Nós movemos o mundo» a DHL é líder em diversos mercados como os serviços de expresso internacional, transporte aéreo e transporte terrestre, assim como em log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de que foi adquirida pelo grupo alemão dos correios, em Dezembro de 2002, a sua marca tem crescido através da integração de outras empresas compradas pela Deutsche Post, algumas delas também lideres de mer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O seu sucesso é derivado, em grande parte, da sua preocupação com a qualidade dos serviços que presta, sendo este fator, um baluarte do desenvolvimento da companh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3F1-513E-4483-9C85-D1CE72CEB7E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338-9BF8-4977-B123-63772E43F7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4114800" y="6248520"/>
            <a:ext cx="1981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deia de suprimento típic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2819520" y="1066680"/>
            <a:ext cx="20574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necedor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téria-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2819520" y="2743200"/>
            <a:ext cx="2057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dúst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2895480" y="4572000"/>
            <a:ext cx="2057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arej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8"/>
          <p:cNvSpPr/>
          <p:nvPr/>
        </p:nvSpPr>
        <p:spPr>
          <a:xfrm>
            <a:off x="2895480" y="5867280"/>
            <a:ext cx="20574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sumi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9"/>
          <p:cNvSpPr/>
          <p:nvPr/>
        </p:nvSpPr>
        <p:spPr>
          <a:xfrm>
            <a:off x="5181480" y="1752480"/>
            <a:ext cx="3505320" cy="685800"/>
          </a:xfrm>
          <a:prstGeom prst="parallelogram">
            <a:avLst>
              <a:gd name="adj" fmla="val 1277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bricant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7"/>
          <p:cNvSpPr/>
          <p:nvPr/>
        </p:nvSpPr>
        <p:spPr>
          <a:xfrm>
            <a:off x="5105520" y="3505320"/>
            <a:ext cx="3504960" cy="685800"/>
          </a:xfrm>
          <a:prstGeom prst="parallelogram">
            <a:avLst>
              <a:gd name="adj" fmla="val 1277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tacadista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8"/>
          <p:cNvSpPr/>
          <p:nvPr/>
        </p:nvSpPr>
        <p:spPr>
          <a:xfrm>
            <a:off x="3809880" y="1676520"/>
            <a:ext cx="0" cy="1066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9"/>
          <p:cNvSpPr/>
          <p:nvPr/>
        </p:nvSpPr>
        <p:spPr>
          <a:xfrm>
            <a:off x="3809880" y="3352680"/>
            <a:ext cx="0" cy="1067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0"/>
          <p:cNvSpPr/>
          <p:nvPr/>
        </p:nvSpPr>
        <p:spPr>
          <a:xfrm>
            <a:off x="3809880" y="5181480"/>
            <a:ext cx="0" cy="7621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4876920" y="1295280"/>
            <a:ext cx="2438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2"/>
          <p:cNvSpPr/>
          <p:nvPr/>
        </p:nvSpPr>
        <p:spPr>
          <a:xfrm>
            <a:off x="4876920" y="2895480"/>
            <a:ext cx="24382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3"/>
          <p:cNvSpPr/>
          <p:nvPr/>
        </p:nvSpPr>
        <p:spPr>
          <a:xfrm>
            <a:off x="4876920" y="3124080"/>
            <a:ext cx="2438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>
            <a:off x="4952880" y="4724280"/>
            <a:ext cx="243864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6"/>
          <p:cNvSpPr/>
          <p:nvPr/>
        </p:nvSpPr>
        <p:spPr>
          <a:xfrm>
            <a:off x="7315200" y="1295280"/>
            <a:ext cx="0" cy="4572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27"/>
          <p:cNvSpPr/>
          <p:nvPr/>
        </p:nvSpPr>
        <p:spPr>
          <a:xfrm>
            <a:off x="7315200" y="3124080"/>
            <a:ext cx="0" cy="3812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9"/>
          <p:cNvSpPr/>
          <p:nvPr/>
        </p:nvSpPr>
        <p:spPr>
          <a:xfrm flipV="1">
            <a:off x="7315200" y="2438280"/>
            <a:ext cx="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31"/>
          <p:cNvSpPr/>
          <p:nvPr/>
        </p:nvSpPr>
        <p:spPr>
          <a:xfrm flipV="1">
            <a:off x="7391520" y="4190760"/>
            <a:ext cx="0" cy="5331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32"/>
          <p:cNvSpPr/>
          <p:nvPr/>
        </p:nvSpPr>
        <p:spPr>
          <a:xfrm>
            <a:off x="1981080" y="3200400"/>
            <a:ext cx="533520" cy="3352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33"/>
          <p:cNvSpPr/>
          <p:nvPr/>
        </p:nvSpPr>
        <p:spPr>
          <a:xfrm>
            <a:off x="434880" y="4460760"/>
            <a:ext cx="12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Espaço Reservado para Data 2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344E-46FC-4319-A197-F96AD02338B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00D4-E299-42E5-8279-E90F502305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4" name="Picture 6" descr="logistica-natal"/>
          <p:cNvPicPr/>
          <p:nvPr/>
        </p:nvPicPr>
        <p:blipFill>
          <a:blip r:embed="rId1"/>
          <a:stretch/>
        </p:blipFill>
        <p:spPr>
          <a:xfrm>
            <a:off x="2484360" y="1989000"/>
            <a:ext cx="401472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378D-7203-476F-9B77-BEF43F90D38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C9F-5F22-42C4-9BCC-379631D450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strutura simples de um 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canal de distribuição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380880" y="1523880"/>
            <a:ext cx="2362320" cy="44960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grícola 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térias-Pr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4"/>
          <p:cNvSpPr/>
          <p:nvPr/>
        </p:nvSpPr>
        <p:spPr>
          <a:xfrm>
            <a:off x="4572000" y="1600200"/>
            <a:ext cx="4114800" cy="76212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abricante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sumidores Industr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4572000" y="2819520"/>
            <a:ext cx="19051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tacad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6"/>
          <p:cNvSpPr/>
          <p:nvPr/>
        </p:nvSpPr>
        <p:spPr>
          <a:xfrm>
            <a:off x="4572000" y="3657600"/>
            <a:ext cx="190512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arej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7"/>
          <p:cNvSpPr/>
          <p:nvPr/>
        </p:nvSpPr>
        <p:spPr>
          <a:xfrm>
            <a:off x="4572000" y="5562720"/>
            <a:ext cx="42670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2743200" y="19051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9"/>
          <p:cNvSpPr/>
          <p:nvPr/>
        </p:nvSpPr>
        <p:spPr>
          <a:xfrm>
            <a:off x="2743200" y="30481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10"/>
          <p:cNvSpPr/>
          <p:nvPr/>
        </p:nvSpPr>
        <p:spPr>
          <a:xfrm>
            <a:off x="2819520" y="38862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11"/>
          <p:cNvSpPr/>
          <p:nvPr/>
        </p:nvSpPr>
        <p:spPr>
          <a:xfrm>
            <a:off x="2819520" y="5791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2"/>
          <p:cNvSpPr/>
          <p:nvPr/>
        </p:nvSpPr>
        <p:spPr>
          <a:xfrm>
            <a:off x="8305920" y="23623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3"/>
          <p:cNvSpPr/>
          <p:nvPr/>
        </p:nvSpPr>
        <p:spPr>
          <a:xfrm>
            <a:off x="8001000" y="2362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14"/>
          <p:cNvSpPr/>
          <p:nvPr/>
        </p:nvSpPr>
        <p:spPr>
          <a:xfrm flipH="1">
            <a:off x="6629400" y="3962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5"/>
          <p:cNvSpPr/>
          <p:nvPr/>
        </p:nvSpPr>
        <p:spPr>
          <a:xfrm>
            <a:off x="64771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16"/>
          <p:cNvSpPr/>
          <p:nvPr/>
        </p:nvSpPr>
        <p:spPr>
          <a:xfrm>
            <a:off x="7162920" y="3048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17"/>
          <p:cNvSpPr/>
          <p:nvPr/>
        </p:nvSpPr>
        <p:spPr>
          <a:xfrm>
            <a:off x="5638680" y="2362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8"/>
          <p:cNvSpPr/>
          <p:nvPr/>
        </p:nvSpPr>
        <p:spPr>
          <a:xfrm>
            <a:off x="56386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9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Espaço Reservado para Data 2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FE68-99CB-40A8-8F57-D5F1CA1AE5D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5D8B-40E4-4282-8777-C8F71E4D16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47"/>
          <p:cNvSpPr/>
          <p:nvPr/>
        </p:nvSpPr>
        <p:spPr>
          <a:xfrm>
            <a:off x="3124080" y="6095880"/>
            <a:ext cx="2895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Estrutura complexa de um canal</a:t>
            </a:r>
            <a:br>
              <a:rPr sz="2800"/>
            </a:b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 de distribuição segmentad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1676520" y="609480"/>
            <a:ext cx="19047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1676520" y="1295280"/>
            <a:ext cx="190476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bric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1676520" y="1752480"/>
            <a:ext cx="190476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Fáb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6"/>
          <p:cNvSpPr/>
          <p:nvPr/>
        </p:nvSpPr>
        <p:spPr>
          <a:xfrm>
            <a:off x="1676520" y="2514600"/>
            <a:ext cx="1904760" cy="9144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ntr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1676520" y="4191120"/>
            <a:ext cx="190476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rmazém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deia Varej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8"/>
          <p:cNvSpPr/>
          <p:nvPr/>
        </p:nvSpPr>
        <p:spPr>
          <a:xfrm>
            <a:off x="1676520" y="5562720"/>
            <a:ext cx="1904760" cy="3808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arej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9"/>
          <p:cNvSpPr/>
          <p:nvPr/>
        </p:nvSpPr>
        <p:spPr>
          <a:xfrm>
            <a:off x="1676520" y="6324480"/>
            <a:ext cx="190476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0"/>
          <p:cNvSpPr/>
          <p:nvPr/>
        </p:nvSpPr>
        <p:spPr>
          <a:xfrm>
            <a:off x="4343400" y="4191120"/>
            <a:ext cx="15238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1"/>
          <p:cNvSpPr/>
          <p:nvPr/>
        </p:nvSpPr>
        <p:spPr>
          <a:xfrm>
            <a:off x="6629400" y="4191120"/>
            <a:ext cx="144792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stitu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2"/>
          <p:cNvSpPr/>
          <p:nvPr/>
        </p:nvSpPr>
        <p:spPr>
          <a:xfrm>
            <a:off x="114480" y="4191120"/>
            <a:ext cx="125712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acad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0968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14"/>
          <p:cNvSpPr/>
          <p:nvPr/>
        </p:nvSpPr>
        <p:spPr>
          <a:xfrm>
            <a:off x="28195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5"/>
          <p:cNvSpPr/>
          <p:nvPr/>
        </p:nvSpPr>
        <p:spPr>
          <a:xfrm>
            <a:off x="228600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6"/>
          <p:cNvSpPr/>
          <p:nvPr/>
        </p:nvSpPr>
        <p:spPr>
          <a:xfrm>
            <a:off x="289548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17"/>
          <p:cNvSpPr/>
          <p:nvPr/>
        </p:nvSpPr>
        <p:spPr>
          <a:xfrm>
            <a:off x="220968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18"/>
          <p:cNvSpPr/>
          <p:nvPr/>
        </p:nvSpPr>
        <p:spPr>
          <a:xfrm>
            <a:off x="2133720" y="4876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AutoShape 19"/>
          <p:cNvCxnSpPr>
            <a:stCxn id="1033" idx="0"/>
            <a:endCxn id="1032" idx="0"/>
          </p:cNvCxnSpPr>
          <p:nvPr/>
        </p:nvCxnSpPr>
        <p:spPr>
          <a:xfrm flipH="1" rot="16200000">
            <a:off x="4047480" y="867240"/>
            <a:ext cx="2160" cy="6611040"/>
          </a:xfrm>
          <a:prstGeom prst="bentConnector3">
            <a:avLst>
              <a:gd name="adj1" fmla="val -315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1" name="Line 20"/>
          <p:cNvSpPr/>
          <p:nvPr/>
        </p:nvSpPr>
        <p:spPr>
          <a:xfrm>
            <a:off x="914400" y="38098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1"/>
          <p:cNvSpPr/>
          <p:nvPr/>
        </p:nvSpPr>
        <p:spPr>
          <a:xfrm>
            <a:off x="91440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2"/>
          <p:cNvSpPr/>
          <p:nvPr/>
        </p:nvSpPr>
        <p:spPr>
          <a:xfrm>
            <a:off x="716292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23"/>
          <p:cNvSpPr/>
          <p:nvPr/>
        </p:nvSpPr>
        <p:spPr>
          <a:xfrm>
            <a:off x="190512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24"/>
          <p:cNvSpPr/>
          <p:nvPr/>
        </p:nvSpPr>
        <p:spPr>
          <a:xfrm flipV="1">
            <a:off x="289548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25"/>
          <p:cNvSpPr/>
          <p:nvPr/>
        </p:nvSpPr>
        <p:spPr>
          <a:xfrm>
            <a:off x="457200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26"/>
          <p:cNvSpPr/>
          <p:nvPr/>
        </p:nvSpPr>
        <p:spPr>
          <a:xfrm>
            <a:off x="52578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27"/>
          <p:cNvSpPr/>
          <p:nvPr/>
        </p:nvSpPr>
        <p:spPr>
          <a:xfrm>
            <a:off x="152280" y="1981080"/>
            <a:ext cx="1257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áb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AutoShape 28"/>
          <p:cNvCxnSpPr>
            <a:stCxn id="1025" idx="1"/>
            <a:endCxn id="1048" idx="0"/>
          </p:cNvCxnSpPr>
          <p:nvPr/>
        </p:nvCxnSpPr>
        <p:spPr>
          <a:xfrm flipV="1" rot="10800000">
            <a:off x="780480" y="1485720"/>
            <a:ext cx="876960" cy="4766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Line 29"/>
          <p:cNvSpPr/>
          <p:nvPr/>
        </p:nvSpPr>
        <p:spPr>
          <a:xfrm>
            <a:off x="8534520" y="1600200"/>
            <a:ext cx="0" cy="4876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30"/>
          <p:cNvSpPr/>
          <p:nvPr/>
        </p:nvSpPr>
        <p:spPr>
          <a:xfrm>
            <a:off x="3581280" y="64771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1"/>
          <p:cNvSpPr/>
          <p:nvPr/>
        </p:nvSpPr>
        <p:spPr>
          <a:xfrm>
            <a:off x="3581280" y="57913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32"/>
          <p:cNvSpPr/>
          <p:nvPr/>
        </p:nvSpPr>
        <p:spPr>
          <a:xfrm flipH="1">
            <a:off x="3657240" y="160020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33"/>
          <p:cNvSpPr/>
          <p:nvPr/>
        </p:nvSpPr>
        <p:spPr>
          <a:xfrm flipV="1">
            <a:off x="2438280" y="4876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4"/>
          <p:cNvSpPr/>
          <p:nvPr/>
        </p:nvSpPr>
        <p:spPr>
          <a:xfrm flipV="1">
            <a:off x="274320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35"/>
          <p:cNvSpPr/>
          <p:nvPr/>
        </p:nvSpPr>
        <p:spPr>
          <a:xfrm>
            <a:off x="2743200" y="5105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6"/>
          <p:cNvSpPr/>
          <p:nvPr/>
        </p:nvSpPr>
        <p:spPr>
          <a:xfrm flipV="1">
            <a:off x="5181480" y="4800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7"/>
          <p:cNvSpPr/>
          <p:nvPr/>
        </p:nvSpPr>
        <p:spPr>
          <a:xfrm>
            <a:off x="55627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3200400" y="5257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39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0"/>
          <p:cNvSpPr/>
          <p:nvPr/>
        </p:nvSpPr>
        <p:spPr>
          <a:xfrm flipV="1">
            <a:off x="1981080" y="5181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1"/>
          <p:cNvSpPr/>
          <p:nvPr/>
        </p:nvSpPr>
        <p:spPr>
          <a:xfrm flipH="1">
            <a:off x="68580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2"/>
          <p:cNvSpPr/>
          <p:nvPr/>
        </p:nvSpPr>
        <p:spPr>
          <a:xfrm flipV="1">
            <a:off x="685800" y="4876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43"/>
          <p:cNvSpPr/>
          <p:nvPr/>
        </p:nvSpPr>
        <p:spPr>
          <a:xfrm>
            <a:off x="4572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44"/>
          <p:cNvSpPr/>
          <p:nvPr/>
        </p:nvSpPr>
        <p:spPr>
          <a:xfrm>
            <a:off x="457200" y="5257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45"/>
          <p:cNvSpPr/>
          <p:nvPr/>
        </p:nvSpPr>
        <p:spPr>
          <a:xfrm>
            <a:off x="18288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46"/>
          <p:cNvSpPr/>
          <p:nvPr/>
        </p:nvSpPr>
        <p:spPr>
          <a:xfrm>
            <a:off x="190512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Espaço Reservado para Data 4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EC1-BF42-4D83-8FCA-B1BDB584DC8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09F-BCC2-4E34-AD60-6F0AC467D2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Processos chaves da 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cadeia de suprimentos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pt-BR" sz="3600" spc="-1" strike="noStrike">
                <a:solidFill>
                  <a:srgbClr val="3333cc"/>
                </a:solidFill>
                <a:latin typeface="Times New Roman"/>
              </a:rPr>
              <a:t>Supply Chain -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914400" y="2514600"/>
            <a:ext cx="723888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Relacionamento com os 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erviços a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dministração d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tendimento de ped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dministração do fluxo de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mpras/supr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Desenvolvimento de novos prod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Picture 4" descr="key"/>
          <p:cNvPicPr/>
          <p:nvPr/>
        </p:nvPicPr>
        <p:blipFill>
          <a:blip r:embed="rId1"/>
          <a:stretch/>
        </p:blipFill>
        <p:spPr>
          <a:xfrm>
            <a:off x="609480" y="457200"/>
            <a:ext cx="1465560" cy="1496880"/>
          </a:xfrm>
          <a:prstGeom prst="rect">
            <a:avLst/>
          </a:prstGeom>
          <a:ln w="0">
            <a:noFill/>
          </a:ln>
        </p:spPr>
      </p:pic>
      <p:sp>
        <p:nvSpPr>
          <p:cNvPr id="107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ECB5-423C-4700-BA50-540667A502E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BD97-90D3-4136-8C38-BB0C913C75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imes New Roman"/>
              </a:rPr>
              <a:t>O modelo de supply chain manage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6" name="Oval 3"/>
          <p:cNvSpPr/>
          <p:nvPr/>
        </p:nvSpPr>
        <p:spPr>
          <a:xfrm>
            <a:off x="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í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"/>
          <p:cNvSpPr/>
          <p:nvPr/>
        </p:nvSpPr>
        <p:spPr>
          <a:xfrm>
            <a:off x="1143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í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5"/>
          <p:cNvSpPr/>
          <p:nvPr/>
        </p:nvSpPr>
        <p:spPr>
          <a:xfrm>
            <a:off x="2286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6"/>
          <p:cNvSpPr/>
          <p:nvPr/>
        </p:nvSpPr>
        <p:spPr>
          <a:xfrm>
            <a:off x="3429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7"/>
          <p:cNvSpPr/>
          <p:nvPr/>
        </p:nvSpPr>
        <p:spPr>
          <a:xfrm>
            <a:off x="4572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8"/>
          <p:cNvSpPr/>
          <p:nvPr/>
        </p:nvSpPr>
        <p:spPr>
          <a:xfrm>
            <a:off x="5715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istribui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í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9"/>
          <p:cNvSpPr/>
          <p:nvPr/>
        </p:nvSpPr>
        <p:spPr>
          <a:xfrm>
            <a:off x="8001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lient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10"/>
          <p:cNvSpPr/>
          <p:nvPr/>
        </p:nvSpPr>
        <p:spPr>
          <a:xfrm>
            <a:off x="6858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e ven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11"/>
          <p:cNvSpPr/>
          <p:nvPr/>
        </p:nvSpPr>
        <p:spPr>
          <a:xfrm>
            <a:off x="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í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2"/>
          <p:cNvSpPr/>
          <p:nvPr/>
        </p:nvSpPr>
        <p:spPr>
          <a:xfrm>
            <a:off x="152280" y="1600200"/>
            <a:ext cx="8763120" cy="762120"/>
          </a:xfrm>
          <a:prstGeom prst="rightArrow">
            <a:avLst>
              <a:gd name="adj1" fmla="val 50000"/>
              <a:gd name="adj2" fmla="val 287459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LUXO DE PROD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3"/>
          <p:cNvSpPr/>
          <p:nvPr/>
        </p:nvSpPr>
        <p:spPr>
          <a:xfrm>
            <a:off x="228600" y="2514600"/>
            <a:ext cx="7238880" cy="2286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lacionamento com os cli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s a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dministração d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ndimento de ped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dministração do fluxo de p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uprimentos/comp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envolvimento e comercializ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AutoShape 14"/>
          <p:cNvSpPr/>
          <p:nvPr/>
        </p:nvSpPr>
        <p:spPr>
          <a:xfrm>
            <a:off x="152280" y="5029200"/>
            <a:ext cx="8763120" cy="762120"/>
          </a:xfrm>
          <a:prstGeom prst="rightArrow">
            <a:avLst>
              <a:gd name="adj1" fmla="val 50000"/>
              <a:gd name="adj2" fmla="val 287459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OS DO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15"/>
          <p:cNvSpPr/>
          <p:nvPr/>
        </p:nvSpPr>
        <p:spPr>
          <a:xfrm>
            <a:off x="152280" y="5943600"/>
            <a:ext cx="8763120" cy="762120"/>
          </a:xfrm>
          <a:prstGeom prst="rightArrow">
            <a:avLst>
              <a:gd name="adj1" fmla="val 50000"/>
              <a:gd name="adj2" fmla="val 287459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DICADOR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16"/>
          <p:cNvSpPr/>
          <p:nvPr/>
        </p:nvSpPr>
        <p:spPr>
          <a:xfrm>
            <a:off x="0" y="5562720"/>
            <a:ext cx="8534520" cy="533160"/>
          </a:xfrm>
          <a:prstGeom prst="leftArrow">
            <a:avLst>
              <a:gd name="adj1" fmla="val 50000"/>
              <a:gd name="adj2" fmla="val 4001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Espaço Reservado para Data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09D-1FDC-414E-BD8F-14501EA7F0E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8012-0E6E-4BED-A589-0E1EBC67F3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Evolução  do Pensamento Logístic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5410080" y="685800"/>
            <a:ext cx="3276720" cy="11430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 do supply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Logística como diferenc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80 até ho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4724280" y="1828800"/>
            <a:ext cx="3276720" cy="114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o foco n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Busca por efici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70 até meados 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3581280" y="2971800"/>
            <a:ext cx="3505320" cy="11430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a integração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Funções integ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60 até início 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2362320" y="4114800"/>
            <a:ext cx="3962160" cy="1143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a especi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Ênfase nos desempenhos fun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40 até início 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1752480" y="5257800"/>
            <a:ext cx="327672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o “Campo ao Merc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Economia agrá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ício do século até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8"/>
          <p:cNvSpPr/>
          <p:nvPr/>
        </p:nvSpPr>
        <p:spPr>
          <a:xfrm rot="18492000">
            <a:off x="228240" y="2666880"/>
            <a:ext cx="5867280" cy="533520"/>
          </a:xfrm>
          <a:custGeom>
            <a:avLst/>
            <a:gdLst>
              <a:gd name="textAreaLeft" fmla="*/ 916560 w 5867280"/>
              <a:gd name="textAreaRight" fmla="*/ 5133960 w 5867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icture 10" descr="fianco_logistica"/>
          <p:cNvPicPr/>
          <p:nvPr/>
        </p:nvPicPr>
        <p:blipFill>
          <a:blip r:embed="rId2"/>
          <a:stretch/>
        </p:blipFill>
        <p:spPr>
          <a:xfrm>
            <a:off x="0" y="83808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1100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ECA-8A1B-44EE-939D-97014352BC7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7DD0-419E-4DA5-9746-938CA986AB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volução: Fases da Logístic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0" y="4114800"/>
            <a:ext cx="91440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Transporte                Transporte                    Transporte           Transporte                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5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-97200" y="1039680"/>
            <a:ext cx="93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1: Subsistemas otimizados separadamente, com estoques servindo de “pulm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8"/>
          <p:cNvSpPr/>
          <p:nvPr/>
        </p:nvSpPr>
        <p:spPr>
          <a:xfrm>
            <a:off x="380880" y="19810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f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9"/>
          <p:cNvSpPr/>
          <p:nvPr/>
        </p:nvSpPr>
        <p:spPr>
          <a:xfrm>
            <a:off x="3733920" y="19810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stribuição (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0"/>
          <p:cNvSpPr/>
          <p:nvPr/>
        </p:nvSpPr>
        <p:spPr>
          <a:xfrm>
            <a:off x="7162920" y="19810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arej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11"/>
          <p:cNvSpPr/>
          <p:nvPr/>
        </p:nvSpPr>
        <p:spPr>
          <a:xfrm>
            <a:off x="2362320" y="2057400"/>
            <a:ext cx="990360" cy="4572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12"/>
          <p:cNvSpPr/>
          <p:nvPr/>
        </p:nvSpPr>
        <p:spPr>
          <a:xfrm>
            <a:off x="5791320" y="2057400"/>
            <a:ext cx="990360" cy="4572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6"/>
          <p:cNvSpPr/>
          <p:nvPr/>
        </p:nvSpPr>
        <p:spPr>
          <a:xfrm>
            <a:off x="82368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7"/>
          <p:cNvSpPr/>
          <p:nvPr/>
        </p:nvSpPr>
        <p:spPr>
          <a:xfrm>
            <a:off x="4268880" y="2743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8"/>
          <p:cNvSpPr/>
          <p:nvPr/>
        </p:nvSpPr>
        <p:spPr>
          <a:xfrm>
            <a:off x="7697880" y="2743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9"/>
          <p:cNvSpPr/>
          <p:nvPr/>
        </p:nvSpPr>
        <p:spPr>
          <a:xfrm>
            <a:off x="135360" y="419112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2: Integração formando um duto rígido, com otimização dois a d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0"/>
          <p:cNvSpPr/>
          <p:nvPr/>
        </p:nvSpPr>
        <p:spPr>
          <a:xfrm>
            <a:off x="139680" y="13860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ATUAÇÃO SEGM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1"/>
          <p:cNvSpPr/>
          <p:nvPr/>
        </p:nvSpPr>
        <p:spPr>
          <a:xfrm>
            <a:off x="155520" y="44956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 RÍ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23"/>
          <p:cNvSpPr/>
          <p:nvPr/>
        </p:nvSpPr>
        <p:spPr>
          <a:xfrm>
            <a:off x="457200" y="5638680"/>
            <a:ext cx="8153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fatura                             Centro de Distribuição (CD)                           Varejist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25"/>
          <p:cNvSpPr/>
          <p:nvPr/>
        </p:nvSpPr>
        <p:spPr>
          <a:xfrm>
            <a:off x="213372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26"/>
          <p:cNvSpPr/>
          <p:nvPr/>
        </p:nvSpPr>
        <p:spPr>
          <a:xfrm>
            <a:off x="6324480" y="548640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27"/>
          <p:cNvSpPr/>
          <p:nvPr/>
        </p:nvSpPr>
        <p:spPr>
          <a:xfrm>
            <a:off x="822960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28"/>
          <p:cNvSpPr/>
          <p:nvPr/>
        </p:nvSpPr>
        <p:spPr>
          <a:xfrm>
            <a:off x="22860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29"/>
          <p:cNvSpPr/>
          <p:nvPr/>
        </p:nvSpPr>
        <p:spPr>
          <a:xfrm>
            <a:off x="434340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2"/>
          <p:cNvSpPr/>
          <p:nvPr/>
        </p:nvSpPr>
        <p:spPr>
          <a:xfrm>
            <a:off x="7313760" y="6094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ovaes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Espaço Reservado para Data 2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28BB-627D-40F2-906B-3F0C8186E4D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304D-2465-4519-BF2B-DABC82764A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volução: Fases da Logístic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7" name="Rectangle 3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106920" y="1039680"/>
            <a:ext cx="59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3: Duto flexível adaptável às condiçõe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6"/>
          <p:cNvSpPr/>
          <p:nvPr/>
        </p:nvSpPr>
        <p:spPr>
          <a:xfrm>
            <a:off x="155160" y="137160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 FLEX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8"/>
          <p:cNvSpPr/>
          <p:nvPr/>
        </p:nvSpPr>
        <p:spPr>
          <a:xfrm>
            <a:off x="3124080" y="1981080"/>
            <a:ext cx="2667240" cy="9907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9"/>
          <p:cNvSpPr/>
          <p:nvPr/>
        </p:nvSpPr>
        <p:spPr>
          <a:xfrm>
            <a:off x="5791320" y="1981080"/>
            <a:ext cx="2666880" cy="9907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7"/>
          <p:cNvSpPr/>
          <p:nvPr/>
        </p:nvSpPr>
        <p:spPr>
          <a:xfrm>
            <a:off x="457200" y="1981080"/>
            <a:ext cx="2666880" cy="9907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necedor            Fábrica               Atacadista           Varejista        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26280" y="2819520"/>
            <a:ext cx="90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Transporte                Transporte                    Transporte           Transporte                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AutoShape 12"/>
          <p:cNvSpPr/>
          <p:nvPr/>
        </p:nvSpPr>
        <p:spPr>
          <a:xfrm>
            <a:off x="213372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AutoShape 13"/>
          <p:cNvSpPr/>
          <p:nvPr/>
        </p:nvSpPr>
        <p:spPr>
          <a:xfrm>
            <a:off x="6324480" y="26668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AutoShape 14"/>
          <p:cNvSpPr/>
          <p:nvPr/>
        </p:nvSpPr>
        <p:spPr>
          <a:xfrm>
            <a:off x="822960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AutoShape 15"/>
          <p:cNvSpPr/>
          <p:nvPr/>
        </p:nvSpPr>
        <p:spPr>
          <a:xfrm>
            <a:off x="22860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AutoShape 16"/>
          <p:cNvSpPr/>
          <p:nvPr/>
        </p:nvSpPr>
        <p:spPr>
          <a:xfrm>
            <a:off x="434340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17"/>
          <p:cNvSpPr/>
          <p:nvPr/>
        </p:nvSpPr>
        <p:spPr>
          <a:xfrm>
            <a:off x="115200" y="4175280"/>
            <a:ext cx="809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4: Integração plena, estratégica e flexível ao longo de toda cadei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uprimento (S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18"/>
          <p:cNvSpPr/>
          <p:nvPr/>
        </p:nvSpPr>
        <p:spPr>
          <a:xfrm>
            <a:off x="231840" y="481500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 ESTRATÉGICA (S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19"/>
          <p:cNvSpPr/>
          <p:nvPr/>
        </p:nvSpPr>
        <p:spPr>
          <a:xfrm>
            <a:off x="609480" y="579132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20"/>
          <p:cNvSpPr/>
          <p:nvPr/>
        </p:nvSpPr>
        <p:spPr>
          <a:xfrm>
            <a:off x="1447920" y="556272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21"/>
          <p:cNvSpPr/>
          <p:nvPr/>
        </p:nvSpPr>
        <p:spPr>
          <a:xfrm>
            <a:off x="2362320" y="541008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22"/>
          <p:cNvSpPr/>
          <p:nvPr/>
        </p:nvSpPr>
        <p:spPr>
          <a:xfrm>
            <a:off x="3352680" y="556272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23"/>
          <p:cNvSpPr/>
          <p:nvPr/>
        </p:nvSpPr>
        <p:spPr>
          <a:xfrm>
            <a:off x="4267080" y="541008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24"/>
          <p:cNvSpPr/>
          <p:nvPr/>
        </p:nvSpPr>
        <p:spPr>
          <a:xfrm>
            <a:off x="5181480" y="510552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25"/>
          <p:cNvSpPr/>
          <p:nvPr/>
        </p:nvSpPr>
        <p:spPr>
          <a:xfrm>
            <a:off x="6095880" y="525780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26"/>
          <p:cNvSpPr/>
          <p:nvPr/>
        </p:nvSpPr>
        <p:spPr>
          <a:xfrm>
            <a:off x="6858000" y="548640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27"/>
          <p:cNvSpPr/>
          <p:nvPr/>
        </p:nvSpPr>
        <p:spPr>
          <a:xfrm>
            <a:off x="7848720" y="571500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29"/>
          <p:cNvSpPr/>
          <p:nvPr/>
        </p:nvSpPr>
        <p:spPr>
          <a:xfrm>
            <a:off x="1906920" y="5576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30"/>
          <p:cNvSpPr/>
          <p:nvPr/>
        </p:nvSpPr>
        <p:spPr>
          <a:xfrm>
            <a:off x="282168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31"/>
          <p:cNvSpPr/>
          <p:nvPr/>
        </p:nvSpPr>
        <p:spPr>
          <a:xfrm>
            <a:off x="3827880" y="557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32"/>
          <p:cNvSpPr/>
          <p:nvPr/>
        </p:nvSpPr>
        <p:spPr>
          <a:xfrm>
            <a:off x="4741920" y="5348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33"/>
          <p:cNvSpPr/>
          <p:nvPr/>
        </p:nvSpPr>
        <p:spPr>
          <a:xfrm>
            <a:off x="5601240" y="5043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34"/>
          <p:cNvSpPr/>
          <p:nvPr/>
        </p:nvSpPr>
        <p:spPr>
          <a:xfrm>
            <a:off x="6458040" y="5272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35"/>
          <p:cNvSpPr/>
          <p:nvPr/>
        </p:nvSpPr>
        <p:spPr>
          <a:xfrm>
            <a:off x="7390440" y="550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36"/>
          <p:cNvSpPr/>
          <p:nvPr/>
        </p:nvSpPr>
        <p:spPr>
          <a:xfrm>
            <a:off x="8323200" y="5715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8"/>
          <p:cNvSpPr/>
          <p:nvPr/>
        </p:nvSpPr>
        <p:spPr>
          <a:xfrm>
            <a:off x="594360" y="6234120"/>
            <a:ext cx="13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ornece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téria-pr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39"/>
          <p:cNvSpPr/>
          <p:nvPr/>
        </p:nvSpPr>
        <p:spPr>
          <a:xfrm>
            <a:off x="2224440" y="5972040"/>
            <a:ext cx="13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téria-pr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0"/>
          <p:cNvSpPr/>
          <p:nvPr/>
        </p:nvSpPr>
        <p:spPr>
          <a:xfrm>
            <a:off x="4499640" y="49053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nuf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1"/>
          <p:cNvSpPr/>
          <p:nvPr/>
        </p:nvSpPr>
        <p:spPr>
          <a:xfrm>
            <a:off x="3891600" y="6032520"/>
            <a:ext cx="12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nuf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xiliar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rceir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2"/>
          <p:cNvSpPr/>
          <p:nvPr/>
        </p:nvSpPr>
        <p:spPr>
          <a:xfrm>
            <a:off x="5566320" y="5715000"/>
            <a:ext cx="13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tacad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3"/>
          <p:cNvSpPr/>
          <p:nvPr/>
        </p:nvSpPr>
        <p:spPr>
          <a:xfrm>
            <a:off x="6981480" y="606420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ej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4"/>
          <p:cNvSpPr/>
          <p:nvPr/>
        </p:nvSpPr>
        <p:spPr>
          <a:xfrm>
            <a:off x="7812720" y="617220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AutoShape 45"/>
          <p:cNvSpPr/>
          <p:nvPr/>
        </p:nvSpPr>
        <p:spPr>
          <a:xfrm>
            <a:off x="609480" y="5334120"/>
            <a:ext cx="1219320" cy="1522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AutoShape 46"/>
          <p:cNvSpPr/>
          <p:nvPr/>
        </p:nvSpPr>
        <p:spPr>
          <a:xfrm>
            <a:off x="2438280" y="6477120"/>
            <a:ext cx="1219320" cy="1522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AutoShape 47"/>
          <p:cNvSpPr/>
          <p:nvPr/>
        </p:nvSpPr>
        <p:spPr>
          <a:xfrm>
            <a:off x="5486400" y="6324480"/>
            <a:ext cx="1219320" cy="15264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48"/>
          <p:cNvSpPr/>
          <p:nvPr/>
        </p:nvSpPr>
        <p:spPr>
          <a:xfrm rot="1653000">
            <a:off x="7238880" y="5257800"/>
            <a:ext cx="1219320" cy="1522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Espaço Reservado para Data 4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3196-65DE-4CD9-B6C9-AE2810373BC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4320-80AD-4848-96AE-496A0130FB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ahoma"/>
              </a:rPr>
              <a:t>Supply Chain Manag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75" name="Object 5"/>
          <p:cNvGraphicFramePr/>
          <p:nvPr/>
        </p:nvGraphicFramePr>
        <p:xfrm>
          <a:off x="6781680" y="5105520"/>
          <a:ext cx="175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105520"/>
                    <a:ext cx="175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Text Box 6"/>
          <p:cNvSpPr/>
          <p:nvPr/>
        </p:nvSpPr>
        <p:spPr>
          <a:xfrm>
            <a:off x="304920" y="1752480"/>
            <a:ext cx="8458200" cy="35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liente não está interessado em quantas tempestades você enfrentou para trazer o navio até o porto seguro. Para ele, o que importa é saber se o navio chegou a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á que as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“tempestades” não agregam val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ara o cliente, precisamos nos concentrar nas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tividad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m que realment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odemos fazer diferenç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nossa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mpetênci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entrais,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erceirizando outras taref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ara quem tem condições de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realizá-las melh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7"/>
          <p:cNvSpPr/>
          <p:nvPr/>
        </p:nvSpPr>
        <p:spPr>
          <a:xfrm>
            <a:off x="7672320" y="8161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lack, Cap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7171-5F2F-4B3B-9C99-95FFDC0E16F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AC5-B9FB-448D-AD25-775714557F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00000"/>
                </a:solidFill>
                <a:latin typeface="Tahoma"/>
              </a:rPr>
              <a:t>Cadeia de Valor - Conceito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84" name="Object 5"/>
          <p:cNvGraphicFramePr/>
          <p:nvPr/>
        </p:nvGraphicFramePr>
        <p:xfrm>
          <a:off x="6934320" y="228600"/>
          <a:ext cx="1944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28600"/>
                    <a:ext cx="1944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 u="sng">
                <a:solidFill>
                  <a:srgbClr val="000000"/>
                </a:solidFill>
                <a:uFillTx/>
                <a:latin typeface="Times New Roman"/>
              </a:rPr>
              <a:t>Valor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 é o montante que os compradores estão dispostos a pagar por aquilo que a empresa lhes forne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ff0000"/>
                </a:solidFill>
                <a:latin typeface="Times New Roman"/>
              </a:rPr>
              <a:t>cadeia de valor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 é a desagregação da empresa em  </a:t>
            </a:r>
            <a:r>
              <a:rPr b="1" lang="pt-BR" sz="2600" spc="-1" strike="noStrike">
                <a:solidFill>
                  <a:srgbClr val="0000ff"/>
                </a:solidFill>
                <a:latin typeface="Times New Roman"/>
              </a:rPr>
              <a:t>atividades de relevância estratégica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O estudo da cadeia de valor é uma ferramenta de análise sistemática do modo de interação das atividades executadas, buscando </a:t>
            </a:r>
            <a:r>
              <a:rPr b="1" lang="pt-BR" sz="2600" spc="-1" strike="noStrike">
                <a:solidFill>
                  <a:srgbClr val="0000ff"/>
                </a:solidFill>
                <a:latin typeface="Times New Roman"/>
              </a:rPr>
              <a:t>descobrir se elas agregam valor ao produto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, na </a:t>
            </a:r>
            <a:r>
              <a:rPr b="1" lang="pt-BR" sz="2600" spc="-1" strike="noStrike">
                <a:solidFill>
                  <a:srgbClr val="ff0000"/>
                </a:solidFill>
                <a:latin typeface="Times New Roman"/>
              </a:rPr>
              <a:t>percepção do cliente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 empresa é uma reunião de atividades que são executadas para projetar, produzir, comercializar, entregar e sustentar seu produ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596-A681-413C-B965-F7D9B6E7250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CC3-2C69-4A2B-8B18-EFC07510BC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1" name="Object 4"/>
          <p:cNvGraphicFramePr/>
          <p:nvPr/>
        </p:nvGraphicFramePr>
        <p:xfrm>
          <a:off x="6934320" y="228600"/>
          <a:ext cx="1944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28600"/>
                    <a:ext cx="1944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3" name="Picture 5" descr=""/>
          <p:cNvPicPr/>
          <p:nvPr/>
        </p:nvPicPr>
        <p:blipFill>
          <a:blip r:embed="rId3"/>
          <a:stretch/>
        </p:blipFill>
        <p:spPr>
          <a:xfrm>
            <a:off x="1219320" y="2209680"/>
            <a:ext cx="6553080" cy="4648320"/>
          </a:xfrm>
          <a:prstGeom prst="rect">
            <a:avLst/>
          </a:prstGeom>
          <a:ln w="0">
            <a:noFill/>
          </a:ln>
        </p:spPr>
      </p:pic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-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ahoma"/>
              </a:rPr>
              <a:t>Sistemas de Valor</a:t>
            </a:r>
            <a:r>
              <a:rPr b="0" lang="pt-BR" sz="8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 Cadeia de Valor da empresa encaixa-se em uma corrente maior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7D7-E617-4F6C-8134-4F60C1D3A19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B9FA-1125-4F72-90F2-3C22975EE5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Log�stica"/>
          <p:cNvPicPr/>
          <p:nvPr/>
        </p:nvPicPr>
        <p:blipFill>
          <a:blip r:embed="rId1"/>
          <a:stretch/>
        </p:blipFill>
        <p:spPr>
          <a:xfrm>
            <a:off x="5651640" y="189000"/>
            <a:ext cx="3090600" cy="19746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>
            <a:off x="611280" y="2133720"/>
            <a:ext cx="7705800" cy="2950920"/>
          </a:xfrm>
          <a:prstGeom prst="wedgeRoundRectCallout">
            <a:avLst>
              <a:gd name="adj1" fmla="val -40236"/>
              <a:gd name="adj2" fmla="val 7000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26920" y="2565360"/>
            <a:ext cx="750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Área da gestão responsável por prover </a:t>
            </a: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cursos, equipamentos e informações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para a execução de </a:t>
            </a: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todas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as atividades de uma empre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&lt;b&gt;professor&lt;/b&gt;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45000"/>
            <a:ext cx="952560" cy="1190880"/>
          </a:xfrm>
          <a:prstGeom prst="rect">
            <a:avLst/>
          </a:prstGeom>
          <a:ln w="0">
            <a:noFill/>
          </a:ln>
        </p:spPr>
      </p:pic>
      <p:sp>
        <p:nvSpPr>
          <p:cNvPr id="152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F234-E0C9-4146-9A52-32B6CC99491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399-E6E8-452B-8764-F05F7DF8C0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ahoma"/>
              </a:rPr>
              <a:t>Cadeia de Valor de Porte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201" name="Object 5"/>
          <p:cNvGraphicFramePr/>
          <p:nvPr/>
        </p:nvGraphicFramePr>
        <p:xfrm>
          <a:off x="689040" y="1270080"/>
          <a:ext cx="776772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270080"/>
                    <a:ext cx="7767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3" name="Text Box 6"/>
          <p:cNvSpPr/>
          <p:nvPr/>
        </p:nvSpPr>
        <p:spPr>
          <a:xfrm>
            <a:off x="593640" y="5591160"/>
            <a:ext cx="809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ER, Michael E. Competitive advantage: creating and sustaining superior performance. Nova Iorque : Free Press, 198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EE90-CCFF-472F-9319-CC47685D14C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7DC-42CE-44CF-B106-7AE5EAFD4C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8" name="Object 4"/>
          <p:cNvGraphicFramePr/>
          <p:nvPr/>
        </p:nvGraphicFramePr>
        <p:xfrm>
          <a:off x="6934320" y="380880"/>
          <a:ext cx="1944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80880"/>
                    <a:ext cx="1944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nvolvidas na criação física do produto, na sua venda e transferência para o comprador, bem como na assistência após a ven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Atividades Primária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2" name="Rectangle 7"/>
          <p:cNvSpPr/>
          <p:nvPr/>
        </p:nvSpPr>
        <p:spPr>
          <a:xfrm>
            <a:off x="685800" y="3809880"/>
            <a:ext cx="8077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Sustentam todas as atividades,</a:t>
            </a:r>
            <a:br>
              <a:rPr sz="2600"/>
            </a:b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primárias e de apo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Fornecem matérias primas, tecnologia, recursos humanos e várias funções no âmbito da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8"/>
          <p:cNvSpPr/>
          <p:nvPr/>
        </p:nvSpPr>
        <p:spPr>
          <a:xfrm>
            <a:off x="4572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Atividades de Apo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Espaço Reservado para Data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4640-47CA-4DF2-B935-5690902056A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922-8396-4288-825C-8F7347AEAC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Relacionamento entre atividades interdependent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Relação entre a forma como uma atividade de valor é executada e o custo ou desempenho de uma outra ativida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Vantagem competitiva: obtida através da otimização e coordenação das a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914400" y="76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E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7"/>
          <p:cNvSpPr/>
          <p:nvPr/>
        </p:nvSpPr>
        <p:spPr>
          <a:xfrm>
            <a:off x="685800" y="4038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Intern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Canais de Distribui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Identificação dos Elo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22" name="Picture 10" descr="elos"/>
          <p:cNvPicPr/>
          <p:nvPr/>
        </p:nvPicPr>
        <p:blipFill>
          <a:blip r:embed="rId1"/>
          <a:stretch/>
        </p:blipFill>
        <p:spPr>
          <a:xfrm>
            <a:off x="5715000" y="3886200"/>
            <a:ext cx="849240" cy="12952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1" descr="elos"/>
          <p:cNvPicPr/>
          <p:nvPr/>
        </p:nvPicPr>
        <p:blipFill>
          <a:blip r:embed="rId2"/>
          <a:stretch/>
        </p:blipFill>
        <p:spPr>
          <a:xfrm>
            <a:off x="0" y="0"/>
            <a:ext cx="849240" cy="1295280"/>
          </a:xfrm>
          <a:prstGeom prst="rect">
            <a:avLst/>
          </a:prstGeom>
          <a:ln w="0">
            <a:noFill/>
          </a:ln>
        </p:spPr>
      </p:pic>
      <p:sp>
        <p:nvSpPr>
          <p:cNvPr id="1224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066C-2CD6-48C0-B1BD-2ECFB3A475C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D25-CC07-45E1-81EA-D2A3FB0428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Group 3"/>
          <p:cNvGrpSpPr/>
          <p:nvPr/>
        </p:nvGrpSpPr>
        <p:grpSpPr>
          <a:xfrm>
            <a:off x="2313000" y="0"/>
            <a:ext cx="4213080" cy="1716120"/>
            <a:chOff x="2313000" y="0"/>
            <a:chExt cx="4213080" cy="1716120"/>
          </a:xfrm>
        </p:grpSpPr>
        <p:sp>
          <p:nvSpPr>
            <p:cNvPr id="1228" name="Rectangle 4"/>
            <p:cNvSpPr/>
            <p:nvPr/>
          </p:nvSpPr>
          <p:spPr>
            <a:xfrm>
              <a:off x="2698920" y="1139760"/>
              <a:ext cx="3452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d60093"/>
                  </a:solidFill>
                  <a:latin typeface="Lucida Handwriting"/>
                </a:rPr>
                <a:t>    </a:t>
              </a:r>
              <a:r>
                <a:rPr b="1" lang="pt-BR" sz="3200" spc="-1" strike="noStrike">
                  <a:solidFill>
                    <a:srgbClr val="d60093"/>
                  </a:solidFill>
                  <a:latin typeface="Arial"/>
                </a:rPr>
                <a:t>Supply Ch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9" name="Picture 5" descr=""/>
            <p:cNvPicPr/>
            <p:nvPr/>
          </p:nvPicPr>
          <p:blipFill>
            <a:blip r:embed="rId1"/>
            <a:stretch/>
          </p:blipFill>
          <p:spPr>
            <a:xfrm>
              <a:off x="2313000" y="0"/>
              <a:ext cx="421308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0" name="Rectangle 6"/>
          <p:cNvSpPr/>
          <p:nvPr/>
        </p:nvSpPr>
        <p:spPr>
          <a:xfrm>
            <a:off x="380880" y="1828800"/>
            <a:ext cx="8153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É uma estratégia utilizada na busca da integração de diferentes funç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7"/>
          <p:cNvGrpSpPr/>
          <p:nvPr/>
        </p:nvGrpSpPr>
        <p:grpSpPr>
          <a:xfrm>
            <a:off x="457200" y="3124080"/>
            <a:ext cx="1510560" cy="596880"/>
            <a:chOff x="457200" y="3124080"/>
            <a:chExt cx="1510560" cy="596880"/>
          </a:xfrm>
        </p:grpSpPr>
        <p:sp>
          <p:nvSpPr>
            <p:cNvPr id="1232" name="Oval 8"/>
            <p:cNvSpPr/>
            <p:nvPr/>
          </p:nvSpPr>
          <p:spPr>
            <a:xfrm>
              <a:off x="457200" y="3124080"/>
              <a:ext cx="150480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9"/>
            <p:cNvSpPr/>
            <p:nvPr/>
          </p:nvSpPr>
          <p:spPr>
            <a:xfrm>
              <a:off x="523080" y="3294000"/>
              <a:ext cx="1444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FORNECE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Oval 10"/>
          <p:cNvSpPr/>
          <p:nvPr/>
        </p:nvSpPr>
        <p:spPr>
          <a:xfrm>
            <a:off x="5867280" y="5181480"/>
            <a:ext cx="2044800" cy="749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Group 11"/>
          <p:cNvGrpSpPr/>
          <p:nvPr/>
        </p:nvGrpSpPr>
        <p:grpSpPr>
          <a:xfrm>
            <a:off x="762120" y="4038480"/>
            <a:ext cx="1434960" cy="596880"/>
            <a:chOff x="762120" y="4038480"/>
            <a:chExt cx="1434960" cy="596880"/>
          </a:xfrm>
        </p:grpSpPr>
        <p:sp>
          <p:nvSpPr>
            <p:cNvPr id="1236" name="Oval 12"/>
            <p:cNvSpPr/>
            <p:nvPr/>
          </p:nvSpPr>
          <p:spPr>
            <a:xfrm>
              <a:off x="762120" y="403848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13"/>
            <p:cNvSpPr/>
            <p:nvPr/>
          </p:nvSpPr>
          <p:spPr>
            <a:xfrm>
              <a:off x="968400" y="4208400"/>
              <a:ext cx="1078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14"/>
          <p:cNvGrpSpPr/>
          <p:nvPr/>
        </p:nvGrpSpPr>
        <p:grpSpPr>
          <a:xfrm>
            <a:off x="2227320" y="4191120"/>
            <a:ext cx="1599840" cy="552240"/>
            <a:chOff x="2227320" y="4191120"/>
            <a:chExt cx="1599840" cy="552240"/>
          </a:xfrm>
        </p:grpSpPr>
        <p:sp>
          <p:nvSpPr>
            <p:cNvPr id="1239" name="Oval 15"/>
            <p:cNvSpPr/>
            <p:nvPr/>
          </p:nvSpPr>
          <p:spPr>
            <a:xfrm>
              <a:off x="2227320" y="4191120"/>
              <a:ext cx="1540080" cy="552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16"/>
            <p:cNvSpPr/>
            <p:nvPr/>
          </p:nvSpPr>
          <p:spPr>
            <a:xfrm>
              <a:off x="2285280" y="4360680"/>
              <a:ext cx="1541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MANUFA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17"/>
          <p:cNvGrpSpPr/>
          <p:nvPr/>
        </p:nvGrpSpPr>
        <p:grpSpPr>
          <a:xfrm>
            <a:off x="3750120" y="4343400"/>
            <a:ext cx="1507320" cy="596880"/>
            <a:chOff x="3750120" y="4343400"/>
            <a:chExt cx="1507320" cy="596880"/>
          </a:xfrm>
        </p:grpSpPr>
        <p:sp>
          <p:nvSpPr>
            <p:cNvPr id="1242" name="Oval 18"/>
            <p:cNvSpPr/>
            <p:nvPr/>
          </p:nvSpPr>
          <p:spPr>
            <a:xfrm>
              <a:off x="3770280" y="434340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19"/>
            <p:cNvSpPr/>
            <p:nvPr/>
          </p:nvSpPr>
          <p:spPr>
            <a:xfrm>
              <a:off x="3750120" y="4512960"/>
              <a:ext cx="1507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20"/>
          <p:cNvGrpSpPr/>
          <p:nvPr/>
        </p:nvGrpSpPr>
        <p:grpSpPr>
          <a:xfrm>
            <a:off x="7086600" y="4267080"/>
            <a:ext cx="1453680" cy="662040"/>
            <a:chOff x="7086600" y="4267080"/>
            <a:chExt cx="1453680" cy="662040"/>
          </a:xfrm>
        </p:grpSpPr>
        <p:sp>
          <p:nvSpPr>
            <p:cNvPr id="1245" name="Oval 21"/>
            <p:cNvSpPr/>
            <p:nvPr/>
          </p:nvSpPr>
          <p:spPr>
            <a:xfrm>
              <a:off x="7086600" y="426708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2"/>
            <p:cNvSpPr/>
            <p:nvPr/>
          </p:nvSpPr>
          <p:spPr>
            <a:xfrm>
              <a:off x="7144200" y="4360680"/>
              <a:ext cx="13960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Group 23"/>
          <p:cNvGrpSpPr/>
          <p:nvPr/>
        </p:nvGrpSpPr>
        <p:grpSpPr>
          <a:xfrm>
            <a:off x="6324480" y="3200400"/>
            <a:ext cx="1493280" cy="596880"/>
            <a:chOff x="6324480" y="3200400"/>
            <a:chExt cx="1493280" cy="596880"/>
          </a:xfrm>
        </p:grpSpPr>
        <p:sp>
          <p:nvSpPr>
            <p:cNvPr id="1248" name="Oval 24"/>
            <p:cNvSpPr/>
            <p:nvPr/>
          </p:nvSpPr>
          <p:spPr>
            <a:xfrm>
              <a:off x="6324480" y="3200400"/>
              <a:ext cx="143532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25"/>
            <p:cNvSpPr/>
            <p:nvPr/>
          </p:nvSpPr>
          <p:spPr>
            <a:xfrm>
              <a:off x="6382080" y="3369960"/>
              <a:ext cx="1435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CONSUM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Rectangle 26"/>
          <p:cNvSpPr/>
          <p:nvPr/>
        </p:nvSpPr>
        <p:spPr>
          <a:xfrm>
            <a:off x="6229800" y="5275440"/>
            <a:ext cx="15073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ENT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27"/>
          <p:cNvGrpSpPr/>
          <p:nvPr/>
        </p:nvGrpSpPr>
        <p:grpSpPr>
          <a:xfrm>
            <a:off x="2819520" y="3048120"/>
            <a:ext cx="1450440" cy="811800"/>
            <a:chOff x="2819520" y="3048120"/>
            <a:chExt cx="1450440" cy="811800"/>
          </a:xfrm>
        </p:grpSpPr>
        <p:sp>
          <p:nvSpPr>
            <p:cNvPr id="1252" name="Oval 28"/>
            <p:cNvSpPr/>
            <p:nvPr/>
          </p:nvSpPr>
          <p:spPr>
            <a:xfrm>
              <a:off x="2819520" y="3048120"/>
              <a:ext cx="1434960" cy="596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29"/>
            <p:cNvSpPr/>
            <p:nvPr/>
          </p:nvSpPr>
          <p:spPr>
            <a:xfrm>
              <a:off x="2873880" y="3141360"/>
              <a:ext cx="13960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4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30"/>
          <p:cNvGrpSpPr/>
          <p:nvPr/>
        </p:nvGrpSpPr>
        <p:grpSpPr>
          <a:xfrm>
            <a:off x="4000680" y="5257800"/>
            <a:ext cx="1450080" cy="630000"/>
            <a:chOff x="4000680" y="5257800"/>
            <a:chExt cx="1450080" cy="630000"/>
          </a:xfrm>
        </p:grpSpPr>
        <p:sp>
          <p:nvSpPr>
            <p:cNvPr id="1255" name="Oval 31"/>
            <p:cNvSpPr/>
            <p:nvPr/>
          </p:nvSpPr>
          <p:spPr>
            <a:xfrm>
              <a:off x="4000680" y="525780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32"/>
            <p:cNvSpPr/>
            <p:nvPr/>
          </p:nvSpPr>
          <p:spPr>
            <a:xfrm>
              <a:off x="4054680" y="5351400"/>
              <a:ext cx="13960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Line 33"/>
          <p:cNvSpPr/>
          <p:nvPr/>
        </p:nvSpPr>
        <p:spPr>
          <a:xfrm>
            <a:off x="1911240" y="3117960"/>
            <a:ext cx="96516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4"/>
          <p:cNvSpPr/>
          <p:nvPr/>
        </p:nvSpPr>
        <p:spPr>
          <a:xfrm>
            <a:off x="1828800" y="3803760"/>
            <a:ext cx="1054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5"/>
          <p:cNvSpPr/>
          <p:nvPr/>
        </p:nvSpPr>
        <p:spPr>
          <a:xfrm>
            <a:off x="1295280" y="3733920"/>
            <a:ext cx="368280" cy="2919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"/>
          <p:cNvSpPr/>
          <p:nvPr/>
        </p:nvSpPr>
        <p:spPr>
          <a:xfrm>
            <a:off x="1828800" y="4946760"/>
            <a:ext cx="8254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7"/>
          <p:cNvSpPr/>
          <p:nvPr/>
        </p:nvSpPr>
        <p:spPr>
          <a:xfrm>
            <a:off x="3429000" y="5022720"/>
            <a:ext cx="8254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8"/>
          <p:cNvSpPr/>
          <p:nvPr/>
        </p:nvSpPr>
        <p:spPr>
          <a:xfrm>
            <a:off x="3892680" y="4184640"/>
            <a:ext cx="81252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9"/>
          <p:cNvSpPr/>
          <p:nvPr/>
        </p:nvSpPr>
        <p:spPr>
          <a:xfrm>
            <a:off x="4718160" y="495288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40"/>
          <p:cNvSpPr/>
          <p:nvPr/>
        </p:nvSpPr>
        <p:spPr>
          <a:xfrm>
            <a:off x="4952880" y="4876920"/>
            <a:ext cx="216000" cy="4442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41"/>
          <p:cNvSpPr/>
          <p:nvPr/>
        </p:nvSpPr>
        <p:spPr>
          <a:xfrm>
            <a:off x="3048120" y="3659040"/>
            <a:ext cx="63360" cy="5191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42"/>
          <p:cNvSpPr/>
          <p:nvPr/>
        </p:nvSpPr>
        <p:spPr>
          <a:xfrm flipH="1">
            <a:off x="3409920" y="3664080"/>
            <a:ext cx="254160" cy="66024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43"/>
          <p:cNvSpPr/>
          <p:nvPr/>
        </p:nvSpPr>
        <p:spPr>
          <a:xfrm flipV="1">
            <a:off x="5111640" y="3638160"/>
            <a:ext cx="1346400" cy="93996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44"/>
          <p:cNvSpPr/>
          <p:nvPr/>
        </p:nvSpPr>
        <p:spPr>
          <a:xfrm flipH="1" flipV="1">
            <a:off x="7149600" y="3796920"/>
            <a:ext cx="241560" cy="469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45"/>
          <p:cNvSpPr/>
          <p:nvPr/>
        </p:nvSpPr>
        <p:spPr>
          <a:xfrm>
            <a:off x="7702560" y="3740040"/>
            <a:ext cx="203040" cy="50796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46"/>
          <p:cNvSpPr/>
          <p:nvPr/>
        </p:nvSpPr>
        <p:spPr>
          <a:xfrm flipH="1">
            <a:off x="7302600" y="4876920"/>
            <a:ext cx="317520" cy="2919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47"/>
          <p:cNvSpPr/>
          <p:nvPr/>
        </p:nvSpPr>
        <p:spPr>
          <a:xfrm flipH="1">
            <a:off x="7677000" y="4883040"/>
            <a:ext cx="330480" cy="43200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48"/>
          <p:cNvSpPr/>
          <p:nvPr/>
        </p:nvSpPr>
        <p:spPr>
          <a:xfrm>
            <a:off x="4578480" y="4959360"/>
            <a:ext cx="126720" cy="355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49"/>
          <p:cNvSpPr/>
          <p:nvPr/>
        </p:nvSpPr>
        <p:spPr>
          <a:xfrm>
            <a:off x="5111640" y="5861160"/>
            <a:ext cx="111780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50"/>
          <p:cNvSpPr/>
          <p:nvPr/>
        </p:nvSpPr>
        <p:spPr>
          <a:xfrm>
            <a:off x="5410080" y="5479920"/>
            <a:ext cx="4446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51"/>
          <p:cNvSpPr/>
          <p:nvPr/>
        </p:nvSpPr>
        <p:spPr>
          <a:xfrm>
            <a:off x="5181480" y="4724280"/>
            <a:ext cx="978120" cy="520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52"/>
          <p:cNvSpPr/>
          <p:nvPr/>
        </p:nvSpPr>
        <p:spPr>
          <a:xfrm>
            <a:off x="1073160" y="5479920"/>
            <a:ext cx="104148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53"/>
          <p:cNvSpPr/>
          <p:nvPr/>
        </p:nvSpPr>
        <p:spPr>
          <a:xfrm>
            <a:off x="1066680" y="5708520"/>
            <a:ext cx="1054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54"/>
          <p:cNvSpPr/>
          <p:nvPr/>
        </p:nvSpPr>
        <p:spPr>
          <a:xfrm>
            <a:off x="2186280" y="530532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55"/>
          <p:cNvSpPr/>
          <p:nvPr/>
        </p:nvSpPr>
        <p:spPr>
          <a:xfrm>
            <a:off x="2187360" y="5533920"/>
            <a:ext cx="132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6"/>
          <p:cNvSpPr/>
          <p:nvPr/>
        </p:nvSpPr>
        <p:spPr>
          <a:xfrm>
            <a:off x="609480" y="3962520"/>
            <a:ext cx="5168880" cy="120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57"/>
          <p:cNvSpPr/>
          <p:nvPr/>
        </p:nvSpPr>
        <p:spPr>
          <a:xfrm>
            <a:off x="228600" y="2819520"/>
            <a:ext cx="8521560" cy="3492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Espaço Reservado para Data 5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08B9-070F-4F60-82D3-D4AC91CDB99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37A-E683-44AA-94B1-706B087DD5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Picture 4" descr=""/>
          <p:cNvPicPr/>
          <p:nvPr/>
        </p:nvPicPr>
        <p:blipFill>
          <a:blip r:embed="rId1"/>
          <a:stretch/>
        </p:blipFill>
        <p:spPr>
          <a:xfrm>
            <a:off x="738360" y="230040"/>
            <a:ext cx="3528720" cy="103212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5"/>
          <p:cNvSpPr/>
          <p:nvPr/>
        </p:nvSpPr>
        <p:spPr>
          <a:xfrm>
            <a:off x="4793400" y="30492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a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04840" y="1905120"/>
            <a:ext cx="8762760" cy="2068920"/>
            <a:chOff x="204840" y="1905120"/>
            <a:chExt cx="8762760" cy="2068920"/>
          </a:xfrm>
        </p:grpSpPr>
        <p:sp>
          <p:nvSpPr>
            <p:cNvPr id="1289" name="Rectangle 7"/>
            <p:cNvSpPr/>
            <p:nvPr/>
          </p:nvSpPr>
          <p:spPr>
            <a:xfrm>
              <a:off x="650520" y="1905120"/>
              <a:ext cx="83170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0000"/>
                  </a:solidFill>
                  <a:latin typeface="Arial"/>
                </a:rPr>
                <a:t>O planejamento e o controle pressupõem uma visão integrada através dos canais de distribuição de materiais e informação, partindo dos fornecedores de seus fornecedores e indo até os clientes de seus cliente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0" name="Object 8"/>
            <p:cNvGraphicFramePr/>
            <p:nvPr/>
          </p:nvGraphicFramePr>
          <p:xfrm>
            <a:off x="204840" y="1954080"/>
            <a:ext cx="501840" cy="606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1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4840" y="1954080"/>
                      <a:ext cx="50184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2" name="Group 9"/>
          <p:cNvGrpSpPr/>
          <p:nvPr/>
        </p:nvGrpSpPr>
        <p:grpSpPr>
          <a:xfrm>
            <a:off x="152280" y="4343400"/>
            <a:ext cx="8815320" cy="1760040"/>
            <a:chOff x="152280" y="4343400"/>
            <a:chExt cx="8815320" cy="1760040"/>
          </a:xfrm>
        </p:grpSpPr>
        <p:sp>
          <p:nvSpPr>
            <p:cNvPr id="1293" name="Rectangle 10"/>
            <p:cNvSpPr/>
            <p:nvPr/>
          </p:nvSpPr>
          <p:spPr>
            <a:xfrm>
              <a:off x="616320" y="4430520"/>
              <a:ext cx="8351280" cy="16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0000"/>
                  </a:solidFill>
                  <a:latin typeface="Arial"/>
                </a:rPr>
                <a:t>Rede global de fornecedores, fábricas, depósitos, distribuidores  e revendedores que adquirem a matéria prima, transformam e entregam o produto final aos consumidore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4" name="Object 11"/>
            <p:cNvGraphicFramePr/>
            <p:nvPr/>
          </p:nvGraphicFramePr>
          <p:xfrm>
            <a:off x="152280" y="4343400"/>
            <a:ext cx="496440" cy="606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5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280" y="4343400"/>
                      <a:ext cx="49644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6" name="Espaço Reservado para Data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D3B-2A3E-4FB5-9F80-1083229BBB1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8E6-4B81-4E00-A155-CF3368E948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65"/>
          <p:cNvSpPr/>
          <p:nvPr/>
        </p:nvSpPr>
        <p:spPr>
          <a:xfrm>
            <a:off x="1905120" y="5943600"/>
            <a:ext cx="525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4"/>
          <p:cNvSpPr/>
          <p:nvPr/>
        </p:nvSpPr>
        <p:spPr>
          <a:xfrm>
            <a:off x="1454040" y="394812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AutoShape 5"/>
          <p:cNvSpPr/>
          <p:nvPr/>
        </p:nvSpPr>
        <p:spPr>
          <a:xfrm>
            <a:off x="6364440" y="3965400"/>
            <a:ext cx="639720" cy="600120"/>
          </a:xfrm>
          <a:custGeom>
            <a:avLst/>
            <a:gdLst>
              <a:gd name="textAreaLeft" fmla="*/ 145800 w 639720"/>
              <a:gd name="textAreaRight" fmla="*/ 493920 w 63972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6"/>
          <p:cNvSpPr/>
          <p:nvPr/>
        </p:nvSpPr>
        <p:spPr>
          <a:xfrm>
            <a:off x="3581280" y="2187720"/>
            <a:ext cx="1332000" cy="9856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7"/>
          <p:cNvSpPr/>
          <p:nvPr/>
        </p:nvSpPr>
        <p:spPr>
          <a:xfrm>
            <a:off x="3603600" y="2394000"/>
            <a:ext cx="137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8"/>
          <p:cNvSpPr/>
          <p:nvPr/>
        </p:nvSpPr>
        <p:spPr>
          <a:xfrm flipV="1">
            <a:off x="2206800" y="2948040"/>
            <a:ext cx="1442880" cy="24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9"/>
          <p:cNvSpPr/>
          <p:nvPr/>
        </p:nvSpPr>
        <p:spPr>
          <a:xfrm flipV="1">
            <a:off x="2206800" y="1191960"/>
            <a:ext cx="287280" cy="52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10"/>
          <p:cNvSpPr/>
          <p:nvPr/>
        </p:nvSpPr>
        <p:spPr>
          <a:xfrm>
            <a:off x="2206800" y="17096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11"/>
          <p:cNvSpPr/>
          <p:nvPr/>
        </p:nvSpPr>
        <p:spPr>
          <a:xfrm>
            <a:off x="2206800" y="21700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12"/>
          <p:cNvSpPr/>
          <p:nvPr/>
        </p:nvSpPr>
        <p:spPr>
          <a:xfrm flipV="1">
            <a:off x="2206800" y="2266920"/>
            <a:ext cx="28728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13"/>
          <p:cNvSpPr/>
          <p:nvPr/>
        </p:nvSpPr>
        <p:spPr>
          <a:xfrm>
            <a:off x="2206800" y="2736720"/>
            <a:ext cx="287280" cy="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14"/>
          <p:cNvSpPr/>
          <p:nvPr/>
        </p:nvSpPr>
        <p:spPr>
          <a:xfrm>
            <a:off x="2254320" y="3197160"/>
            <a:ext cx="23976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15"/>
          <p:cNvSpPr/>
          <p:nvPr/>
        </p:nvSpPr>
        <p:spPr>
          <a:xfrm flipV="1">
            <a:off x="2206800" y="3440160"/>
            <a:ext cx="28728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16"/>
          <p:cNvSpPr/>
          <p:nvPr/>
        </p:nvSpPr>
        <p:spPr>
          <a:xfrm flipV="1">
            <a:off x="2206800" y="3541320"/>
            <a:ext cx="387000" cy="577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17"/>
          <p:cNvSpPr/>
          <p:nvPr/>
        </p:nvSpPr>
        <p:spPr>
          <a:xfrm>
            <a:off x="3259080" y="1101600"/>
            <a:ext cx="81936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18"/>
          <p:cNvSpPr/>
          <p:nvPr/>
        </p:nvSpPr>
        <p:spPr>
          <a:xfrm>
            <a:off x="3259080" y="1612800"/>
            <a:ext cx="549360" cy="64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19"/>
          <p:cNvSpPr/>
          <p:nvPr/>
        </p:nvSpPr>
        <p:spPr>
          <a:xfrm>
            <a:off x="3259080" y="2176560"/>
            <a:ext cx="409680" cy="23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20"/>
          <p:cNvSpPr/>
          <p:nvPr/>
        </p:nvSpPr>
        <p:spPr>
          <a:xfrm>
            <a:off x="3259080" y="268272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21"/>
          <p:cNvSpPr/>
          <p:nvPr/>
        </p:nvSpPr>
        <p:spPr>
          <a:xfrm flipV="1">
            <a:off x="3259080" y="3102120"/>
            <a:ext cx="561960" cy="25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22"/>
          <p:cNvSpPr/>
          <p:nvPr/>
        </p:nvSpPr>
        <p:spPr>
          <a:xfrm>
            <a:off x="4660920" y="3095640"/>
            <a:ext cx="1690560" cy="12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Line 23"/>
          <p:cNvSpPr/>
          <p:nvPr/>
        </p:nvSpPr>
        <p:spPr>
          <a:xfrm flipV="1">
            <a:off x="4861080" y="1855800"/>
            <a:ext cx="149040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24"/>
          <p:cNvSpPr/>
          <p:nvPr/>
        </p:nvSpPr>
        <p:spPr>
          <a:xfrm flipV="1">
            <a:off x="4611600" y="1804680"/>
            <a:ext cx="839880" cy="42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25"/>
          <p:cNvSpPr/>
          <p:nvPr/>
        </p:nvSpPr>
        <p:spPr>
          <a:xfrm flipV="1">
            <a:off x="4911840" y="2623680"/>
            <a:ext cx="487080" cy="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26"/>
          <p:cNvSpPr/>
          <p:nvPr/>
        </p:nvSpPr>
        <p:spPr>
          <a:xfrm>
            <a:off x="4861080" y="2941560"/>
            <a:ext cx="68868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27"/>
          <p:cNvSpPr/>
          <p:nvPr/>
        </p:nvSpPr>
        <p:spPr>
          <a:xfrm flipV="1">
            <a:off x="5964120" y="1346040"/>
            <a:ext cx="33840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28"/>
          <p:cNvSpPr/>
          <p:nvPr/>
        </p:nvSpPr>
        <p:spPr>
          <a:xfrm>
            <a:off x="5964120" y="1766880"/>
            <a:ext cx="33840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29"/>
          <p:cNvSpPr/>
          <p:nvPr/>
        </p:nvSpPr>
        <p:spPr>
          <a:xfrm>
            <a:off x="5964120" y="2533680"/>
            <a:ext cx="387360" cy="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30"/>
          <p:cNvSpPr/>
          <p:nvPr/>
        </p:nvSpPr>
        <p:spPr>
          <a:xfrm flipV="1">
            <a:off x="5964120" y="2928960"/>
            <a:ext cx="43668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31"/>
          <p:cNvSpPr/>
          <p:nvPr/>
        </p:nvSpPr>
        <p:spPr>
          <a:xfrm flipV="1">
            <a:off x="6013440" y="3492360"/>
            <a:ext cx="338040" cy="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AutoShape 32"/>
          <p:cNvSpPr/>
          <p:nvPr/>
        </p:nvSpPr>
        <p:spPr>
          <a:xfrm>
            <a:off x="1454040" y="196848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AutoShape 33"/>
          <p:cNvSpPr/>
          <p:nvPr/>
        </p:nvSpPr>
        <p:spPr>
          <a:xfrm>
            <a:off x="1454040" y="2479680"/>
            <a:ext cx="738360" cy="3333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AutoShape 34"/>
          <p:cNvSpPr/>
          <p:nvPr/>
        </p:nvSpPr>
        <p:spPr>
          <a:xfrm>
            <a:off x="1454040" y="2933640"/>
            <a:ext cx="738360" cy="3366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AutoShape 35"/>
          <p:cNvSpPr/>
          <p:nvPr/>
        </p:nvSpPr>
        <p:spPr>
          <a:xfrm>
            <a:off x="1454040" y="3440160"/>
            <a:ext cx="738360" cy="3348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AutoShape 36"/>
          <p:cNvSpPr/>
          <p:nvPr/>
        </p:nvSpPr>
        <p:spPr>
          <a:xfrm>
            <a:off x="1454040" y="1519200"/>
            <a:ext cx="738360" cy="3333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AutoShape 37"/>
          <p:cNvSpPr/>
          <p:nvPr/>
        </p:nvSpPr>
        <p:spPr>
          <a:xfrm>
            <a:off x="2492280" y="327024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AutoShape 38"/>
          <p:cNvSpPr/>
          <p:nvPr/>
        </p:nvSpPr>
        <p:spPr>
          <a:xfrm>
            <a:off x="2492280" y="2479680"/>
            <a:ext cx="738360" cy="3333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AutoShape 39"/>
          <p:cNvSpPr/>
          <p:nvPr/>
        </p:nvSpPr>
        <p:spPr>
          <a:xfrm>
            <a:off x="2492280" y="1461960"/>
            <a:ext cx="738360" cy="3366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AutoShape 40"/>
          <p:cNvSpPr/>
          <p:nvPr/>
        </p:nvSpPr>
        <p:spPr>
          <a:xfrm>
            <a:off x="2492280" y="196848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AutoShape 41"/>
          <p:cNvSpPr/>
          <p:nvPr/>
        </p:nvSpPr>
        <p:spPr>
          <a:xfrm>
            <a:off x="2492280" y="83988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AutoShape 42"/>
          <p:cNvSpPr/>
          <p:nvPr/>
        </p:nvSpPr>
        <p:spPr>
          <a:xfrm>
            <a:off x="5324400" y="1365120"/>
            <a:ext cx="641520" cy="600120"/>
          </a:xfrm>
          <a:custGeom>
            <a:avLst/>
            <a:gdLst>
              <a:gd name="textAreaLeft" fmla="*/ 146520 w 641520"/>
              <a:gd name="textAreaRight" fmla="*/ 495000 w 64152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AutoShape 43"/>
          <p:cNvSpPr/>
          <p:nvPr/>
        </p:nvSpPr>
        <p:spPr>
          <a:xfrm>
            <a:off x="5324400" y="2266920"/>
            <a:ext cx="641520" cy="603360"/>
          </a:xfrm>
          <a:custGeom>
            <a:avLst/>
            <a:gdLst>
              <a:gd name="textAreaLeft" fmla="*/ 146520 w 641520"/>
              <a:gd name="textAreaRight" fmla="*/ 495000 w 641520"/>
              <a:gd name="textAreaTop" fmla="*/ 137520 h 603360"/>
              <a:gd name="textAreaBottom" fmla="*/ 465840 h 60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AutoShape 44"/>
          <p:cNvSpPr/>
          <p:nvPr/>
        </p:nvSpPr>
        <p:spPr>
          <a:xfrm>
            <a:off x="5400720" y="3110040"/>
            <a:ext cx="638280" cy="600120"/>
          </a:xfrm>
          <a:custGeom>
            <a:avLst/>
            <a:gdLst>
              <a:gd name="textAreaLeft" fmla="*/ 145440 w 638280"/>
              <a:gd name="textAreaRight" fmla="*/ 492840 w 63828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AutoShape 45"/>
          <p:cNvSpPr/>
          <p:nvPr/>
        </p:nvSpPr>
        <p:spPr>
          <a:xfrm>
            <a:off x="6364440" y="3110040"/>
            <a:ext cx="639720" cy="600120"/>
          </a:xfrm>
          <a:custGeom>
            <a:avLst/>
            <a:gdLst>
              <a:gd name="textAreaLeft" fmla="*/ 145800 w 639720"/>
              <a:gd name="textAreaRight" fmla="*/ 493920 w 63972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AutoShape 46"/>
          <p:cNvSpPr/>
          <p:nvPr/>
        </p:nvSpPr>
        <p:spPr>
          <a:xfrm>
            <a:off x="6292800" y="2382840"/>
            <a:ext cx="638280" cy="601560"/>
          </a:xfrm>
          <a:custGeom>
            <a:avLst/>
            <a:gdLst>
              <a:gd name="textAreaLeft" fmla="*/ 145440 w 638280"/>
              <a:gd name="textAreaRight" fmla="*/ 492840 w 638280"/>
              <a:gd name="textAreaTop" fmla="*/ 137160 h 601560"/>
              <a:gd name="textAreaBottom" fmla="*/ 464400 h 60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AutoShape 47"/>
          <p:cNvSpPr/>
          <p:nvPr/>
        </p:nvSpPr>
        <p:spPr>
          <a:xfrm>
            <a:off x="6353280" y="1638360"/>
            <a:ext cx="577800" cy="609480"/>
          </a:xfrm>
          <a:custGeom>
            <a:avLst/>
            <a:gdLst>
              <a:gd name="textAreaLeft" fmla="*/ 131760 w 577800"/>
              <a:gd name="textAreaRight" fmla="*/ 446040 w 5778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AutoShape 48"/>
          <p:cNvSpPr/>
          <p:nvPr/>
        </p:nvSpPr>
        <p:spPr>
          <a:xfrm>
            <a:off x="6216480" y="909720"/>
            <a:ext cx="641520" cy="603000"/>
          </a:xfrm>
          <a:custGeom>
            <a:avLst/>
            <a:gdLst>
              <a:gd name="textAreaLeft" fmla="*/ 146520 w 641520"/>
              <a:gd name="textAreaRight" fmla="*/ 495000 w 641520"/>
              <a:gd name="textAreaTop" fmla="*/ 137520 h 603000"/>
              <a:gd name="textAreaBottom" fmla="*/ 465480 h 60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49"/>
          <p:cNvSpPr/>
          <p:nvPr/>
        </p:nvSpPr>
        <p:spPr>
          <a:xfrm>
            <a:off x="2374920" y="844560"/>
            <a:ext cx="0" cy="35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50"/>
          <p:cNvSpPr/>
          <p:nvPr/>
        </p:nvSpPr>
        <p:spPr>
          <a:xfrm>
            <a:off x="3446640" y="844560"/>
            <a:ext cx="0" cy="35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51"/>
          <p:cNvSpPr/>
          <p:nvPr/>
        </p:nvSpPr>
        <p:spPr>
          <a:xfrm>
            <a:off x="5013360" y="909720"/>
            <a:ext cx="0" cy="352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Line 52"/>
          <p:cNvSpPr/>
          <p:nvPr/>
        </p:nvSpPr>
        <p:spPr>
          <a:xfrm>
            <a:off x="6084720" y="844560"/>
            <a:ext cx="0" cy="365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53"/>
          <p:cNvSpPr/>
          <p:nvPr/>
        </p:nvSpPr>
        <p:spPr>
          <a:xfrm>
            <a:off x="1250280" y="228600"/>
            <a:ext cx="233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54"/>
          <p:cNvSpPr/>
          <p:nvPr/>
        </p:nvSpPr>
        <p:spPr>
          <a:xfrm>
            <a:off x="5397840" y="228600"/>
            <a:ext cx="143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55"/>
          <p:cNvSpPr/>
          <p:nvPr/>
        </p:nvSpPr>
        <p:spPr>
          <a:xfrm>
            <a:off x="2540160" y="5029200"/>
            <a:ext cx="166356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56"/>
          <p:cNvSpPr/>
          <p:nvPr/>
        </p:nvSpPr>
        <p:spPr>
          <a:xfrm>
            <a:off x="2514600" y="4419720"/>
            <a:ext cx="270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e Compra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Supri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57"/>
          <p:cNvSpPr/>
          <p:nvPr/>
        </p:nvSpPr>
        <p:spPr>
          <a:xfrm>
            <a:off x="4788000" y="5029200"/>
            <a:ext cx="1549440" cy="144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58"/>
          <p:cNvSpPr/>
          <p:nvPr/>
        </p:nvSpPr>
        <p:spPr>
          <a:xfrm>
            <a:off x="4876920" y="4419720"/>
            <a:ext cx="2209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e Distribuição Fís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59"/>
          <p:cNvSpPr/>
          <p:nvPr/>
        </p:nvSpPr>
        <p:spPr>
          <a:xfrm>
            <a:off x="1905120" y="5486400"/>
            <a:ext cx="518148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60"/>
          <p:cNvSpPr/>
          <p:nvPr/>
        </p:nvSpPr>
        <p:spPr>
          <a:xfrm>
            <a:off x="2514600" y="5153040"/>
            <a:ext cx="464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pply Chain  Manangement -   Logí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61"/>
          <p:cNvSpPr/>
          <p:nvPr/>
        </p:nvSpPr>
        <p:spPr>
          <a:xfrm>
            <a:off x="2463840" y="5943600"/>
            <a:ext cx="391140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62"/>
          <p:cNvSpPr/>
          <p:nvPr/>
        </p:nvSpPr>
        <p:spPr>
          <a:xfrm>
            <a:off x="3521160" y="5645160"/>
            <a:ext cx="270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e Mate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63"/>
          <p:cNvSpPr/>
          <p:nvPr/>
        </p:nvSpPr>
        <p:spPr>
          <a:xfrm>
            <a:off x="1511280" y="6370560"/>
            <a:ext cx="581652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4"/>
          <p:cNvSpPr/>
          <p:nvPr/>
        </p:nvSpPr>
        <p:spPr>
          <a:xfrm>
            <a:off x="2895480" y="6067440"/>
            <a:ext cx="318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a Cadei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Espaço Reservado para Data 6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F1D-4BBB-4030-92E5-1BCE257B4A2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8F2E-49E5-4852-BAE9-24D82B4BFE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1092240" y="154080"/>
            <a:ext cx="1965240" cy="792000"/>
          </a:xfrm>
          <a:prstGeom prst="rect">
            <a:avLst/>
          </a:prstGeom>
          <a:ln w="0">
            <a:noFill/>
          </a:ln>
        </p:spPr>
      </p:pic>
      <p:sp>
        <p:nvSpPr>
          <p:cNvPr id="1367" name="Rectangle 5"/>
          <p:cNvSpPr/>
          <p:nvPr/>
        </p:nvSpPr>
        <p:spPr>
          <a:xfrm>
            <a:off x="3580560" y="1522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e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6"/>
          <p:cNvSpPr/>
          <p:nvPr/>
        </p:nvSpPr>
        <p:spPr>
          <a:xfrm>
            <a:off x="228600" y="1146240"/>
            <a:ext cx="8686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Porque integrar além das fronteiras da organização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umentar a lucratividade através da redução de estoq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limina estoques redunda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iminui os ciclos da cadeia e aumenta o gi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iminui o grau de incertez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ais agilidade, diminuição do tempo de resposta, melhor serviço ao cliente. Resposta eficiente ao cl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 diminuição dos riscos, conseguida através da coordenação e da comunicação efetivas, facilita o foco nas “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competências centrais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” (idéia de equip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51CA-12CE-4D99-8F18-9703D9FA7D3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4CBA-BA88-4E9F-9BDB-6E41B20B3B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aior aceitação do produto final. O planejamento global dos requisitos melhora a qualidade de produtos (bens e serviço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umento das vendas em razão da elevação do grau de fidelidade do cl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Facilitação da coordenação aumentando a responsabilidade mútu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dução da duração do ciclo, capacitando as empresas a oferecerem o produto certo, no local certo e no momento exat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passe da diminuição de custos x repasse de ineficiê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Picture 5" descr=""/>
          <p:cNvPicPr/>
          <p:nvPr/>
        </p:nvPicPr>
        <p:blipFill>
          <a:blip r:embed="rId1"/>
          <a:stretch/>
        </p:blipFill>
        <p:spPr>
          <a:xfrm>
            <a:off x="1092240" y="154080"/>
            <a:ext cx="1965240" cy="79200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6"/>
          <p:cNvSpPr/>
          <p:nvPr/>
        </p:nvSpPr>
        <p:spPr>
          <a:xfrm>
            <a:off x="3588480" y="1522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e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7"/>
          <p:cNvSpPr/>
          <p:nvPr/>
        </p:nvSpPr>
        <p:spPr>
          <a:xfrm>
            <a:off x="228600" y="1066680"/>
            <a:ext cx="87631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Porque integrar além das fronteiras da organização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7AD-F539-445C-831E-0141E264E0F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047B-CE46-448D-B5B0-1765138602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Group 4"/>
          <p:cNvGrpSpPr/>
          <p:nvPr/>
        </p:nvGrpSpPr>
        <p:grpSpPr>
          <a:xfrm>
            <a:off x="3805200" y="295200"/>
            <a:ext cx="4475160" cy="572400"/>
            <a:chOff x="3805200" y="295200"/>
            <a:chExt cx="4475160" cy="572400"/>
          </a:xfrm>
        </p:grpSpPr>
        <p:sp>
          <p:nvSpPr>
            <p:cNvPr id="1383" name="Rectangle 5"/>
            <p:cNvSpPr/>
            <p:nvPr/>
          </p:nvSpPr>
          <p:spPr>
            <a:xfrm>
              <a:off x="4200480" y="412920"/>
              <a:ext cx="4079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Otimizar o desempenho 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4" name="Object 6"/>
            <p:cNvGraphicFramePr/>
            <p:nvPr/>
          </p:nvGraphicFramePr>
          <p:xfrm>
            <a:off x="3805200" y="295200"/>
            <a:ext cx="25884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5200" y="295200"/>
                      <a:ext cx="258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6" name="Group 7"/>
          <p:cNvGrpSpPr/>
          <p:nvPr/>
        </p:nvGrpSpPr>
        <p:grpSpPr>
          <a:xfrm>
            <a:off x="3835440" y="828720"/>
            <a:ext cx="4539600" cy="572040"/>
            <a:chOff x="3835440" y="828720"/>
            <a:chExt cx="4539600" cy="572040"/>
          </a:xfrm>
        </p:grpSpPr>
        <p:sp>
          <p:nvSpPr>
            <p:cNvPr id="1387" name="Rectangle 8"/>
            <p:cNvSpPr/>
            <p:nvPr/>
          </p:nvSpPr>
          <p:spPr>
            <a:xfrm>
              <a:off x="4229640" y="946080"/>
              <a:ext cx="414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Melhorar a coordenação 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8" name="Object 9"/>
            <p:cNvGraphicFramePr/>
            <p:nvPr/>
          </p:nvGraphicFramePr>
          <p:xfrm>
            <a:off x="3835440" y="828720"/>
            <a:ext cx="25704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35440" y="828720"/>
                      <a:ext cx="257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0" name="Group 10"/>
          <p:cNvGrpSpPr/>
          <p:nvPr/>
        </p:nvGrpSpPr>
        <p:grpSpPr>
          <a:xfrm>
            <a:off x="3881520" y="1438200"/>
            <a:ext cx="4644720" cy="496080"/>
            <a:chOff x="3881520" y="1438200"/>
            <a:chExt cx="4644720" cy="496080"/>
          </a:xfrm>
        </p:grpSpPr>
        <p:sp>
          <p:nvSpPr>
            <p:cNvPr id="1391" name="Rectangle 11"/>
            <p:cNvSpPr/>
            <p:nvPr/>
          </p:nvSpPr>
          <p:spPr>
            <a:xfrm>
              <a:off x="4213080" y="1479600"/>
              <a:ext cx="4313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Facilitar ações integradoras</a:t>
              </a:r>
              <a:r>
                <a:rPr b="0" lang="pt-BR" sz="2400" spc="-1" strike="noStrike">
                  <a:solidFill>
                    <a:srgbClr val="3333cc"/>
                  </a:solidFill>
                  <a:latin typeface="Lucida Handwriting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2" name="Object 12"/>
            <p:cNvGraphicFramePr/>
            <p:nvPr/>
          </p:nvGraphicFramePr>
          <p:xfrm>
            <a:off x="3881520" y="1438200"/>
            <a:ext cx="258840" cy="3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3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1520" y="1438200"/>
                      <a:ext cx="258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4" name="Rectangle 13"/>
          <p:cNvSpPr/>
          <p:nvPr/>
        </p:nvSpPr>
        <p:spPr>
          <a:xfrm>
            <a:off x="228600" y="2133720"/>
            <a:ext cx="47242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s de coordena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namismo d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financei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so d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has nos métodos 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ou cancelamen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de ped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Group 14"/>
          <p:cNvGrpSpPr/>
          <p:nvPr/>
        </p:nvGrpSpPr>
        <p:grpSpPr>
          <a:xfrm>
            <a:off x="4343760" y="2362320"/>
            <a:ext cx="4571640" cy="2968560"/>
            <a:chOff x="4343760" y="2362320"/>
            <a:chExt cx="4571640" cy="2968560"/>
          </a:xfrm>
        </p:grpSpPr>
        <p:sp>
          <p:nvSpPr>
            <p:cNvPr id="1396" name="Rectangle 15"/>
            <p:cNvSpPr/>
            <p:nvPr/>
          </p:nvSpPr>
          <p:spPr>
            <a:xfrm>
              <a:off x="6924960" y="3941640"/>
              <a:ext cx="107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Arial"/>
                </a:rPr>
                <a:t>Orig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16"/>
            <p:cNvSpPr/>
            <p:nvPr/>
          </p:nvSpPr>
          <p:spPr>
            <a:xfrm>
              <a:off x="4349880" y="4473720"/>
              <a:ext cx="1993680" cy="85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17"/>
            <p:cNvSpPr/>
            <p:nvPr/>
          </p:nvSpPr>
          <p:spPr>
            <a:xfrm>
              <a:off x="4349880" y="2482920"/>
              <a:ext cx="1465200" cy="79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18"/>
            <p:cNvSpPr/>
            <p:nvPr/>
          </p:nvSpPr>
          <p:spPr>
            <a:xfrm>
              <a:off x="7353360" y="4464000"/>
              <a:ext cx="1463760" cy="7970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19"/>
            <p:cNvSpPr/>
            <p:nvPr/>
          </p:nvSpPr>
          <p:spPr>
            <a:xfrm>
              <a:off x="6961320" y="2365200"/>
              <a:ext cx="1954080" cy="1382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Rectangle 20"/>
            <p:cNvSpPr/>
            <p:nvPr/>
          </p:nvSpPr>
          <p:spPr>
            <a:xfrm>
              <a:off x="7192800" y="273060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integrado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21"/>
            <p:cNvSpPr/>
            <p:nvPr/>
          </p:nvSpPr>
          <p:spPr>
            <a:xfrm>
              <a:off x="4343760" y="2730600"/>
              <a:ext cx="147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oorden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22"/>
            <p:cNvSpPr/>
            <p:nvPr/>
          </p:nvSpPr>
          <p:spPr>
            <a:xfrm>
              <a:off x="7402320" y="4572000"/>
              <a:ext cx="136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 deci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Rectangle 23"/>
            <p:cNvSpPr/>
            <p:nvPr/>
          </p:nvSpPr>
          <p:spPr>
            <a:xfrm>
              <a:off x="4344840" y="4687920"/>
              <a:ext cx="182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 flipV="1">
              <a:off x="5180040" y="3281400"/>
              <a:ext cx="0" cy="11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>
              <a:off x="6218280" y="478296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 flipV="1">
              <a:off x="5751360" y="3459240"/>
              <a:ext cx="139248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Line 27"/>
            <p:cNvSpPr/>
            <p:nvPr/>
          </p:nvSpPr>
          <p:spPr>
            <a:xfrm>
              <a:off x="5829480" y="288288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28"/>
            <p:cNvSpPr/>
            <p:nvPr/>
          </p:nvSpPr>
          <p:spPr>
            <a:xfrm flipV="1">
              <a:off x="8035920" y="3747600"/>
              <a:ext cx="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29"/>
            <p:cNvSpPr/>
            <p:nvPr/>
          </p:nvSpPr>
          <p:spPr>
            <a:xfrm>
              <a:off x="5824440" y="2362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Arial"/>
                </a:rPr>
                <a:t>Facil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Group 30"/>
          <p:cNvGrpSpPr/>
          <p:nvPr/>
        </p:nvGrpSpPr>
        <p:grpSpPr>
          <a:xfrm>
            <a:off x="523080" y="154080"/>
            <a:ext cx="2824200" cy="1663200"/>
            <a:chOff x="523080" y="154080"/>
            <a:chExt cx="2824200" cy="1663200"/>
          </a:xfrm>
        </p:grpSpPr>
        <p:pic>
          <p:nvPicPr>
            <p:cNvPr id="1412" name="Picture 31" descr=""/>
            <p:cNvPicPr/>
            <p:nvPr/>
          </p:nvPicPr>
          <p:blipFill>
            <a:blip r:embed="rId7"/>
            <a:stretch/>
          </p:blipFill>
          <p:spPr>
            <a:xfrm>
              <a:off x="1092240" y="154080"/>
              <a:ext cx="1965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Rectangle 32"/>
            <p:cNvSpPr/>
            <p:nvPr/>
          </p:nvSpPr>
          <p:spPr>
            <a:xfrm>
              <a:off x="523080" y="996840"/>
              <a:ext cx="2824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d60093"/>
                  </a:solidFill>
                  <a:latin typeface="Arial"/>
                </a:rPr>
                <a:t>Gestão de Cade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d60093"/>
                  </a:solidFill>
                  <a:latin typeface="Arial"/>
                </a:rPr>
                <a:t>de Supri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Espaço Reservado para Data 3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E1D-6615-4EAE-83A3-219FFAA2507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527-5D89-419C-9AFC-849BC9FB13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3" descr=""/>
          <p:cNvPicPr/>
          <p:nvPr/>
        </p:nvPicPr>
        <p:blipFill>
          <a:blip r:embed="rId1"/>
          <a:stretch/>
        </p:blipFill>
        <p:spPr>
          <a:xfrm>
            <a:off x="738360" y="230040"/>
            <a:ext cx="3528720" cy="1032120"/>
          </a:xfrm>
          <a:prstGeom prst="rect">
            <a:avLst/>
          </a:prstGeom>
          <a:ln w="0">
            <a:noFill/>
          </a:ln>
        </p:spPr>
      </p:pic>
      <p:sp>
        <p:nvSpPr>
          <p:cNvPr id="1418" name="Rectangle 4"/>
          <p:cNvSpPr/>
          <p:nvPr/>
        </p:nvSpPr>
        <p:spPr>
          <a:xfrm>
            <a:off x="4884120" y="3808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a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5"/>
          <p:cNvSpPr/>
          <p:nvPr/>
        </p:nvSpPr>
        <p:spPr>
          <a:xfrm>
            <a:off x="768240" y="1539720"/>
            <a:ext cx="7994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l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parte da re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 operação produtiva deveria possuir (nível de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integração vertic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?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.: segurança de u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hopp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Object 6"/>
          <p:cNvGraphicFramePr/>
          <p:nvPr/>
        </p:nvGraphicFramePr>
        <p:xfrm>
          <a:off x="339840" y="1347840"/>
          <a:ext cx="48240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1347840"/>
                    <a:ext cx="4824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Rectangle 7"/>
          <p:cNvSpPr/>
          <p:nvPr/>
        </p:nvSpPr>
        <p:spPr>
          <a:xfrm>
            <a:off x="736560" y="2901960"/>
            <a:ext cx="7764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nde deve ser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localizad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ada operação da parte da rede pertencente à empresa?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Ex.: localização de u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hopp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Object 8"/>
          <p:cNvGraphicFramePr/>
          <p:nvPr/>
        </p:nvGraphicFramePr>
        <p:xfrm>
          <a:off x="304920" y="2717640"/>
          <a:ext cx="461880" cy="6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4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717640"/>
                    <a:ext cx="4618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Rectangle 9"/>
          <p:cNvSpPr/>
          <p:nvPr/>
        </p:nvSpPr>
        <p:spPr>
          <a:xfrm>
            <a:off x="736560" y="4282920"/>
            <a:ext cx="776448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capacidade de produ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ve ter cada operação da parte da rede pertencente à empresa ao longo do tempo?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capacidade de operação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tamanho da fábrica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capacidade de expans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6" name="Object 10"/>
          <p:cNvGraphicFramePr/>
          <p:nvPr/>
        </p:nvGraphicFramePr>
        <p:xfrm>
          <a:off x="304920" y="4114800"/>
          <a:ext cx="461880" cy="633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4114800"/>
                    <a:ext cx="461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Espaço Reservado para Data 1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648-2E47-47C5-B66A-2EB73E21FEF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1:08:01Z</dcterms:created>
  <dc:creator>Luciel H de Olivieira</dc:creator>
  <dc:description>luciel@uol.com.br</dc:description>
  <dc:language>en-US</dc:language>
  <cp:lastModifiedBy>LUCIEL</cp:lastModifiedBy>
  <dcterms:modified xsi:type="dcterms:W3CDTF">2012-08-10T21:56:58Z</dcterms:modified>
  <cp:revision>133</cp:revision>
  <dc:subject/>
  <dc:title>Módulo 1</dc:title>
</cp:coreProperties>
</file>